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D2FD-12CC-45E1-A40C-C1CC6E94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F7D7-5913-4F18-8BC1-F236E736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E09A-7E42-4FE4-B199-AB85A79D8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CA32-F13F-4EE6-8299-1D20750BD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AD54-3D87-4AD2-9227-A4715B34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E249-8253-47EE-863C-BBD32579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D7DD-87EB-4B27-BD43-7820FFEA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85CB-71F8-4EED-929E-F2B69390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0A14-5A20-4AFB-85CC-080EC53B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EBC1-FE59-4FBF-86DB-0CD512C6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DBA5-8259-4284-A176-BEE8D69E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B698-CD1D-421B-92AB-6420DB84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062F-DCEB-43B4-A1C4-C333D3CC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C5BF-7382-449E-9608-8E5856AE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F4BD-DE44-4631-9D62-93927AC7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3C5F-068C-4475-B228-24F14050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00FD-3ADC-4665-BCE3-854F8CBC5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AB3A-19AE-42C7-838B-EA77A8CF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6D2F-776C-40E7-8D53-8541A139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C0DD-613A-4AC7-B987-CAFD9BB5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0AAA-9522-43E1-9F6B-648C2B6B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9245-4A76-4B55-BB1A-70CEF873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3E2B-9986-415B-B023-31CA0371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DC6C-3415-47FC-A936-9052CE81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52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5f8656"/>
                </a:gs>
                <a:gs pos="100000">
                  <a:srgbClr val="597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5f8656"/>
                </a:gs>
                <a:gs pos="100000">
                  <a:srgbClr val="597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8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FE89-C8FB-49C0-9C01-DDF07C6E44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d6d8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6f99b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52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5f8656"/>
                </a:gs>
                <a:gs pos="100000">
                  <a:srgbClr val="597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5f8656"/>
                </a:gs>
                <a:gs pos="100000">
                  <a:srgbClr val="597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8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d6d8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6f99b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B6D7-2BA0-4742-9343-A76CBFC5B1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d6d8c0"/>
                </a:solidFill>
                <a:latin typeface="Arial"/>
              </a:rPr>
              <a:t>Thursday, November 19th</a:t>
            </a:r>
            <a:endParaRPr b="0" lang="en-US" sz="49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erify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1 – co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x = -cs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Ink 4"/>
          <p:cNvSpPr/>
          <p:nvPr/>
        </p:nvSpPr>
        <p:spPr>
          <a:xfrm>
            <a:off x="5322960" y="2776680"/>
            <a:ext cx="820800" cy="393480"/>
          </a:xfrm>
          <a:custGeom>
            <a:avLst/>
            <a:gdLst/>
            <a:ahLst/>
            <a:rect l="l" t="t" r="r" b="b"/>
            <a:pathLst>
              <a:path w="2283" h="1093">
                <a:moveTo>
                  <a:pt x="14784" y="8806"/>
                </a:moveTo>
                <a:cubicBezTo>
                  <a:pt x="14855" y="8762"/>
                  <a:pt x="14947" y="8772"/>
                  <a:pt x="15032" y="8756"/>
                </a:cubicBezTo>
                <a:cubicBezTo>
                  <a:pt x="15331" y="8699"/>
                  <a:pt x="15625" y="8654"/>
                  <a:pt x="15925" y="8607"/>
                </a:cubicBezTo>
                <a:cubicBezTo>
                  <a:pt x="16078" y="8583"/>
                  <a:pt x="16221" y="8573"/>
                  <a:pt x="16371" y="8533"/>
                </a:cubicBezTo>
                <a:cubicBezTo>
                  <a:pt x="16438" y="8515"/>
                  <a:pt x="16543" y="8499"/>
                  <a:pt x="16594" y="8458"/>
                </a:cubicBezTo>
                <a:cubicBezTo>
                  <a:pt x="16619" y="8434"/>
                  <a:pt x="16628" y="8426"/>
                  <a:pt x="16644" y="8409"/>
                </a:cubicBezTo>
              </a:path>
              <a:path w="2283" h="1093">
                <a:moveTo>
                  <a:pt x="15255" y="8062"/>
                </a:moveTo>
                <a:cubicBezTo>
                  <a:pt x="15335" y="8014"/>
                  <a:pt x="15401" y="7989"/>
                  <a:pt x="15503" y="7962"/>
                </a:cubicBezTo>
                <a:cubicBezTo>
                  <a:pt x="15673" y="7917"/>
                  <a:pt x="15851" y="7892"/>
                  <a:pt x="16024" y="7863"/>
                </a:cubicBezTo>
                <a:cubicBezTo>
                  <a:pt x="16256" y="7824"/>
                  <a:pt x="16488" y="7788"/>
                  <a:pt x="16718" y="7739"/>
                </a:cubicBezTo>
                <a:cubicBezTo>
                  <a:pt x="16829" y="7715"/>
                  <a:pt x="16928" y="7714"/>
                  <a:pt x="17041" y="7714"/>
                </a:cubicBezTo>
                <a:cubicBezTo>
                  <a:pt x="17049" y="7714"/>
                  <a:pt x="17058" y="7714"/>
                  <a:pt x="17066" y="77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Ink 5"/>
          <p:cNvSpPr/>
          <p:nvPr/>
        </p:nvSpPr>
        <p:spPr>
          <a:xfrm>
            <a:off x="2527200" y="2946240"/>
            <a:ext cx="277920" cy="189000"/>
          </a:xfrm>
          <a:custGeom>
            <a:avLst/>
            <a:gdLst/>
            <a:ahLst/>
            <a:rect l="l" t="t" r="r" b="b"/>
            <a:pathLst>
              <a:path w="770" h="521">
                <a:moveTo>
                  <a:pt x="7144" y="8235"/>
                </a:moveTo>
                <a:cubicBezTo>
                  <a:pt x="7167" y="8333"/>
                  <a:pt x="7213" y="8434"/>
                  <a:pt x="7218" y="8533"/>
                </a:cubicBezTo>
                <a:cubicBezTo>
                  <a:pt x="7218" y="8574"/>
                  <a:pt x="7218" y="8582"/>
                  <a:pt x="7218" y="8607"/>
                </a:cubicBezTo>
              </a:path>
              <a:path w="770" h="521">
                <a:moveTo>
                  <a:pt x="7020" y="8483"/>
                </a:moveTo>
                <a:cubicBezTo>
                  <a:pt x="7151" y="8483"/>
                  <a:pt x="7266" y="8475"/>
                  <a:pt x="7392" y="8458"/>
                </a:cubicBezTo>
                <a:cubicBezTo>
                  <a:pt x="7408" y="8458"/>
                  <a:pt x="7425" y="8458"/>
                  <a:pt x="7441" y="8458"/>
                </a:cubicBezTo>
              </a:path>
              <a:path w="770" h="521">
                <a:moveTo>
                  <a:pt x="7714" y="8186"/>
                </a:moveTo>
                <a:cubicBezTo>
                  <a:pt x="7714" y="8317"/>
                  <a:pt x="7721" y="8432"/>
                  <a:pt x="7739" y="8558"/>
                </a:cubicBezTo>
                <a:cubicBezTo>
                  <a:pt x="7747" y="8616"/>
                  <a:pt x="7777" y="8647"/>
                  <a:pt x="7789" y="87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Ink 6"/>
          <p:cNvSpPr/>
          <p:nvPr/>
        </p:nvSpPr>
        <p:spPr>
          <a:xfrm>
            <a:off x="3178080" y="2955960"/>
            <a:ext cx="965160" cy="169920"/>
          </a:xfrm>
          <a:custGeom>
            <a:avLst/>
            <a:gdLst/>
            <a:ahLst/>
            <a:rect l="l" t="t" r="r" b="b"/>
            <a:pathLst>
              <a:path w="2680" h="473">
                <a:moveTo>
                  <a:pt x="8880" y="8260"/>
                </a:moveTo>
                <a:cubicBezTo>
                  <a:pt x="8880" y="8381"/>
                  <a:pt x="8872" y="8438"/>
                  <a:pt x="8930" y="8533"/>
                </a:cubicBezTo>
                <a:cubicBezTo>
                  <a:pt x="8938" y="8549"/>
                  <a:pt x="8946" y="8566"/>
                  <a:pt x="8954" y="8582"/>
                </a:cubicBezTo>
              </a:path>
              <a:path w="2680" h="473">
                <a:moveTo>
                  <a:pt x="8830" y="8384"/>
                </a:moveTo>
                <a:cubicBezTo>
                  <a:pt x="8947" y="8384"/>
                  <a:pt x="8982" y="8386"/>
                  <a:pt x="9054" y="8359"/>
                </a:cubicBezTo>
              </a:path>
              <a:path w="2680" h="473">
                <a:moveTo>
                  <a:pt x="9624" y="8285"/>
                </a:moveTo>
                <a:cubicBezTo>
                  <a:pt x="9663" y="8323"/>
                  <a:pt x="9680" y="8355"/>
                  <a:pt x="9674" y="8310"/>
                </a:cubicBezTo>
              </a:path>
              <a:path w="2680" h="473">
                <a:moveTo>
                  <a:pt x="9500" y="8260"/>
                </a:moveTo>
                <a:cubicBezTo>
                  <a:pt x="9464" y="8302"/>
                  <a:pt x="9391" y="8380"/>
                  <a:pt x="9376" y="8434"/>
                </a:cubicBezTo>
                <a:cubicBezTo>
                  <a:pt x="9356" y="8509"/>
                  <a:pt x="9422" y="8551"/>
                  <a:pt x="9475" y="8582"/>
                </a:cubicBezTo>
                <a:cubicBezTo>
                  <a:pt x="9561" y="8634"/>
                  <a:pt x="9656" y="8601"/>
                  <a:pt x="9748" y="8582"/>
                </a:cubicBezTo>
              </a:path>
              <a:path w="2680" h="473">
                <a:moveTo>
                  <a:pt x="9947" y="8310"/>
                </a:moveTo>
                <a:cubicBezTo>
                  <a:pt x="9925" y="8385"/>
                  <a:pt x="9876" y="8461"/>
                  <a:pt x="9872" y="8533"/>
                </a:cubicBezTo>
                <a:cubicBezTo>
                  <a:pt x="9867" y="8619"/>
                  <a:pt x="9948" y="8633"/>
                  <a:pt x="10021" y="8607"/>
                </a:cubicBezTo>
                <a:cubicBezTo>
                  <a:pt x="10107" y="8576"/>
                  <a:pt x="10091" y="8521"/>
                  <a:pt x="10120" y="8458"/>
                </a:cubicBezTo>
                <a:cubicBezTo>
                  <a:pt x="10158" y="8376"/>
                  <a:pt x="10104" y="8342"/>
                  <a:pt x="10021" y="8334"/>
                </a:cubicBezTo>
                <a:cubicBezTo>
                  <a:pt x="10004" y="8334"/>
                  <a:pt x="9988" y="8334"/>
                  <a:pt x="9971" y="8334"/>
                </a:cubicBezTo>
              </a:path>
              <a:path w="2680" h="473">
                <a:moveTo>
                  <a:pt x="10368" y="8260"/>
                </a:moveTo>
                <a:cubicBezTo>
                  <a:pt x="10385" y="8362"/>
                  <a:pt x="10390" y="8506"/>
                  <a:pt x="10418" y="8607"/>
                </a:cubicBezTo>
                <a:cubicBezTo>
                  <a:pt x="10438" y="8648"/>
                  <a:pt x="10447" y="8654"/>
                  <a:pt x="10443" y="8682"/>
                </a:cubicBezTo>
              </a:path>
              <a:path w="2680" h="473">
                <a:moveTo>
                  <a:pt x="10220" y="8434"/>
                </a:moveTo>
                <a:cubicBezTo>
                  <a:pt x="10297" y="8425"/>
                  <a:pt x="10373" y="8416"/>
                  <a:pt x="10443" y="8384"/>
                </a:cubicBezTo>
                <a:cubicBezTo>
                  <a:pt x="10459" y="8376"/>
                  <a:pt x="10476" y="8367"/>
                  <a:pt x="10492" y="8359"/>
                </a:cubicBezTo>
              </a:path>
              <a:path w="2680" h="473">
                <a:moveTo>
                  <a:pt x="10691" y="8235"/>
                </a:moveTo>
                <a:cubicBezTo>
                  <a:pt x="10720" y="8221"/>
                  <a:pt x="10799" y="8219"/>
                  <a:pt x="10840" y="8260"/>
                </a:cubicBezTo>
                <a:cubicBezTo>
                  <a:pt x="10894" y="8314"/>
                  <a:pt x="10829" y="8392"/>
                  <a:pt x="10790" y="8434"/>
                </a:cubicBezTo>
                <a:cubicBezTo>
                  <a:pt x="10765" y="8458"/>
                  <a:pt x="10756" y="8466"/>
                  <a:pt x="10740" y="8483"/>
                </a:cubicBezTo>
                <a:cubicBezTo>
                  <a:pt x="10795" y="8538"/>
                  <a:pt x="10853" y="8555"/>
                  <a:pt x="10939" y="8533"/>
                </a:cubicBezTo>
                <a:cubicBezTo>
                  <a:pt x="10980" y="8516"/>
                  <a:pt x="11022" y="8500"/>
                  <a:pt x="11063" y="8483"/>
                </a:cubicBezTo>
              </a:path>
              <a:path w="2680" h="473">
                <a:moveTo>
                  <a:pt x="11212" y="8285"/>
                </a:moveTo>
                <a:cubicBezTo>
                  <a:pt x="11284" y="8482"/>
                  <a:pt x="11245" y="8423"/>
                  <a:pt x="11385" y="8508"/>
                </a:cubicBezTo>
                <a:cubicBezTo>
                  <a:pt x="11435" y="8538"/>
                  <a:pt x="11448" y="8550"/>
                  <a:pt x="11509" y="8558"/>
                </a:cubicBezTo>
              </a:path>
              <a:path w="2680" h="473">
                <a:moveTo>
                  <a:pt x="11485" y="8285"/>
                </a:moveTo>
                <a:cubicBezTo>
                  <a:pt x="11414" y="8346"/>
                  <a:pt x="11267" y="8407"/>
                  <a:pt x="11212" y="8483"/>
                </a:cubicBezTo>
                <a:cubicBezTo>
                  <a:pt x="11187" y="8533"/>
                  <a:pt x="11179" y="8550"/>
                  <a:pt x="11137" y="85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Ink 7"/>
          <p:cNvSpPr/>
          <p:nvPr/>
        </p:nvSpPr>
        <p:spPr>
          <a:xfrm>
            <a:off x="5197320" y="2973240"/>
            <a:ext cx="1106640" cy="214560"/>
          </a:xfrm>
          <a:custGeom>
            <a:avLst/>
            <a:gdLst/>
            <a:ahLst/>
            <a:rect l="l" t="t" r="r" b="b"/>
            <a:pathLst>
              <a:path w="3077" h="596">
                <a:moveTo>
                  <a:pt x="14511" y="8260"/>
                </a:moveTo>
                <a:cubicBezTo>
                  <a:pt x="14547" y="8332"/>
                  <a:pt x="14535" y="8423"/>
                  <a:pt x="14560" y="8508"/>
                </a:cubicBezTo>
                <a:cubicBezTo>
                  <a:pt x="14583" y="8575"/>
                  <a:pt x="14588" y="8593"/>
                  <a:pt x="14610" y="8632"/>
                </a:cubicBezTo>
              </a:path>
              <a:path w="3077" h="596">
                <a:moveTo>
                  <a:pt x="14436" y="8384"/>
                </a:moveTo>
                <a:cubicBezTo>
                  <a:pt x="14510" y="8443"/>
                  <a:pt x="14566" y="8434"/>
                  <a:pt x="14660" y="8434"/>
                </a:cubicBezTo>
                <a:cubicBezTo>
                  <a:pt x="14693" y="8434"/>
                  <a:pt x="14726" y="8434"/>
                  <a:pt x="14759" y="8434"/>
                </a:cubicBezTo>
              </a:path>
              <a:path w="3077" h="596">
                <a:moveTo>
                  <a:pt x="15429" y="8458"/>
                </a:moveTo>
                <a:cubicBezTo>
                  <a:pt x="15400" y="8430"/>
                  <a:pt x="15390" y="8418"/>
                  <a:pt x="15354" y="8409"/>
                </a:cubicBezTo>
              </a:path>
              <a:path w="3077" h="596">
                <a:moveTo>
                  <a:pt x="15304" y="8384"/>
                </a:moveTo>
                <a:cubicBezTo>
                  <a:pt x="15190" y="8441"/>
                  <a:pt x="15161" y="8449"/>
                  <a:pt x="15106" y="8558"/>
                </a:cubicBezTo>
                <a:cubicBezTo>
                  <a:pt x="15051" y="8666"/>
                  <a:pt x="15082" y="8706"/>
                  <a:pt x="15156" y="8781"/>
                </a:cubicBezTo>
                <a:cubicBezTo>
                  <a:pt x="15203" y="8828"/>
                  <a:pt x="15267" y="8806"/>
                  <a:pt x="15329" y="8806"/>
                </a:cubicBezTo>
              </a:path>
              <a:path w="3077" h="596">
                <a:moveTo>
                  <a:pt x="15776" y="8483"/>
                </a:moveTo>
                <a:cubicBezTo>
                  <a:pt x="15724" y="8522"/>
                  <a:pt x="15607" y="8544"/>
                  <a:pt x="15627" y="8632"/>
                </a:cubicBezTo>
                <a:cubicBezTo>
                  <a:pt x="15638" y="8679"/>
                  <a:pt x="15696" y="8746"/>
                  <a:pt x="15677" y="8806"/>
                </a:cubicBezTo>
                <a:cubicBezTo>
                  <a:pt x="15639" y="8928"/>
                  <a:pt x="15483" y="8777"/>
                  <a:pt x="15453" y="8756"/>
                </a:cubicBezTo>
              </a:path>
              <a:path w="3077" h="596">
                <a:moveTo>
                  <a:pt x="16173" y="8508"/>
                </a:moveTo>
                <a:cubicBezTo>
                  <a:pt x="16194" y="8552"/>
                  <a:pt x="16207" y="8563"/>
                  <a:pt x="16173" y="8582"/>
                </a:cubicBezTo>
                <a:cubicBezTo>
                  <a:pt x="16092" y="8522"/>
                  <a:pt x="16044" y="8520"/>
                  <a:pt x="15949" y="8582"/>
                </a:cubicBezTo>
                <a:cubicBezTo>
                  <a:pt x="15920" y="8601"/>
                  <a:pt x="15848" y="8722"/>
                  <a:pt x="15850" y="8756"/>
                </a:cubicBezTo>
                <a:cubicBezTo>
                  <a:pt x="15854" y="8823"/>
                  <a:pt x="15950" y="8853"/>
                  <a:pt x="15999" y="8855"/>
                </a:cubicBezTo>
                <a:cubicBezTo>
                  <a:pt x="16085" y="8855"/>
                  <a:pt x="16121" y="8850"/>
                  <a:pt x="16173" y="8806"/>
                </a:cubicBezTo>
              </a:path>
              <a:path w="3077" h="596">
                <a:moveTo>
                  <a:pt x="16396" y="8310"/>
                </a:moveTo>
                <a:cubicBezTo>
                  <a:pt x="16506" y="8268"/>
                  <a:pt x="16514" y="8292"/>
                  <a:pt x="16520" y="8409"/>
                </a:cubicBezTo>
                <a:cubicBezTo>
                  <a:pt x="16523" y="8470"/>
                  <a:pt x="16459" y="8535"/>
                  <a:pt x="16520" y="8582"/>
                </a:cubicBezTo>
                <a:cubicBezTo>
                  <a:pt x="16571" y="8621"/>
                  <a:pt x="16612" y="8589"/>
                  <a:pt x="16669" y="8582"/>
                </a:cubicBezTo>
              </a:path>
              <a:path w="3077" h="596">
                <a:moveTo>
                  <a:pt x="17066" y="8409"/>
                </a:moveTo>
                <a:cubicBezTo>
                  <a:pt x="17162" y="8564"/>
                  <a:pt x="17222" y="8710"/>
                  <a:pt x="17388" y="8781"/>
                </a:cubicBezTo>
                <a:cubicBezTo>
                  <a:pt x="17455" y="8804"/>
                  <a:pt x="17473" y="8809"/>
                  <a:pt x="17512" y="8830"/>
                </a:cubicBezTo>
              </a:path>
              <a:path w="3077" h="596">
                <a:moveTo>
                  <a:pt x="17363" y="8508"/>
                </a:moveTo>
                <a:cubicBezTo>
                  <a:pt x="17197" y="8619"/>
                  <a:pt x="17044" y="8743"/>
                  <a:pt x="16867" y="88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Ink 8"/>
          <p:cNvSpPr/>
          <p:nvPr/>
        </p:nvSpPr>
        <p:spPr>
          <a:xfrm>
            <a:off x="6562800" y="2963880"/>
            <a:ext cx="144360" cy="162000"/>
          </a:xfrm>
          <a:custGeom>
            <a:avLst/>
            <a:gdLst/>
            <a:ahLst/>
            <a:rect l="l" t="t" r="r" b="b"/>
            <a:pathLst>
              <a:path w="398" h="448">
                <a:moveTo>
                  <a:pt x="18479" y="8235"/>
                </a:moveTo>
                <a:cubicBezTo>
                  <a:pt x="18479" y="8358"/>
                  <a:pt x="18486" y="8467"/>
                  <a:pt x="18504" y="8582"/>
                </a:cubicBezTo>
                <a:cubicBezTo>
                  <a:pt x="18504" y="8634"/>
                  <a:pt x="18503" y="8652"/>
                  <a:pt x="18479" y="8682"/>
                </a:cubicBezTo>
              </a:path>
              <a:path w="398" h="448">
                <a:moveTo>
                  <a:pt x="18231" y="8533"/>
                </a:moveTo>
                <a:cubicBezTo>
                  <a:pt x="18339" y="8560"/>
                  <a:pt x="18446" y="8560"/>
                  <a:pt x="18554" y="8582"/>
                </a:cubicBezTo>
                <a:cubicBezTo>
                  <a:pt x="18579" y="8590"/>
                  <a:pt x="18603" y="8599"/>
                  <a:pt x="18628" y="86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Ink 9"/>
          <p:cNvSpPr/>
          <p:nvPr/>
        </p:nvSpPr>
        <p:spPr>
          <a:xfrm>
            <a:off x="6939000" y="2982960"/>
            <a:ext cx="27000" cy="214200"/>
          </a:xfrm>
          <a:custGeom>
            <a:avLst/>
            <a:gdLst/>
            <a:ahLst/>
            <a:rect l="l" t="t" r="r" b="b"/>
            <a:pathLst>
              <a:path w="76" h="596">
                <a:moveTo>
                  <a:pt x="19273" y="8285"/>
                </a:moveTo>
                <a:cubicBezTo>
                  <a:pt x="19307" y="8375"/>
                  <a:pt x="19298" y="8459"/>
                  <a:pt x="19298" y="8558"/>
                </a:cubicBezTo>
                <a:cubicBezTo>
                  <a:pt x="19298" y="8645"/>
                  <a:pt x="19269" y="8787"/>
                  <a:pt x="19323" y="8855"/>
                </a:cubicBezTo>
                <a:cubicBezTo>
                  <a:pt x="19331" y="8863"/>
                  <a:pt x="19340" y="8872"/>
                  <a:pt x="19348" y="88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Ink 10"/>
          <p:cNvSpPr/>
          <p:nvPr/>
        </p:nvSpPr>
        <p:spPr>
          <a:xfrm>
            <a:off x="7161120" y="2938320"/>
            <a:ext cx="920880" cy="268560"/>
          </a:xfrm>
          <a:custGeom>
            <a:avLst/>
            <a:gdLst/>
            <a:ahLst/>
            <a:rect l="l" t="t" r="r" b="b"/>
            <a:pathLst>
              <a:path w="2556" h="745">
                <a:moveTo>
                  <a:pt x="19993" y="8409"/>
                </a:moveTo>
                <a:cubicBezTo>
                  <a:pt x="19993" y="8523"/>
                  <a:pt x="19976" y="8648"/>
                  <a:pt x="20017" y="8756"/>
                </a:cubicBezTo>
                <a:cubicBezTo>
                  <a:pt x="20025" y="8773"/>
                  <a:pt x="20034" y="8789"/>
                  <a:pt x="20042" y="8806"/>
                </a:cubicBezTo>
              </a:path>
              <a:path w="2556" h="745">
                <a:moveTo>
                  <a:pt x="19893" y="8508"/>
                </a:moveTo>
                <a:cubicBezTo>
                  <a:pt x="19954" y="8545"/>
                  <a:pt x="20042" y="8558"/>
                  <a:pt x="20117" y="8582"/>
                </a:cubicBezTo>
              </a:path>
              <a:path w="2556" h="745">
                <a:moveTo>
                  <a:pt x="20737" y="8533"/>
                </a:moveTo>
                <a:cubicBezTo>
                  <a:pt x="20651" y="8544"/>
                  <a:pt x="20544" y="8567"/>
                  <a:pt x="20464" y="8607"/>
                </a:cubicBezTo>
                <a:cubicBezTo>
                  <a:pt x="20412" y="8633"/>
                  <a:pt x="20254" y="8714"/>
                  <a:pt x="20315" y="8806"/>
                </a:cubicBezTo>
                <a:cubicBezTo>
                  <a:pt x="20368" y="8886"/>
                  <a:pt x="20508" y="8898"/>
                  <a:pt x="20588" y="8905"/>
                </a:cubicBezTo>
              </a:path>
              <a:path w="2556" h="745">
                <a:moveTo>
                  <a:pt x="20886" y="8607"/>
                </a:moveTo>
                <a:cubicBezTo>
                  <a:pt x="20872" y="8646"/>
                  <a:pt x="20780" y="8802"/>
                  <a:pt x="20886" y="8830"/>
                </a:cubicBezTo>
                <a:cubicBezTo>
                  <a:pt x="21006" y="8862"/>
                  <a:pt x="21095" y="8889"/>
                  <a:pt x="21158" y="8781"/>
                </a:cubicBezTo>
                <a:cubicBezTo>
                  <a:pt x="21179" y="8746"/>
                  <a:pt x="21213" y="8597"/>
                  <a:pt x="21183" y="8558"/>
                </a:cubicBezTo>
                <a:cubicBezTo>
                  <a:pt x="21142" y="8504"/>
                  <a:pt x="21052" y="8462"/>
                  <a:pt x="20985" y="8458"/>
                </a:cubicBezTo>
                <a:cubicBezTo>
                  <a:pt x="20968" y="8458"/>
                  <a:pt x="20952" y="8458"/>
                  <a:pt x="20935" y="8458"/>
                </a:cubicBezTo>
              </a:path>
              <a:path w="2556" h="745">
                <a:moveTo>
                  <a:pt x="21406" y="8384"/>
                </a:moveTo>
                <a:cubicBezTo>
                  <a:pt x="21398" y="8514"/>
                  <a:pt x="21391" y="8604"/>
                  <a:pt x="21406" y="8731"/>
                </a:cubicBezTo>
                <a:cubicBezTo>
                  <a:pt x="21412" y="8777"/>
                  <a:pt x="21422" y="8811"/>
                  <a:pt x="21431" y="8855"/>
                </a:cubicBezTo>
              </a:path>
              <a:path w="2556" h="745">
                <a:moveTo>
                  <a:pt x="21233" y="8607"/>
                </a:moveTo>
                <a:cubicBezTo>
                  <a:pt x="21328" y="8631"/>
                  <a:pt x="21407" y="8632"/>
                  <a:pt x="21506" y="8632"/>
                </a:cubicBezTo>
              </a:path>
              <a:path w="2556" h="745">
                <a:moveTo>
                  <a:pt x="21654" y="8186"/>
                </a:moveTo>
                <a:cubicBezTo>
                  <a:pt x="21748" y="8173"/>
                  <a:pt x="21869" y="8139"/>
                  <a:pt x="21828" y="8285"/>
                </a:cubicBezTo>
                <a:cubicBezTo>
                  <a:pt x="21810" y="8347"/>
                  <a:pt x="21742" y="8392"/>
                  <a:pt x="21754" y="8458"/>
                </a:cubicBezTo>
                <a:cubicBezTo>
                  <a:pt x="21776" y="8576"/>
                  <a:pt x="21828" y="8571"/>
                  <a:pt x="21927" y="8607"/>
                </a:cubicBezTo>
              </a:path>
              <a:path w="2556" h="745">
                <a:moveTo>
                  <a:pt x="22151" y="8434"/>
                </a:moveTo>
                <a:cubicBezTo>
                  <a:pt x="22213" y="8558"/>
                  <a:pt x="22293" y="8685"/>
                  <a:pt x="22399" y="8781"/>
                </a:cubicBezTo>
                <a:cubicBezTo>
                  <a:pt x="22415" y="8789"/>
                  <a:pt x="22432" y="8798"/>
                  <a:pt x="22448" y="8806"/>
                </a:cubicBezTo>
              </a:path>
              <a:path w="2556" h="745">
                <a:moveTo>
                  <a:pt x="22250" y="8384"/>
                </a:moveTo>
                <a:cubicBezTo>
                  <a:pt x="22027" y="8502"/>
                  <a:pt x="21830" y="8628"/>
                  <a:pt x="21630" y="87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Ink 11"/>
          <p:cNvSpPr/>
          <p:nvPr/>
        </p:nvSpPr>
        <p:spPr>
          <a:xfrm>
            <a:off x="1901880" y="3044880"/>
            <a:ext cx="884160" cy="1822320"/>
          </a:xfrm>
          <a:custGeom>
            <a:avLst/>
            <a:gdLst/>
            <a:ahLst/>
            <a:rect l="l" t="t" r="r" b="b"/>
            <a:pathLst>
              <a:path w="2457" h="5062">
                <a:moveTo>
                  <a:pt x="5854" y="8458"/>
                </a:moveTo>
                <a:cubicBezTo>
                  <a:pt x="5810" y="8563"/>
                  <a:pt x="5751" y="8655"/>
                  <a:pt x="5705" y="8756"/>
                </a:cubicBezTo>
                <a:cubicBezTo>
                  <a:pt x="5640" y="8901"/>
                  <a:pt x="5579" y="9052"/>
                  <a:pt x="5531" y="9203"/>
                </a:cubicBezTo>
                <a:cubicBezTo>
                  <a:pt x="5493" y="9324"/>
                  <a:pt x="5439" y="9425"/>
                  <a:pt x="5407" y="9550"/>
                </a:cubicBezTo>
                <a:cubicBezTo>
                  <a:pt x="5373" y="9684"/>
                  <a:pt x="5359" y="9814"/>
                  <a:pt x="5333" y="9947"/>
                </a:cubicBezTo>
                <a:cubicBezTo>
                  <a:pt x="5304" y="10095"/>
                  <a:pt x="5283" y="10215"/>
                  <a:pt x="5283" y="10368"/>
                </a:cubicBezTo>
                <a:cubicBezTo>
                  <a:pt x="5283" y="10517"/>
                  <a:pt x="5285" y="10669"/>
                  <a:pt x="5308" y="10815"/>
                </a:cubicBezTo>
                <a:cubicBezTo>
                  <a:pt x="5338" y="11005"/>
                  <a:pt x="5402" y="11187"/>
                  <a:pt x="5482" y="11361"/>
                </a:cubicBezTo>
                <a:cubicBezTo>
                  <a:pt x="5552" y="11512"/>
                  <a:pt x="5625" y="11656"/>
                  <a:pt x="5730" y="11782"/>
                </a:cubicBezTo>
                <a:cubicBezTo>
                  <a:pt x="5846" y="11921"/>
                  <a:pt x="5974" y="12050"/>
                  <a:pt x="6102" y="12179"/>
                </a:cubicBezTo>
                <a:cubicBezTo>
                  <a:pt x="6246" y="12324"/>
                  <a:pt x="6386" y="12475"/>
                  <a:pt x="6548" y="12601"/>
                </a:cubicBezTo>
                <a:cubicBezTo>
                  <a:pt x="6673" y="12698"/>
                  <a:pt x="6762" y="12807"/>
                  <a:pt x="6896" y="12898"/>
                </a:cubicBezTo>
                <a:cubicBezTo>
                  <a:pt x="6953" y="12937"/>
                  <a:pt x="7026" y="12973"/>
                  <a:pt x="7094" y="12973"/>
                </a:cubicBezTo>
                <a:cubicBezTo>
                  <a:pt x="7150" y="12973"/>
                  <a:pt x="7147" y="12954"/>
                  <a:pt x="7193" y="12948"/>
                </a:cubicBezTo>
              </a:path>
              <a:path w="2457" h="5062">
                <a:moveTo>
                  <a:pt x="7293" y="12402"/>
                </a:moveTo>
                <a:cubicBezTo>
                  <a:pt x="7371" y="12459"/>
                  <a:pt x="7431" y="12543"/>
                  <a:pt x="7491" y="12626"/>
                </a:cubicBezTo>
                <a:cubicBezTo>
                  <a:pt x="7560" y="12721"/>
                  <a:pt x="7635" y="12812"/>
                  <a:pt x="7714" y="12898"/>
                </a:cubicBezTo>
                <a:cubicBezTo>
                  <a:pt x="7773" y="12962"/>
                  <a:pt x="7726" y="13011"/>
                  <a:pt x="7665" y="13047"/>
                </a:cubicBezTo>
                <a:cubicBezTo>
                  <a:pt x="7575" y="13100"/>
                  <a:pt x="7480" y="13153"/>
                  <a:pt x="7392" y="13196"/>
                </a:cubicBezTo>
                <a:cubicBezTo>
                  <a:pt x="7278" y="13252"/>
                  <a:pt x="7186" y="13309"/>
                  <a:pt x="7119" y="13419"/>
                </a:cubicBezTo>
                <a:cubicBezTo>
                  <a:pt x="7095" y="13467"/>
                  <a:pt x="7087" y="13482"/>
                  <a:pt x="7094" y="135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Ink 12"/>
          <p:cNvSpPr/>
          <p:nvPr/>
        </p:nvSpPr>
        <p:spPr>
          <a:xfrm>
            <a:off x="3973680" y="3751200"/>
            <a:ext cx="2117520" cy="463680"/>
          </a:xfrm>
          <a:custGeom>
            <a:avLst/>
            <a:gdLst/>
            <a:ahLst/>
            <a:rect l="l" t="t" r="r" b="b"/>
            <a:pathLst>
              <a:path w="5880" h="1291">
                <a:moveTo>
                  <a:pt x="11509" y="10691"/>
                </a:moveTo>
                <a:cubicBezTo>
                  <a:pt x="11498" y="10608"/>
                  <a:pt x="11455" y="10594"/>
                  <a:pt x="11361" y="10616"/>
                </a:cubicBezTo>
                <a:cubicBezTo>
                  <a:pt x="11253" y="10642"/>
                  <a:pt x="11169" y="10758"/>
                  <a:pt x="11112" y="10840"/>
                </a:cubicBezTo>
                <a:cubicBezTo>
                  <a:pt x="11066" y="10905"/>
                  <a:pt x="11042" y="10986"/>
                  <a:pt x="11038" y="11063"/>
                </a:cubicBezTo>
                <a:cubicBezTo>
                  <a:pt x="11035" y="11125"/>
                  <a:pt x="11064" y="11218"/>
                  <a:pt x="11112" y="11261"/>
                </a:cubicBezTo>
                <a:cubicBezTo>
                  <a:pt x="11193" y="11333"/>
                  <a:pt x="11232" y="11373"/>
                  <a:pt x="11336" y="11410"/>
                </a:cubicBezTo>
              </a:path>
              <a:path w="5880" h="1291">
                <a:moveTo>
                  <a:pt x="11857" y="10864"/>
                </a:moveTo>
                <a:cubicBezTo>
                  <a:pt x="11796" y="10842"/>
                  <a:pt x="11700" y="10820"/>
                  <a:pt x="11633" y="10840"/>
                </a:cubicBezTo>
                <a:cubicBezTo>
                  <a:pt x="11562" y="10862"/>
                  <a:pt x="11560" y="10937"/>
                  <a:pt x="11584" y="10988"/>
                </a:cubicBezTo>
                <a:cubicBezTo>
                  <a:pt x="11629" y="11084"/>
                  <a:pt x="11766" y="11130"/>
                  <a:pt x="11832" y="11212"/>
                </a:cubicBezTo>
                <a:cubicBezTo>
                  <a:pt x="11859" y="11246"/>
                  <a:pt x="11914" y="11367"/>
                  <a:pt x="11881" y="11410"/>
                </a:cubicBezTo>
                <a:cubicBezTo>
                  <a:pt x="11857" y="11441"/>
                  <a:pt x="11771" y="11492"/>
                  <a:pt x="11733" y="11485"/>
                </a:cubicBezTo>
                <a:cubicBezTo>
                  <a:pt x="11694" y="11478"/>
                  <a:pt x="11557" y="11455"/>
                  <a:pt x="11534" y="11410"/>
                </a:cubicBezTo>
                <a:cubicBezTo>
                  <a:pt x="11526" y="11377"/>
                  <a:pt x="11517" y="11344"/>
                  <a:pt x="11509" y="11311"/>
                </a:cubicBezTo>
              </a:path>
              <a:path w="5880" h="1291">
                <a:moveTo>
                  <a:pt x="12402" y="10939"/>
                </a:moveTo>
                <a:cubicBezTo>
                  <a:pt x="12419" y="10947"/>
                  <a:pt x="12435" y="10956"/>
                  <a:pt x="12452" y="10964"/>
                </a:cubicBezTo>
                <a:cubicBezTo>
                  <a:pt x="12410" y="10922"/>
                  <a:pt x="12370" y="10874"/>
                  <a:pt x="12303" y="10889"/>
                </a:cubicBezTo>
                <a:cubicBezTo>
                  <a:pt x="12217" y="10908"/>
                  <a:pt x="12190" y="10967"/>
                  <a:pt x="12154" y="11038"/>
                </a:cubicBezTo>
                <a:cubicBezTo>
                  <a:pt x="12124" y="11098"/>
                  <a:pt x="12069" y="11159"/>
                  <a:pt x="12105" y="11212"/>
                </a:cubicBezTo>
                <a:cubicBezTo>
                  <a:pt x="12122" y="11237"/>
                  <a:pt x="12181" y="11330"/>
                  <a:pt x="12204" y="11336"/>
                </a:cubicBezTo>
                <a:cubicBezTo>
                  <a:pt x="12278" y="11356"/>
                  <a:pt x="12375" y="11336"/>
                  <a:pt x="12452" y="11336"/>
                </a:cubicBezTo>
              </a:path>
              <a:path w="5880" h="1291">
                <a:moveTo>
                  <a:pt x="12502" y="10492"/>
                </a:moveTo>
                <a:cubicBezTo>
                  <a:pt x="12518" y="10467"/>
                  <a:pt x="12535" y="10443"/>
                  <a:pt x="12551" y="10418"/>
                </a:cubicBezTo>
                <a:cubicBezTo>
                  <a:pt x="12643" y="10459"/>
                  <a:pt x="12695" y="10458"/>
                  <a:pt x="12700" y="10567"/>
                </a:cubicBezTo>
                <a:cubicBezTo>
                  <a:pt x="12705" y="10672"/>
                  <a:pt x="12607" y="10748"/>
                  <a:pt x="12675" y="10840"/>
                </a:cubicBezTo>
                <a:cubicBezTo>
                  <a:pt x="12700" y="10874"/>
                  <a:pt x="12757" y="10931"/>
                  <a:pt x="12799" y="10939"/>
                </a:cubicBezTo>
                <a:cubicBezTo>
                  <a:pt x="12874" y="10939"/>
                  <a:pt x="12898" y="10939"/>
                  <a:pt x="12948" y="10939"/>
                </a:cubicBezTo>
              </a:path>
              <a:path w="5880" h="1291">
                <a:moveTo>
                  <a:pt x="13221" y="10939"/>
                </a:moveTo>
                <a:cubicBezTo>
                  <a:pt x="13263" y="11066"/>
                  <a:pt x="13287" y="11185"/>
                  <a:pt x="13370" y="11286"/>
                </a:cubicBezTo>
                <a:cubicBezTo>
                  <a:pt x="13485" y="11426"/>
                  <a:pt x="13507" y="11431"/>
                  <a:pt x="13643" y="11509"/>
                </a:cubicBezTo>
              </a:path>
              <a:path w="5880" h="1291">
                <a:moveTo>
                  <a:pt x="13444" y="11013"/>
                </a:moveTo>
                <a:cubicBezTo>
                  <a:pt x="13293" y="11168"/>
                  <a:pt x="12999" y="11268"/>
                  <a:pt x="12998" y="11485"/>
                </a:cubicBezTo>
                <a:cubicBezTo>
                  <a:pt x="12998" y="11572"/>
                  <a:pt x="13057" y="11545"/>
                  <a:pt x="13097" y="11534"/>
                </a:cubicBezTo>
              </a:path>
              <a:path w="5880" h="1291">
                <a:moveTo>
                  <a:pt x="13767" y="11088"/>
                </a:moveTo>
                <a:cubicBezTo>
                  <a:pt x="13871" y="11072"/>
                  <a:pt x="13959" y="11063"/>
                  <a:pt x="14064" y="11063"/>
                </a:cubicBezTo>
              </a:path>
              <a:path w="5880" h="1291">
                <a:moveTo>
                  <a:pt x="13841" y="11261"/>
                </a:moveTo>
                <a:cubicBezTo>
                  <a:pt x="13957" y="11261"/>
                  <a:pt x="14072" y="11261"/>
                  <a:pt x="14188" y="11261"/>
                </a:cubicBezTo>
              </a:path>
              <a:path w="5880" h="1291">
                <a:moveTo>
                  <a:pt x="14784" y="10964"/>
                </a:moveTo>
                <a:cubicBezTo>
                  <a:pt x="14805" y="11007"/>
                  <a:pt x="14809" y="11019"/>
                  <a:pt x="14833" y="11038"/>
                </a:cubicBezTo>
                <a:cubicBezTo>
                  <a:pt x="14824" y="10974"/>
                  <a:pt x="14794" y="10920"/>
                  <a:pt x="14709" y="10939"/>
                </a:cubicBezTo>
                <a:cubicBezTo>
                  <a:pt x="14655" y="10951"/>
                  <a:pt x="14605" y="11011"/>
                  <a:pt x="14560" y="11038"/>
                </a:cubicBezTo>
                <a:cubicBezTo>
                  <a:pt x="14464" y="11096"/>
                  <a:pt x="14481" y="11164"/>
                  <a:pt x="14511" y="11261"/>
                </a:cubicBezTo>
                <a:cubicBezTo>
                  <a:pt x="14539" y="11353"/>
                  <a:pt x="14645" y="11441"/>
                  <a:pt x="14734" y="11485"/>
                </a:cubicBezTo>
                <a:cubicBezTo>
                  <a:pt x="14799" y="11506"/>
                  <a:pt x="14815" y="11514"/>
                  <a:pt x="14858" y="11509"/>
                </a:cubicBezTo>
              </a:path>
              <a:path w="5880" h="1291">
                <a:moveTo>
                  <a:pt x="15379" y="10939"/>
                </a:moveTo>
                <a:cubicBezTo>
                  <a:pt x="15283" y="10887"/>
                  <a:pt x="15237" y="10869"/>
                  <a:pt x="15131" y="10914"/>
                </a:cubicBezTo>
                <a:cubicBezTo>
                  <a:pt x="15114" y="10922"/>
                  <a:pt x="15098" y="10931"/>
                  <a:pt x="15081" y="10939"/>
                </a:cubicBezTo>
                <a:cubicBezTo>
                  <a:pt x="15115" y="10995"/>
                  <a:pt x="15151" y="11025"/>
                  <a:pt x="15180" y="11088"/>
                </a:cubicBezTo>
                <a:cubicBezTo>
                  <a:pt x="15211" y="11157"/>
                  <a:pt x="15251" y="11236"/>
                  <a:pt x="15255" y="11311"/>
                </a:cubicBezTo>
                <a:cubicBezTo>
                  <a:pt x="15261" y="11419"/>
                  <a:pt x="15204" y="11392"/>
                  <a:pt x="15131" y="11385"/>
                </a:cubicBezTo>
                <a:cubicBezTo>
                  <a:pt x="15038" y="11376"/>
                  <a:pt x="14994" y="11320"/>
                  <a:pt x="14982" y="11237"/>
                </a:cubicBezTo>
              </a:path>
              <a:path w="5880" h="1291">
                <a:moveTo>
                  <a:pt x="15925" y="11013"/>
                </a:moveTo>
                <a:cubicBezTo>
                  <a:pt x="15869" y="11032"/>
                  <a:pt x="15799" y="11013"/>
                  <a:pt x="15726" y="11013"/>
                </a:cubicBezTo>
                <a:cubicBezTo>
                  <a:pt x="15615" y="11013"/>
                  <a:pt x="15462" y="11112"/>
                  <a:pt x="15478" y="11237"/>
                </a:cubicBezTo>
                <a:cubicBezTo>
                  <a:pt x="15496" y="11382"/>
                  <a:pt x="15622" y="11396"/>
                  <a:pt x="15726" y="11435"/>
                </a:cubicBezTo>
                <a:cubicBezTo>
                  <a:pt x="15789" y="11459"/>
                  <a:pt x="15832" y="11460"/>
                  <a:pt x="15900" y="11460"/>
                </a:cubicBezTo>
              </a:path>
              <a:path w="5880" h="1291">
                <a:moveTo>
                  <a:pt x="16098" y="10616"/>
                </a:moveTo>
                <a:cubicBezTo>
                  <a:pt x="16198" y="10601"/>
                  <a:pt x="16240" y="10579"/>
                  <a:pt x="16247" y="10691"/>
                </a:cubicBezTo>
                <a:cubicBezTo>
                  <a:pt x="16251" y="10762"/>
                  <a:pt x="16195" y="10794"/>
                  <a:pt x="16148" y="10840"/>
                </a:cubicBezTo>
                <a:cubicBezTo>
                  <a:pt x="16095" y="10892"/>
                  <a:pt x="16131" y="10922"/>
                  <a:pt x="16173" y="10964"/>
                </a:cubicBezTo>
                <a:cubicBezTo>
                  <a:pt x="16214" y="11005"/>
                  <a:pt x="16266" y="10988"/>
                  <a:pt x="16321" y="10988"/>
                </a:cubicBezTo>
              </a:path>
              <a:path w="5880" h="1291">
                <a:moveTo>
                  <a:pt x="16470" y="11063"/>
                </a:moveTo>
                <a:cubicBezTo>
                  <a:pt x="16530" y="11233"/>
                  <a:pt x="16557" y="11315"/>
                  <a:pt x="16718" y="11410"/>
                </a:cubicBezTo>
                <a:cubicBezTo>
                  <a:pt x="16818" y="11460"/>
                  <a:pt x="16851" y="11476"/>
                  <a:pt x="16917" y="11509"/>
                </a:cubicBezTo>
              </a:path>
              <a:path w="5880" h="1291">
                <a:moveTo>
                  <a:pt x="16867" y="11112"/>
                </a:moveTo>
                <a:cubicBezTo>
                  <a:pt x="16634" y="11297"/>
                  <a:pt x="16433" y="11497"/>
                  <a:pt x="16222" y="117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Ink 13"/>
          <p:cNvSpPr/>
          <p:nvPr/>
        </p:nvSpPr>
        <p:spPr>
          <a:xfrm>
            <a:off x="2884320" y="3116160"/>
            <a:ext cx="625680" cy="268560"/>
          </a:xfrm>
          <a:custGeom>
            <a:avLst/>
            <a:gdLst/>
            <a:ahLst/>
            <a:rect l="l" t="t" r="r" b="b"/>
            <a:pathLst>
              <a:path w="1737" h="745">
                <a:moveTo>
                  <a:pt x="8186" y="8954"/>
                </a:moveTo>
                <a:cubicBezTo>
                  <a:pt x="8199" y="9034"/>
                  <a:pt x="8190" y="9168"/>
                  <a:pt x="8260" y="9203"/>
                </a:cubicBezTo>
              </a:path>
              <a:path w="1737" h="745">
                <a:moveTo>
                  <a:pt x="8012" y="9004"/>
                </a:moveTo>
                <a:cubicBezTo>
                  <a:pt x="8066" y="9037"/>
                  <a:pt x="8123" y="9025"/>
                  <a:pt x="8186" y="9004"/>
                </a:cubicBezTo>
                <a:cubicBezTo>
                  <a:pt x="8202" y="8996"/>
                  <a:pt x="8219" y="8987"/>
                  <a:pt x="8235" y="8979"/>
                </a:cubicBezTo>
              </a:path>
              <a:path w="1737" h="745">
                <a:moveTo>
                  <a:pt x="8558" y="8880"/>
                </a:moveTo>
                <a:cubicBezTo>
                  <a:pt x="8492" y="8863"/>
                  <a:pt x="8453" y="8862"/>
                  <a:pt x="8409" y="8930"/>
                </a:cubicBezTo>
                <a:cubicBezTo>
                  <a:pt x="8376" y="8981"/>
                  <a:pt x="8335" y="9065"/>
                  <a:pt x="8359" y="9128"/>
                </a:cubicBezTo>
                <a:cubicBezTo>
                  <a:pt x="8408" y="9254"/>
                  <a:pt x="8560" y="9132"/>
                  <a:pt x="8607" y="9103"/>
                </a:cubicBezTo>
              </a:path>
              <a:path w="1737" h="745">
                <a:moveTo>
                  <a:pt x="8781" y="8880"/>
                </a:moveTo>
                <a:cubicBezTo>
                  <a:pt x="8727" y="8933"/>
                  <a:pt x="8663" y="8955"/>
                  <a:pt x="8706" y="9029"/>
                </a:cubicBezTo>
                <a:cubicBezTo>
                  <a:pt x="8726" y="9065"/>
                  <a:pt x="8795" y="9116"/>
                  <a:pt x="8806" y="9153"/>
                </a:cubicBezTo>
                <a:cubicBezTo>
                  <a:pt x="8831" y="9242"/>
                  <a:pt x="8774" y="9215"/>
                  <a:pt x="8731" y="9203"/>
                </a:cubicBezTo>
              </a:path>
              <a:path w="1737" h="745">
                <a:moveTo>
                  <a:pt x="9079" y="8855"/>
                </a:moveTo>
                <a:cubicBezTo>
                  <a:pt x="8995" y="8855"/>
                  <a:pt x="8965" y="8845"/>
                  <a:pt x="8930" y="8930"/>
                </a:cubicBezTo>
                <a:cubicBezTo>
                  <a:pt x="8909" y="8982"/>
                  <a:pt x="8883" y="9096"/>
                  <a:pt x="8905" y="9153"/>
                </a:cubicBezTo>
                <a:cubicBezTo>
                  <a:pt x="8931" y="9220"/>
                  <a:pt x="9049" y="9219"/>
                  <a:pt x="9103" y="9203"/>
                </a:cubicBezTo>
                <a:cubicBezTo>
                  <a:pt x="9111" y="9195"/>
                  <a:pt x="9120" y="9186"/>
                  <a:pt x="9128" y="9178"/>
                </a:cubicBezTo>
              </a:path>
              <a:path w="1737" h="745">
                <a:moveTo>
                  <a:pt x="9153" y="8657"/>
                </a:moveTo>
                <a:cubicBezTo>
                  <a:pt x="9314" y="8732"/>
                  <a:pt x="9259" y="8713"/>
                  <a:pt x="9227" y="8855"/>
                </a:cubicBezTo>
                <a:cubicBezTo>
                  <a:pt x="9204" y="8956"/>
                  <a:pt x="9331" y="8890"/>
                  <a:pt x="9376" y="8880"/>
                </a:cubicBezTo>
              </a:path>
              <a:path w="1737" h="745">
                <a:moveTo>
                  <a:pt x="9525" y="8830"/>
                </a:moveTo>
                <a:cubicBezTo>
                  <a:pt x="9536" y="8919"/>
                  <a:pt x="9581" y="8952"/>
                  <a:pt x="9624" y="9029"/>
                </a:cubicBezTo>
                <a:cubicBezTo>
                  <a:pt x="9657" y="9089"/>
                  <a:pt x="9690" y="9124"/>
                  <a:pt x="9748" y="9153"/>
                </a:cubicBezTo>
              </a:path>
              <a:path w="1737" h="745">
                <a:moveTo>
                  <a:pt x="9699" y="8830"/>
                </a:moveTo>
                <a:cubicBezTo>
                  <a:pt x="9588" y="8963"/>
                  <a:pt x="9500" y="9091"/>
                  <a:pt x="9401" y="9227"/>
                </a:cubicBezTo>
                <a:cubicBezTo>
                  <a:pt x="9349" y="9305"/>
                  <a:pt x="9331" y="9334"/>
                  <a:pt x="9327" y="94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Ink 14"/>
          <p:cNvSpPr/>
          <p:nvPr/>
        </p:nvSpPr>
        <p:spPr>
          <a:xfrm>
            <a:off x="3697200" y="3116160"/>
            <a:ext cx="901800" cy="366840"/>
          </a:xfrm>
          <a:custGeom>
            <a:avLst/>
            <a:gdLst/>
            <a:ahLst/>
            <a:rect l="l" t="t" r="r" b="b"/>
            <a:pathLst>
              <a:path w="2506" h="1018">
                <a:moveTo>
                  <a:pt x="10691" y="8954"/>
                </a:moveTo>
                <a:cubicBezTo>
                  <a:pt x="10691" y="8971"/>
                  <a:pt x="10691" y="8987"/>
                  <a:pt x="10691" y="9004"/>
                </a:cubicBezTo>
                <a:cubicBezTo>
                  <a:pt x="10667" y="8975"/>
                  <a:pt x="10632" y="8892"/>
                  <a:pt x="10592" y="8880"/>
                </a:cubicBezTo>
                <a:cubicBezTo>
                  <a:pt x="10512" y="8857"/>
                  <a:pt x="10452" y="8907"/>
                  <a:pt x="10393" y="8954"/>
                </a:cubicBezTo>
                <a:cubicBezTo>
                  <a:pt x="10351" y="8988"/>
                  <a:pt x="10306" y="9050"/>
                  <a:pt x="10294" y="9103"/>
                </a:cubicBezTo>
                <a:cubicBezTo>
                  <a:pt x="10279" y="9170"/>
                  <a:pt x="10269" y="9231"/>
                  <a:pt x="10269" y="9302"/>
                </a:cubicBezTo>
                <a:cubicBezTo>
                  <a:pt x="10269" y="9355"/>
                  <a:pt x="10266" y="9410"/>
                  <a:pt x="10294" y="9451"/>
                </a:cubicBezTo>
                <a:cubicBezTo>
                  <a:pt x="10330" y="9503"/>
                  <a:pt x="10412" y="9561"/>
                  <a:pt x="10468" y="9575"/>
                </a:cubicBezTo>
                <a:cubicBezTo>
                  <a:pt x="10523" y="9589"/>
                  <a:pt x="10567" y="9568"/>
                  <a:pt x="10616" y="9550"/>
                </a:cubicBezTo>
              </a:path>
              <a:path w="2506" h="1018">
                <a:moveTo>
                  <a:pt x="11063" y="9029"/>
                </a:moveTo>
                <a:cubicBezTo>
                  <a:pt x="11063" y="8984"/>
                  <a:pt x="11066" y="8971"/>
                  <a:pt x="11038" y="8954"/>
                </a:cubicBezTo>
                <a:cubicBezTo>
                  <a:pt x="10974" y="8962"/>
                  <a:pt x="10896" y="8969"/>
                  <a:pt x="10840" y="9004"/>
                </a:cubicBezTo>
                <a:cubicBezTo>
                  <a:pt x="10810" y="9034"/>
                  <a:pt x="10796" y="9045"/>
                  <a:pt x="10765" y="9054"/>
                </a:cubicBezTo>
                <a:cubicBezTo>
                  <a:pt x="10780" y="9107"/>
                  <a:pt x="10809" y="9142"/>
                  <a:pt x="10864" y="9178"/>
                </a:cubicBezTo>
                <a:cubicBezTo>
                  <a:pt x="10927" y="9219"/>
                  <a:pt x="10993" y="9235"/>
                  <a:pt x="11038" y="9302"/>
                </a:cubicBezTo>
                <a:cubicBezTo>
                  <a:pt x="11082" y="9367"/>
                  <a:pt x="11100" y="9377"/>
                  <a:pt x="11137" y="9451"/>
                </a:cubicBezTo>
                <a:cubicBezTo>
                  <a:pt x="11083" y="9464"/>
                  <a:pt x="11064" y="9504"/>
                  <a:pt x="11013" y="9525"/>
                </a:cubicBezTo>
                <a:cubicBezTo>
                  <a:pt x="10900" y="9572"/>
                  <a:pt x="10873" y="9547"/>
                  <a:pt x="10815" y="9451"/>
                </a:cubicBezTo>
              </a:path>
              <a:path w="2506" h="1018">
                <a:moveTo>
                  <a:pt x="11609" y="9103"/>
                </a:moveTo>
                <a:cubicBezTo>
                  <a:pt x="11706" y="9156"/>
                  <a:pt x="11561" y="9029"/>
                  <a:pt x="11559" y="9029"/>
                </a:cubicBezTo>
                <a:cubicBezTo>
                  <a:pt x="11505" y="9033"/>
                  <a:pt x="11446" y="9092"/>
                  <a:pt x="11410" y="9128"/>
                </a:cubicBezTo>
                <a:cubicBezTo>
                  <a:pt x="11375" y="9163"/>
                  <a:pt x="11323" y="9202"/>
                  <a:pt x="11311" y="9252"/>
                </a:cubicBezTo>
                <a:cubicBezTo>
                  <a:pt x="11294" y="9322"/>
                  <a:pt x="11310" y="9413"/>
                  <a:pt x="11336" y="9475"/>
                </a:cubicBezTo>
                <a:cubicBezTo>
                  <a:pt x="11352" y="9513"/>
                  <a:pt x="11394" y="9580"/>
                  <a:pt x="11435" y="9599"/>
                </a:cubicBezTo>
                <a:cubicBezTo>
                  <a:pt x="11520" y="9639"/>
                  <a:pt x="11564" y="9630"/>
                  <a:pt x="11633" y="9575"/>
                </a:cubicBezTo>
              </a:path>
              <a:path w="2506" h="1018">
                <a:moveTo>
                  <a:pt x="11757" y="8756"/>
                </a:moveTo>
                <a:cubicBezTo>
                  <a:pt x="11780" y="8700"/>
                  <a:pt x="11854" y="8572"/>
                  <a:pt x="11931" y="8682"/>
                </a:cubicBezTo>
                <a:cubicBezTo>
                  <a:pt x="11966" y="8732"/>
                  <a:pt x="11886" y="8801"/>
                  <a:pt x="11857" y="8830"/>
                </a:cubicBezTo>
                <a:cubicBezTo>
                  <a:pt x="11803" y="8884"/>
                  <a:pt x="11786" y="8925"/>
                  <a:pt x="11782" y="9004"/>
                </a:cubicBezTo>
                <a:cubicBezTo>
                  <a:pt x="11776" y="9116"/>
                  <a:pt x="11857" y="9143"/>
                  <a:pt x="11956" y="9153"/>
                </a:cubicBezTo>
                <a:cubicBezTo>
                  <a:pt x="11972" y="9153"/>
                  <a:pt x="11989" y="9153"/>
                  <a:pt x="12005" y="9153"/>
                </a:cubicBezTo>
              </a:path>
              <a:path w="2506" h="1018">
                <a:moveTo>
                  <a:pt x="12328" y="9004"/>
                </a:moveTo>
                <a:cubicBezTo>
                  <a:pt x="12328" y="9136"/>
                  <a:pt x="12329" y="9167"/>
                  <a:pt x="12378" y="9277"/>
                </a:cubicBezTo>
                <a:cubicBezTo>
                  <a:pt x="12420" y="9372"/>
                  <a:pt x="12501" y="9380"/>
                  <a:pt x="12551" y="9451"/>
                </a:cubicBezTo>
                <a:cubicBezTo>
                  <a:pt x="12600" y="9521"/>
                  <a:pt x="12623" y="9577"/>
                  <a:pt x="12725" y="9599"/>
                </a:cubicBezTo>
                <a:cubicBezTo>
                  <a:pt x="12741" y="9599"/>
                  <a:pt x="12758" y="9599"/>
                  <a:pt x="12774" y="9599"/>
                </a:cubicBezTo>
              </a:path>
              <a:path w="2506" h="1018">
                <a:moveTo>
                  <a:pt x="12750" y="9054"/>
                </a:moveTo>
                <a:cubicBezTo>
                  <a:pt x="12645" y="9123"/>
                  <a:pt x="12574" y="9174"/>
                  <a:pt x="12502" y="9277"/>
                </a:cubicBezTo>
                <a:cubicBezTo>
                  <a:pt x="12441" y="9364"/>
                  <a:pt x="12356" y="9480"/>
                  <a:pt x="12278" y="9550"/>
                </a:cubicBezTo>
                <a:cubicBezTo>
                  <a:pt x="12216" y="9607"/>
                  <a:pt x="12204" y="9579"/>
                  <a:pt x="12204" y="96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Ink 15"/>
          <p:cNvSpPr/>
          <p:nvPr/>
        </p:nvSpPr>
        <p:spPr>
          <a:xfrm>
            <a:off x="4776840" y="3313080"/>
            <a:ext cx="171360" cy="98280"/>
          </a:xfrm>
          <a:custGeom>
            <a:avLst/>
            <a:gdLst/>
            <a:ahLst/>
            <a:rect l="l" t="t" r="r" b="b"/>
            <a:pathLst>
              <a:path w="472" h="273">
                <a:moveTo>
                  <a:pt x="13271" y="9203"/>
                </a:moveTo>
                <a:cubicBezTo>
                  <a:pt x="13395" y="9203"/>
                  <a:pt x="13519" y="9203"/>
                  <a:pt x="13643" y="9203"/>
                </a:cubicBezTo>
              </a:path>
              <a:path w="472" h="273">
                <a:moveTo>
                  <a:pt x="13469" y="9376"/>
                </a:moveTo>
                <a:cubicBezTo>
                  <a:pt x="13584" y="9426"/>
                  <a:pt x="13637" y="9441"/>
                  <a:pt x="13742" y="94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Ink 16"/>
          <p:cNvSpPr/>
          <p:nvPr/>
        </p:nvSpPr>
        <p:spPr>
          <a:xfrm>
            <a:off x="5259240" y="3224160"/>
            <a:ext cx="9720" cy="401760"/>
          </a:xfrm>
          <a:custGeom>
            <a:avLst/>
            <a:gdLst/>
            <a:ahLst/>
            <a:rect l="l" t="t" r="r" b="b"/>
            <a:pathLst>
              <a:path w="26" h="1118">
                <a:moveTo>
                  <a:pt x="14635" y="8954"/>
                </a:moveTo>
                <a:cubicBezTo>
                  <a:pt x="14635" y="9221"/>
                  <a:pt x="14636" y="9485"/>
                  <a:pt x="14610" y="9748"/>
                </a:cubicBezTo>
                <a:cubicBezTo>
                  <a:pt x="14607" y="9776"/>
                  <a:pt x="14590" y="10071"/>
                  <a:pt x="14635" y="10071"/>
                </a:cubicBezTo>
                <a:cubicBezTo>
                  <a:pt x="14635" y="10063"/>
                  <a:pt x="14635" y="10054"/>
                  <a:pt x="14635" y="100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Ink 17"/>
          <p:cNvSpPr/>
          <p:nvPr/>
        </p:nvSpPr>
        <p:spPr>
          <a:xfrm>
            <a:off x="5429160" y="3303720"/>
            <a:ext cx="135000" cy="250560"/>
          </a:xfrm>
          <a:custGeom>
            <a:avLst/>
            <a:gdLst/>
            <a:ahLst/>
            <a:rect l="l" t="t" r="r" b="b"/>
            <a:pathLst>
              <a:path w="373" h="695">
                <a:moveTo>
                  <a:pt x="15255" y="9178"/>
                </a:moveTo>
                <a:cubicBezTo>
                  <a:pt x="15305" y="9253"/>
                  <a:pt x="15304" y="9311"/>
                  <a:pt x="15304" y="9401"/>
                </a:cubicBezTo>
                <a:cubicBezTo>
                  <a:pt x="15304" y="9558"/>
                  <a:pt x="15304" y="9715"/>
                  <a:pt x="15304" y="9872"/>
                </a:cubicBezTo>
              </a:path>
              <a:path w="373" h="695">
                <a:moveTo>
                  <a:pt x="15081" y="9525"/>
                </a:moveTo>
                <a:cubicBezTo>
                  <a:pt x="15210" y="9525"/>
                  <a:pt x="15329" y="9519"/>
                  <a:pt x="15453" y="95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Ink 18"/>
          <p:cNvSpPr/>
          <p:nvPr/>
        </p:nvSpPr>
        <p:spPr>
          <a:xfrm>
            <a:off x="5769000" y="3251160"/>
            <a:ext cx="866880" cy="357120"/>
          </a:xfrm>
          <a:custGeom>
            <a:avLst/>
            <a:gdLst/>
            <a:ahLst/>
            <a:rect l="l" t="t" r="r" b="b"/>
            <a:pathLst>
              <a:path w="2407" h="993">
                <a:moveTo>
                  <a:pt x="16396" y="9475"/>
                </a:moveTo>
                <a:cubicBezTo>
                  <a:pt x="16353" y="9393"/>
                  <a:pt x="16297" y="9439"/>
                  <a:pt x="16222" y="9451"/>
                </a:cubicBezTo>
                <a:cubicBezTo>
                  <a:pt x="16137" y="9465"/>
                  <a:pt x="16134" y="9509"/>
                  <a:pt x="16073" y="9575"/>
                </a:cubicBezTo>
                <a:cubicBezTo>
                  <a:pt x="16027" y="9625"/>
                  <a:pt x="16043" y="9704"/>
                  <a:pt x="16049" y="9748"/>
                </a:cubicBezTo>
                <a:cubicBezTo>
                  <a:pt x="16061" y="9837"/>
                  <a:pt x="16123" y="9947"/>
                  <a:pt x="16222" y="9971"/>
                </a:cubicBezTo>
                <a:cubicBezTo>
                  <a:pt x="16274" y="9984"/>
                  <a:pt x="16368" y="9971"/>
                  <a:pt x="16421" y="9971"/>
                </a:cubicBezTo>
              </a:path>
              <a:path w="2407" h="993">
                <a:moveTo>
                  <a:pt x="16669" y="9550"/>
                </a:moveTo>
                <a:cubicBezTo>
                  <a:pt x="16581" y="9572"/>
                  <a:pt x="16550" y="9602"/>
                  <a:pt x="16545" y="9699"/>
                </a:cubicBezTo>
                <a:cubicBezTo>
                  <a:pt x="16538" y="9819"/>
                  <a:pt x="16568" y="9843"/>
                  <a:pt x="16669" y="9897"/>
                </a:cubicBezTo>
                <a:cubicBezTo>
                  <a:pt x="16724" y="9926"/>
                  <a:pt x="16831" y="9944"/>
                  <a:pt x="16892" y="9922"/>
                </a:cubicBezTo>
                <a:cubicBezTo>
                  <a:pt x="16970" y="9894"/>
                  <a:pt x="16983" y="9816"/>
                  <a:pt x="17016" y="9748"/>
                </a:cubicBezTo>
                <a:cubicBezTo>
                  <a:pt x="17069" y="9637"/>
                  <a:pt x="17013" y="9640"/>
                  <a:pt x="16966" y="9550"/>
                </a:cubicBezTo>
                <a:cubicBezTo>
                  <a:pt x="16916" y="9453"/>
                  <a:pt x="16853" y="9400"/>
                  <a:pt x="16718" y="9426"/>
                </a:cubicBezTo>
                <a:cubicBezTo>
                  <a:pt x="16651" y="9439"/>
                  <a:pt x="16647" y="9444"/>
                  <a:pt x="16669" y="9475"/>
                </a:cubicBezTo>
              </a:path>
              <a:path w="2407" h="993">
                <a:moveTo>
                  <a:pt x="17214" y="9252"/>
                </a:moveTo>
                <a:cubicBezTo>
                  <a:pt x="17240" y="9347"/>
                  <a:pt x="17239" y="9425"/>
                  <a:pt x="17239" y="9525"/>
                </a:cubicBezTo>
                <a:cubicBezTo>
                  <a:pt x="17239" y="9595"/>
                  <a:pt x="17245" y="9704"/>
                  <a:pt x="17264" y="9773"/>
                </a:cubicBezTo>
                <a:cubicBezTo>
                  <a:pt x="17279" y="9825"/>
                  <a:pt x="17295" y="9871"/>
                  <a:pt x="17314" y="9922"/>
                </a:cubicBezTo>
              </a:path>
              <a:path w="2407" h="993">
                <a:moveTo>
                  <a:pt x="17041" y="9599"/>
                </a:moveTo>
                <a:cubicBezTo>
                  <a:pt x="17128" y="9576"/>
                  <a:pt x="17198" y="9575"/>
                  <a:pt x="17289" y="9575"/>
                </a:cubicBezTo>
                <a:cubicBezTo>
                  <a:pt x="17314" y="9575"/>
                  <a:pt x="17338" y="9575"/>
                  <a:pt x="17363" y="9575"/>
                </a:cubicBezTo>
              </a:path>
              <a:path w="2407" h="993">
                <a:moveTo>
                  <a:pt x="17512" y="9054"/>
                </a:moveTo>
                <a:cubicBezTo>
                  <a:pt x="17606" y="9030"/>
                  <a:pt x="17659" y="9008"/>
                  <a:pt x="17735" y="9079"/>
                </a:cubicBezTo>
                <a:cubicBezTo>
                  <a:pt x="17821" y="9159"/>
                  <a:pt x="17773" y="9182"/>
                  <a:pt x="17711" y="9252"/>
                </a:cubicBezTo>
                <a:cubicBezTo>
                  <a:pt x="17666" y="9303"/>
                  <a:pt x="17628" y="9348"/>
                  <a:pt x="17587" y="9401"/>
                </a:cubicBezTo>
                <a:cubicBezTo>
                  <a:pt x="17650" y="9465"/>
                  <a:pt x="17694" y="9515"/>
                  <a:pt x="17785" y="9525"/>
                </a:cubicBezTo>
                <a:cubicBezTo>
                  <a:pt x="17842" y="9525"/>
                  <a:pt x="17863" y="9520"/>
                  <a:pt x="17884" y="9475"/>
                </a:cubicBezTo>
              </a:path>
              <a:path w="2407" h="993">
                <a:moveTo>
                  <a:pt x="18033" y="9401"/>
                </a:moveTo>
                <a:cubicBezTo>
                  <a:pt x="18084" y="9585"/>
                  <a:pt x="18186" y="9744"/>
                  <a:pt x="18306" y="9897"/>
                </a:cubicBezTo>
                <a:cubicBezTo>
                  <a:pt x="18372" y="9963"/>
                  <a:pt x="18389" y="9980"/>
                  <a:pt x="18430" y="10021"/>
                </a:cubicBezTo>
              </a:path>
              <a:path w="2407" h="993">
                <a:moveTo>
                  <a:pt x="18281" y="9674"/>
                </a:moveTo>
                <a:cubicBezTo>
                  <a:pt x="18092" y="9734"/>
                  <a:pt x="17936" y="9763"/>
                  <a:pt x="17735" y="9748"/>
                </a:cubicBezTo>
                <a:cubicBezTo>
                  <a:pt x="17661" y="9740"/>
                  <a:pt x="17586" y="9731"/>
                  <a:pt x="17512" y="97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Ink 19"/>
          <p:cNvSpPr/>
          <p:nvPr/>
        </p:nvSpPr>
        <p:spPr>
          <a:xfrm>
            <a:off x="2874960" y="4402080"/>
            <a:ext cx="876240" cy="527040"/>
          </a:xfrm>
          <a:custGeom>
            <a:avLst/>
            <a:gdLst/>
            <a:ahLst/>
            <a:rect l="l" t="t" r="r" b="b"/>
            <a:pathLst>
              <a:path w="2432" h="1464">
                <a:moveTo>
                  <a:pt x="7987" y="12874"/>
                </a:moveTo>
                <a:cubicBezTo>
                  <a:pt x="8070" y="12903"/>
                  <a:pt x="8168" y="12943"/>
                  <a:pt x="8260" y="12923"/>
                </a:cubicBezTo>
                <a:cubicBezTo>
                  <a:pt x="8285" y="12915"/>
                  <a:pt x="8309" y="12906"/>
                  <a:pt x="8334" y="12898"/>
                </a:cubicBezTo>
              </a:path>
              <a:path w="2432" h="1464">
                <a:moveTo>
                  <a:pt x="8731" y="12650"/>
                </a:moveTo>
                <a:cubicBezTo>
                  <a:pt x="8725" y="12758"/>
                  <a:pt x="8706" y="12841"/>
                  <a:pt x="8706" y="12948"/>
                </a:cubicBezTo>
                <a:cubicBezTo>
                  <a:pt x="8706" y="13023"/>
                  <a:pt x="8675" y="13284"/>
                  <a:pt x="8731" y="13320"/>
                </a:cubicBezTo>
              </a:path>
              <a:path w="2432" h="1464">
                <a:moveTo>
                  <a:pt x="9153" y="12229"/>
                </a:moveTo>
                <a:cubicBezTo>
                  <a:pt x="9190" y="12303"/>
                  <a:pt x="9180" y="12350"/>
                  <a:pt x="9153" y="12427"/>
                </a:cubicBezTo>
                <a:cubicBezTo>
                  <a:pt x="9122" y="12514"/>
                  <a:pt x="9092" y="12633"/>
                  <a:pt x="9079" y="12725"/>
                </a:cubicBezTo>
                <a:cubicBezTo>
                  <a:pt x="9061" y="12846"/>
                  <a:pt x="9032" y="12998"/>
                  <a:pt x="9054" y="13122"/>
                </a:cubicBezTo>
                <a:cubicBezTo>
                  <a:pt x="9073" y="13226"/>
                  <a:pt x="9111" y="13335"/>
                  <a:pt x="9178" y="13419"/>
                </a:cubicBezTo>
                <a:cubicBezTo>
                  <a:pt x="9231" y="13485"/>
                  <a:pt x="9286" y="13544"/>
                  <a:pt x="9327" y="13618"/>
                </a:cubicBezTo>
                <a:cubicBezTo>
                  <a:pt x="9365" y="13687"/>
                  <a:pt x="9352" y="13681"/>
                  <a:pt x="9426" y="13692"/>
                </a:cubicBezTo>
              </a:path>
              <a:path w="2432" h="1464">
                <a:moveTo>
                  <a:pt x="9773" y="12626"/>
                </a:moveTo>
                <a:cubicBezTo>
                  <a:pt x="9781" y="12609"/>
                  <a:pt x="9790" y="12593"/>
                  <a:pt x="9798" y="12576"/>
                </a:cubicBezTo>
                <a:cubicBezTo>
                  <a:pt x="9829" y="12659"/>
                  <a:pt x="9823" y="12733"/>
                  <a:pt x="9823" y="12824"/>
                </a:cubicBezTo>
                <a:cubicBezTo>
                  <a:pt x="9823" y="13011"/>
                  <a:pt x="9768" y="13307"/>
                  <a:pt x="9847" y="13469"/>
                </a:cubicBezTo>
              </a:path>
              <a:path w="2432" h="1464">
                <a:moveTo>
                  <a:pt x="10294" y="12650"/>
                </a:moveTo>
                <a:cubicBezTo>
                  <a:pt x="10313" y="12763"/>
                  <a:pt x="10319" y="12859"/>
                  <a:pt x="10319" y="12973"/>
                </a:cubicBezTo>
                <a:cubicBezTo>
                  <a:pt x="10319" y="13068"/>
                  <a:pt x="10330" y="13165"/>
                  <a:pt x="10344" y="13246"/>
                </a:cubicBezTo>
                <a:cubicBezTo>
                  <a:pt x="10344" y="13262"/>
                  <a:pt x="10344" y="13279"/>
                  <a:pt x="10344" y="13295"/>
                </a:cubicBezTo>
              </a:path>
              <a:path w="2432" h="1464">
                <a:moveTo>
                  <a:pt x="10244" y="13022"/>
                </a:moveTo>
                <a:cubicBezTo>
                  <a:pt x="10215" y="12919"/>
                  <a:pt x="10272" y="12948"/>
                  <a:pt x="10368" y="12948"/>
                </a:cubicBezTo>
                <a:cubicBezTo>
                  <a:pt x="10385" y="12948"/>
                  <a:pt x="10401" y="12948"/>
                  <a:pt x="10418" y="129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Ink 20"/>
          <p:cNvSpPr/>
          <p:nvPr/>
        </p:nvSpPr>
        <p:spPr>
          <a:xfrm>
            <a:off x="3902040" y="4438800"/>
            <a:ext cx="750960" cy="436320"/>
          </a:xfrm>
          <a:custGeom>
            <a:avLst/>
            <a:gdLst/>
            <a:ahLst/>
            <a:rect l="l" t="t" r="r" b="b"/>
            <a:pathLst>
              <a:path w="2084" h="1216">
                <a:moveTo>
                  <a:pt x="11063" y="12923"/>
                </a:moveTo>
                <a:cubicBezTo>
                  <a:pt x="11052" y="12849"/>
                  <a:pt x="11022" y="12804"/>
                  <a:pt x="10939" y="12849"/>
                </a:cubicBezTo>
                <a:cubicBezTo>
                  <a:pt x="10881" y="12881"/>
                  <a:pt x="10881" y="12923"/>
                  <a:pt x="10864" y="12973"/>
                </a:cubicBezTo>
                <a:cubicBezTo>
                  <a:pt x="10841" y="13039"/>
                  <a:pt x="10822" y="13123"/>
                  <a:pt x="10840" y="13196"/>
                </a:cubicBezTo>
                <a:cubicBezTo>
                  <a:pt x="10865" y="13297"/>
                  <a:pt x="10925" y="13313"/>
                  <a:pt x="11013" y="13345"/>
                </a:cubicBezTo>
              </a:path>
              <a:path w="2084" h="1216">
                <a:moveTo>
                  <a:pt x="11336" y="12874"/>
                </a:moveTo>
                <a:cubicBezTo>
                  <a:pt x="11363" y="12927"/>
                  <a:pt x="11308" y="12976"/>
                  <a:pt x="11286" y="13047"/>
                </a:cubicBezTo>
                <a:cubicBezTo>
                  <a:pt x="11237" y="13203"/>
                  <a:pt x="11250" y="13248"/>
                  <a:pt x="11361" y="13345"/>
                </a:cubicBezTo>
                <a:cubicBezTo>
                  <a:pt x="11413" y="13391"/>
                  <a:pt x="11491" y="13379"/>
                  <a:pt x="11534" y="13320"/>
                </a:cubicBezTo>
                <a:cubicBezTo>
                  <a:pt x="11566" y="13275"/>
                  <a:pt x="11595" y="13150"/>
                  <a:pt x="11584" y="13097"/>
                </a:cubicBezTo>
                <a:cubicBezTo>
                  <a:pt x="11564" y="13003"/>
                  <a:pt x="11499" y="12955"/>
                  <a:pt x="11435" y="12898"/>
                </a:cubicBezTo>
                <a:cubicBezTo>
                  <a:pt x="11399" y="12867"/>
                  <a:pt x="11324" y="12849"/>
                  <a:pt x="11361" y="12849"/>
                </a:cubicBezTo>
              </a:path>
              <a:path w="2084" h="1216">
                <a:moveTo>
                  <a:pt x="11807" y="12700"/>
                </a:moveTo>
                <a:cubicBezTo>
                  <a:pt x="11807" y="12782"/>
                  <a:pt x="11785" y="12842"/>
                  <a:pt x="11782" y="12923"/>
                </a:cubicBezTo>
                <a:cubicBezTo>
                  <a:pt x="11778" y="13037"/>
                  <a:pt x="11791" y="13137"/>
                  <a:pt x="11807" y="13246"/>
                </a:cubicBezTo>
                <a:cubicBezTo>
                  <a:pt x="11813" y="13291"/>
                  <a:pt x="11823" y="13327"/>
                  <a:pt x="11832" y="13370"/>
                </a:cubicBezTo>
              </a:path>
              <a:path w="2084" h="1216">
                <a:moveTo>
                  <a:pt x="11633" y="12973"/>
                </a:moveTo>
                <a:cubicBezTo>
                  <a:pt x="11716" y="12973"/>
                  <a:pt x="11781" y="12961"/>
                  <a:pt x="11857" y="12948"/>
                </a:cubicBezTo>
                <a:cubicBezTo>
                  <a:pt x="11927" y="12948"/>
                  <a:pt x="11961" y="12939"/>
                  <a:pt x="12005" y="12898"/>
                </a:cubicBezTo>
              </a:path>
              <a:path w="2084" h="1216">
                <a:moveTo>
                  <a:pt x="12055" y="12650"/>
                </a:moveTo>
                <a:cubicBezTo>
                  <a:pt x="12115" y="12606"/>
                  <a:pt x="12229" y="12558"/>
                  <a:pt x="12229" y="12700"/>
                </a:cubicBezTo>
                <a:cubicBezTo>
                  <a:pt x="12229" y="12781"/>
                  <a:pt x="12159" y="12882"/>
                  <a:pt x="12154" y="12973"/>
                </a:cubicBezTo>
                <a:cubicBezTo>
                  <a:pt x="12152" y="13004"/>
                  <a:pt x="12172" y="13110"/>
                  <a:pt x="12204" y="13122"/>
                </a:cubicBezTo>
                <a:cubicBezTo>
                  <a:pt x="12239" y="13135"/>
                  <a:pt x="12315" y="13122"/>
                  <a:pt x="12353" y="13122"/>
                </a:cubicBezTo>
              </a:path>
              <a:path w="2084" h="1216">
                <a:moveTo>
                  <a:pt x="12402" y="12898"/>
                </a:moveTo>
                <a:cubicBezTo>
                  <a:pt x="12479" y="13013"/>
                  <a:pt x="12527" y="13148"/>
                  <a:pt x="12626" y="13246"/>
                </a:cubicBezTo>
                <a:cubicBezTo>
                  <a:pt x="12670" y="13290"/>
                  <a:pt x="12728" y="13323"/>
                  <a:pt x="12774" y="13370"/>
                </a:cubicBezTo>
              </a:path>
              <a:path w="2084" h="1216">
                <a:moveTo>
                  <a:pt x="12675" y="12774"/>
                </a:moveTo>
                <a:cubicBezTo>
                  <a:pt x="12576" y="12847"/>
                  <a:pt x="12518" y="12916"/>
                  <a:pt x="12452" y="13022"/>
                </a:cubicBezTo>
                <a:cubicBezTo>
                  <a:pt x="12360" y="13170"/>
                  <a:pt x="12378" y="13246"/>
                  <a:pt x="12378" y="13419"/>
                </a:cubicBezTo>
              </a:path>
              <a:path w="2084" h="1216">
                <a:moveTo>
                  <a:pt x="12750" y="12328"/>
                </a:moveTo>
                <a:cubicBezTo>
                  <a:pt x="12832" y="12621"/>
                  <a:pt x="12916" y="12870"/>
                  <a:pt x="12923" y="13171"/>
                </a:cubicBezTo>
                <a:cubicBezTo>
                  <a:pt x="12927" y="13335"/>
                  <a:pt x="12887" y="13412"/>
                  <a:pt x="12799" y="135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Ink 21"/>
          <p:cNvSpPr/>
          <p:nvPr/>
        </p:nvSpPr>
        <p:spPr>
          <a:xfrm>
            <a:off x="4830840" y="4545000"/>
            <a:ext cx="1330200" cy="492120"/>
          </a:xfrm>
          <a:custGeom>
            <a:avLst/>
            <a:gdLst/>
            <a:ahLst/>
            <a:rect l="l" t="t" r="r" b="b"/>
            <a:pathLst>
              <a:path w="3697" h="1365">
                <a:moveTo>
                  <a:pt x="13419" y="13196"/>
                </a:moveTo>
                <a:cubicBezTo>
                  <a:pt x="13500" y="13155"/>
                  <a:pt x="13577" y="13134"/>
                  <a:pt x="13667" y="13122"/>
                </a:cubicBezTo>
                <a:cubicBezTo>
                  <a:pt x="13725" y="13122"/>
                  <a:pt x="13750" y="13122"/>
                  <a:pt x="13791" y="13122"/>
                </a:cubicBezTo>
              </a:path>
              <a:path w="3697" h="1365">
                <a:moveTo>
                  <a:pt x="13444" y="13295"/>
                </a:moveTo>
                <a:cubicBezTo>
                  <a:pt x="13508" y="13359"/>
                  <a:pt x="13552" y="13345"/>
                  <a:pt x="13643" y="13345"/>
                </a:cubicBezTo>
                <a:cubicBezTo>
                  <a:pt x="13719" y="13345"/>
                  <a:pt x="13784" y="13325"/>
                  <a:pt x="13866" y="13320"/>
                </a:cubicBezTo>
              </a:path>
              <a:path w="3697" h="1365">
                <a:moveTo>
                  <a:pt x="14114" y="13171"/>
                </a:moveTo>
                <a:cubicBezTo>
                  <a:pt x="14169" y="13204"/>
                  <a:pt x="14220" y="13196"/>
                  <a:pt x="14288" y="13196"/>
                </a:cubicBezTo>
                <a:cubicBezTo>
                  <a:pt x="14396" y="13196"/>
                  <a:pt x="14438" y="13194"/>
                  <a:pt x="14511" y="13171"/>
                </a:cubicBezTo>
              </a:path>
              <a:path w="3697" h="1365">
                <a:moveTo>
                  <a:pt x="15056" y="12973"/>
                </a:moveTo>
                <a:cubicBezTo>
                  <a:pt x="15113" y="12973"/>
                  <a:pt x="15134" y="12978"/>
                  <a:pt x="15156" y="13022"/>
                </a:cubicBezTo>
                <a:cubicBezTo>
                  <a:pt x="15094" y="12971"/>
                  <a:pt x="15055" y="12979"/>
                  <a:pt x="14982" y="13047"/>
                </a:cubicBezTo>
                <a:cubicBezTo>
                  <a:pt x="14934" y="13092"/>
                  <a:pt x="14850" y="13125"/>
                  <a:pt x="14833" y="13196"/>
                </a:cubicBezTo>
                <a:cubicBezTo>
                  <a:pt x="14814" y="13276"/>
                  <a:pt x="14828" y="13398"/>
                  <a:pt x="14858" y="13469"/>
                </a:cubicBezTo>
                <a:cubicBezTo>
                  <a:pt x="14885" y="13533"/>
                  <a:pt x="14971" y="13640"/>
                  <a:pt x="15032" y="13667"/>
                </a:cubicBezTo>
                <a:cubicBezTo>
                  <a:pt x="15081" y="13684"/>
                  <a:pt x="15131" y="13700"/>
                  <a:pt x="15180" y="13717"/>
                </a:cubicBezTo>
              </a:path>
              <a:path w="3697" h="1365">
                <a:moveTo>
                  <a:pt x="15602" y="13122"/>
                </a:moveTo>
                <a:cubicBezTo>
                  <a:pt x="15541" y="13088"/>
                  <a:pt x="15463" y="13031"/>
                  <a:pt x="15404" y="13072"/>
                </a:cubicBezTo>
                <a:cubicBezTo>
                  <a:pt x="15348" y="13111"/>
                  <a:pt x="15382" y="13198"/>
                  <a:pt x="15404" y="13246"/>
                </a:cubicBezTo>
                <a:cubicBezTo>
                  <a:pt x="15435" y="13314"/>
                  <a:pt x="15509" y="13404"/>
                  <a:pt x="15553" y="13469"/>
                </a:cubicBezTo>
                <a:cubicBezTo>
                  <a:pt x="15608" y="13550"/>
                  <a:pt x="15659" y="13633"/>
                  <a:pt x="15627" y="13742"/>
                </a:cubicBezTo>
                <a:cubicBezTo>
                  <a:pt x="15612" y="13794"/>
                  <a:pt x="15519" y="13806"/>
                  <a:pt x="15478" y="13791"/>
                </a:cubicBezTo>
                <a:cubicBezTo>
                  <a:pt x="15452" y="13782"/>
                  <a:pt x="15394" y="13715"/>
                  <a:pt x="15379" y="13692"/>
                </a:cubicBezTo>
                <a:cubicBezTo>
                  <a:pt x="15338" y="13629"/>
                  <a:pt x="15355" y="13606"/>
                  <a:pt x="15379" y="13543"/>
                </a:cubicBezTo>
              </a:path>
              <a:path w="3697" h="1365">
                <a:moveTo>
                  <a:pt x="16049" y="13171"/>
                </a:moveTo>
                <a:cubicBezTo>
                  <a:pt x="16094" y="13094"/>
                  <a:pt x="16053" y="13027"/>
                  <a:pt x="15949" y="13047"/>
                </a:cubicBezTo>
                <a:cubicBezTo>
                  <a:pt x="15913" y="13054"/>
                  <a:pt x="15803" y="13108"/>
                  <a:pt x="15776" y="13146"/>
                </a:cubicBezTo>
                <a:cubicBezTo>
                  <a:pt x="15731" y="13208"/>
                  <a:pt x="15718" y="13277"/>
                  <a:pt x="15701" y="13345"/>
                </a:cubicBezTo>
                <a:cubicBezTo>
                  <a:pt x="15674" y="13449"/>
                  <a:pt x="15716" y="13513"/>
                  <a:pt x="15751" y="13618"/>
                </a:cubicBezTo>
                <a:cubicBezTo>
                  <a:pt x="15785" y="13720"/>
                  <a:pt x="15878" y="13847"/>
                  <a:pt x="15999" y="13841"/>
                </a:cubicBezTo>
                <a:cubicBezTo>
                  <a:pt x="16016" y="13833"/>
                  <a:pt x="16032" y="13824"/>
                  <a:pt x="16049" y="13816"/>
                </a:cubicBezTo>
              </a:path>
              <a:path w="3697" h="1365">
                <a:moveTo>
                  <a:pt x="16222" y="12650"/>
                </a:moveTo>
                <a:cubicBezTo>
                  <a:pt x="16337" y="12634"/>
                  <a:pt x="16344" y="12623"/>
                  <a:pt x="16421" y="12700"/>
                </a:cubicBezTo>
                <a:cubicBezTo>
                  <a:pt x="16429" y="12708"/>
                  <a:pt x="16438" y="12717"/>
                  <a:pt x="16446" y="12725"/>
                </a:cubicBezTo>
                <a:cubicBezTo>
                  <a:pt x="16404" y="12766"/>
                  <a:pt x="16380" y="12803"/>
                  <a:pt x="16346" y="12849"/>
                </a:cubicBezTo>
                <a:cubicBezTo>
                  <a:pt x="16304" y="12905"/>
                  <a:pt x="16269" y="12926"/>
                  <a:pt x="16321" y="12998"/>
                </a:cubicBezTo>
                <a:cubicBezTo>
                  <a:pt x="16368" y="13062"/>
                  <a:pt x="16383" y="13104"/>
                  <a:pt x="16470" y="13122"/>
                </a:cubicBezTo>
                <a:cubicBezTo>
                  <a:pt x="16522" y="13122"/>
                  <a:pt x="16540" y="13123"/>
                  <a:pt x="16570" y="13146"/>
                </a:cubicBezTo>
              </a:path>
              <a:path w="3697" h="1365">
                <a:moveTo>
                  <a:pt x="16718" y="13196"/>
                </a:moveTo>
                <a:cubicBezTo>
                  <a:pt x="16807" y="13450"/>
                  <a:pt x="16888" y="13667"/>
                  <a:pt x="17041" y="13891"/>
                </a:cubicBezTo>
                <a:cubicBezTo>
                  <a:pt x="17087" y="13937"/>
                  <a:pt x="17101" y="13949"/>
                  <a:pt x="17115" y="13990"/>
                </a:cubicBezTo>
              </a:path>
              <a:path w="3697" h="1365">
                <a:moveTo>
                  <a:pt x="17115" y="13345"/>
                </a:moveTo>
                <a:cubicBezTo>
                  <a:pt x="16928" y="13500"/>
                  <a:pt x="16706" y="13635"/>
                  <a:pt x="16570" y="13841"/>
                </a:cubicBezTo>
                <a:cubicBezTo>
                  <a:pt x="16553" y="13874"/>
                  <a:pt x="16537" y="13907"/>
                  <a:pt x="16520" y="139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Ink 22"/>
          <p:cNvSpPr/>
          <p:nvPr/>
        </p:nvSpPr>
        <p:spPr>
          <a:xfrm>
            <a:off x="2973240" y="5037120"/>
            <a:ext cx="1509840" cy="428760"/>
          </a:xfrm>
          <a:custGeom>
            <a:avLst/>
            <a:gdLst/>
            <a:ahLst/>
            <a:rect l="l" t="t" r="r" b="b"/>
            <a:pathLst>
              <a:path w="4193" h="1191">
                <a:moveTo>
                  <a:pt x="8260" y="14337"/>
                </a:moveTo>
                <a:cubicBezTo>
                  <a:pt x="8328" y="14371"/>
                  <a:pt x="8385" y="14365"/>
                  <a:pt x="8458" y="14387"/>
                </a:cubicBezTo>
                <a:cubicBezTo>
                  <a:pt x="8562" y="14418"/>
                  <a:pt x="8552" y="14410"/>
                  <a:pt x="8682" y="14387"/>
                </a:cubicBezTo>
              </a:path>
              <a:path w="4193" h="1191">
                <a:moveTo>
                  <a:pt x="9079" y="13990"/>
                </a:moveTo>
                <a:cubicBezTo>
                  <a:pt x="9079" y="14240"/>
                  <a:pt x="9088" y="14490"/>
                  <a:pt x="9103" y="14734"/>
                </a:cubicBezTo>
                <a:cubicBezTo>
                  <a:pt x="9107" y="14804"/>
                  <a:pt x="9077" y="15148"/>
                  <a:pt x="9128" y="15131"/>
                </a:cubicBezTo>
              </a:path>
              <a:path w="4193" h="1191">
                <a:moveTo>
                  <a:pt x="9475" y="14536"/>
                </a:moveTo>
                <a:cubicBezTo>
                  <a:pt x="9518" y="14578"/>
                  <a:pt x="9503" y="14583"/>
                  <a:pt x="9550" y="14560"/>
                </a:cubicBezTo>
              </a:path>
              <a:path w="4193" h="1191">
                <a:moveTo>
                  <a:pt x="10220" y="14486"/>
                </a:moveTo>
                <a:cubicBezTo>
                  <a:pt x="10193" y="14441"/>
                  <a:pt x="10185" y="14380"/>
                  <a:pt x="10120" y="14362"/>
                </a:cubicBezTo>
                <a:cubicBezTo>
                  <a:pt x="10047" y="14342"/>
                  <a:pt x="10021" y="14404"/>
                  <a:pt x="9971" y="14436"/>
                </a:cubicBezTo>
                <a:cubicBezTo>
                  <a:pt x="9886" y="14491"/>
                  <a:pt x="9897" y="14506"/>
                  <a:pt x="9897" y="14610"/>
                </a:cubicBezTo>
                <a:cubicBezTo>
                  <a:pt x="9897" y="14740"/>
                  <a:pt x="9931" y="14786"/>
                  <a:pt x="10021" y="14883"/>
                </a:cubicBezTo>
                <a:cubicBezTo>
                  <a:pt x="10029" y="14891"/>
                  <a:pt x="10038" y="14900"/>
                  <a:pt x="10046" y="14908"/>
                </a:cubicBezTo>
              </a:path>
              <a:path w="4193" h="1191">
                <a:moveTo>
                  <a:pt x="10666" y="14461"/>
                </a:moveTo>
                <a:cubicBezTo>
                  <a:pt x="10630" y="14435"/>
                  <a:pt x="10534" y="14360"/>
                  <a:pt x="10492" y="14436"/>
                </a:cubicBezTo>
                <a:cubicBezTo>
                  <a:pt x="10454" y="14506"/>
                  <a:pt x="10457" y="14614"/>
                  <a:pt x="10492" y="14684"/>
                </a:cubicBezTo>
                <a:cubicBezTo>
                  <a:pt x="10528" y="14756"/>
                  <a:pt x="10624" y="14832"/>
                  <a:pt x="10641" y="14908"/>
                </a:cubicBezTo>
                <a:cubicBezTo>
                  <a:pt x="10654" y="14968"/>
                  <a:pt x="10658" y="14999"/>
                  <a:pt x="10666" y="15056"/>
                </a:cubicBezTo>
                <a:cubicBezTo>
                  <a:pt x="10584" y="15103"/>
                  <a:pt x="10562" y="15108"/>
                  <a:pt x="10468" y="15056"/>
                </a:cubicBezTo>
                <a:cubicBezTo>
                  <a:pt x="10433" y="15037"/>
                  <a:pt x="10375" y="14971"/>
                  <a:pt x="10368" y="14932"/>
                </a:cubicBezTo>
                <a:cubicBezTo>
                  <a:pt x="10368" y="14871"/>
                  <a:pt x="10359" y="14855"/>
                  <a:pt x="10393" y="14833"/>
                </a:cubicBezTo>
              </a:path>
              <a:path w="4193" h="1191">
                <a:moveTo>
                  <a:pt x="11112" y="14461"/>
                </a:moveTo>
                <a:cubicBezTo>
                  <a:pt x="11129" y="14461"/>
                  <a:pt x="11145" y="14461"/>
                  <a:pt x="11162" y="14461"/>
                </a:cubicBezTo>
                <a:cubicBezTo>
                  <a:pt x="11122" y="14408"/>
                  <a:pt x="11128" y="14402"/>
                  <a:pt x="11063" y="14436"/>
                </a:cubicBezTo>
                <a:cubicBezTo>
                  <a:pt x="10957" y="14492"/>
                  <a:pt x="10943" y="14520"/>
                  <a:pt x="10939" y="14635"/>
                </a:cubicBezTo>
                <a:cubicBezTo>
                  <a:pt x="10935" y="14743"/>
                  <a:pt x="10953" y="14808"/>
                  <a:pt x="10988" y="14908"/>
                </a:cubicBezTo>
                <a:cubicBezTo>
                  <a:pt x="11019" y="14998"/>
                  <a:pt x="11037" y="15052"/>
                  <a:pt x="11112" y="15106"/>
                </a:cubicBezTo>
              </a:path>
              <a:path w="4193" h="1191">
                <a:moveTo>
                  <a:pt x="11336" y="14015"/>
                </a:moveTo>
                <a:cubicBezTo>
                  <a:pt x="11396" y="13992"/>
                  <a:pt x="11445" y="13969"/>
                  <a:pt x="11485" y="14039"/>
                </a:cubicBezTo>
                <a:cubicBezTo>
                  <a:pt x="11547" y="14146"/>
                  <a:pt x="11543" y="14200"/>
                  <a:pt x="11509" y="14312"/>
                </a:cubicBezTo>
                <a:cubicBezTo>
                  <a:pt x="11484" y="14394"/>
                  <a:pt x="11446" y="14455"/>
                  <a:pt x="11485" y="14536"/>
                </a:cubicBezTo>
                <a:cubicBezTo>
                  <a:pt x="11525" y="14621"/>
                  <a:pt x="11595" y="14656"/>
                  <a:pt x="11683" y="14660"/>
                </a:cubicBezTo>
                <a:cubicBezTo>
                  <a:pt x="11708" y="14660"/>
                  <a:pt x="11732" y="14660"/>
                  <a:pt x="11757" y="14660"/>
                </a:cubicBezTo>
              </a:path>
              <a:path w="4193" h="1191">
                <a:moveTo>
                  <a:pt x="11981" y="14362"/>
                </a:moveTo>
                <a:cubicBezTo>
                  <a:pt x="12074" y="14470"/>
                  <a:pt x="12116" y="14577"/>
                  <a:pt x="12179" y="14709"/>
                </a:cubicBezTo>
                <a:cubicBezTo>
                  <a:pt x="12237" y="14830"/>
                  <a:pt x="12306" y="14924"/>
                  <a:pt x="12378" y="15032"/>
                </a:cubicBezTo>
              </a:path>
              <a:path w="4193" h="1191">
                <a:moveTo>
                  <a:pt x="12452" y="14238"/>
                </a:moveTo>
                <a:cubicBezTo>
                  <a:pt x="12380" y="14336"/>
                  <a:pt x="12290" y="14431"/>
                  <a:pt x="12229" y="14536"/>
                </a:cubicBezTo>
                <a:cubicBezTo>
                  <a:pt x="12155" y="14663"/>
                  <a:pt x="12092" y="14815"/>
                  <a:pt x="12005" y="14932"/>
                </a:cubicBezTo>
                <a:cubicBezTo>
                  <a:pt x="11909" y="15029"/>
                  <a:pt x="11869" y="15081"/>
                  <a:pt x="11832" y="151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Ink 23"/>
          <p:cNvSpPr/>
          <p:nvPr/>
        </p:nvSpPr>
        <p:spPr>
          <a:xfrm>
            <a:off x="3643200" y="5643720"/>
            <a:ext cx="1206720" cy="384120"/>
          </a:xfrm>
          <a:custGeom>
            <a:avLst/>
            <a:gdLst/>
            <a:ahLst/>
            <a:rect l="l" t="t" r="r" b="b"/>
            <a:pathLst>
              <a:path w="3350" h="1067">
                <a:moveTo>
                  <a:pt x="10120" y="16148"/>
                </a:moveTo>
                <a:cubicBezTo>
                  <a:pt x="10210" y="16178"/>
                  <a:pt x="10276" y="16183"/>
                  <a:pt x="10368" y="16148"/>
                </a:cubicBezTo>
                <a:cubicBezTo>
                  <a:pt x="10440" y="16121"/>
                  <a:pt x="10504" y="16066"/>
                  <a:pt x="10567" y="16024"/>
                </a:cubicBezTo>
              </a:path>
              <a:path w="3350" h="1067">
                <a:moveTo>
                  <a:pt x="11187" y="15900"/>
                </a:moveTo>
                <a:cubicBezTo>
                  <a:pt x="11177" y="15820"/>
                  <a:pt x="11174" y="15781"/>
                  <a:pt x="11088" y="15776"/>
                </a:cubicBezTo>
                <a:cubicBezTo>
                  <a:pt x="11015" y="15772"/>
                  <a:pt x="10995" y="15815"/>
                  <a:pt x="10964" y="15875"/>
                </a:cubicBezTo>
                <a:cubicBezTo>
                  <a:pt x="10891" y="16015"/>
                  <a:pt x="10900" y="16053"/>
                  <a:pt x="10914" y="16197"/>
                </a:cubicBezTo>
                <a:cubicBezTo>
                  <a:pt x="10926" y="16327"/>
                  <a:pt x="10959" y="16401"/>
                  <a:pt x="11013" y="16520"/>
                </a:cubicBezTo>
                <a:cubicBezTo>
                  <a:pt x="11037" y="16568"/>
                  <a:pt x="11043" y="16585"/>
                  <a:pt x="11088" y="16570"/>
                </a:cubicBezTo>
              </a:path>
              <a:path w="3350" h="1067">
                <a:moveTo>
                  <a:pt x="11509" y="15850"/>
                </a:moveTo>
                <a:cubicBezTo>
                  <a:pt x="11458" y="15819"/>
                  <a:pt x="11412" y="15809"/>
                  <a:pt x="11361" y="15850"/>
                </a:cubicBezTo>
                <a:cubicBezTo>
                  <a:pt x="11310" y="15892"/>
                  <a:pt x="11297" y="15986"/>
                  <a:pt x="11311" y="16049"/>
                </a:cubicBezTo>
                <a:cubicBezTo>
                  <a:pt x="11332" y="16147"/>
                  <a:pt x="11381" y="16249"/>
                  <a:pt x="11410" y="16346"/>
                </a:cubicBezTo>
                <a:cubicBezTo>
                  <a:pt x="11422" y="16387"/>
                  <a:pt x="11481" y="16575"/>
                  <a:pt x="11410" y="16594"/>
                </a:cubicBezTo>
                <a:cubicBezTo>
                  <a:pt x="11342" y="16613"/>
                  <a:pt x="11284" y="16562"/>
                  <a:pt x="11237" y="16520"/>
                </a:cubicBezTo>
                <a:cubicBezTo>
                  <a:pt x="11210" y="16496"/>
                  <a:pt x="11178" y="16409"/>
                  <a:pt x="11187" y="16371"/>
                </a:cubicBezTo>
                <a:cubicBezTo>
                  <a:pt x="11212" y="16321"/>
                  <a:pt x="11220" y="16305"/>
                  <a:pt x="11237" y="16272"/>
                </a:cubicBezTo>
              </a:path>
              <a:path w="3350" h="1067">
                <a:moveTo>
                  <a:pt x="11832" y="16073"/>
                </a:moveTo>
                <a:cubicBezTo>
                  <a:pt x="11857" y="16007"/>
                  <a:pt x="11867" y="16007"/>
                  <a:pt x="11832" y="15949"/>
                </a:cubicBezTo>
                <a:cubicBezTo>
                  <a:pt x="11656" y="15929"/>
                  <a:pt x="11662" y="16005"/>
                  <a:pt x="11609" y="16148"/>
                </a:cubicBezTo>
                <a:cubicBezTo>
                  <a:pt x="11572" y="16248"/>
                  <a:pt x="11584" y="16319"/>
                  <a:pt x="11609" y="16421"/>
                </a:cubicBezTo>
                <a:cubicBezTo>
                  <a:pt x="11637" y="16534"/>
                  <a:pt x="11663" y="16624"/>
                  <a:pt x="11733" y="16718"/>
                </a:cubicBezTo>
                <a:cubicBezTo>
                  <a:pt x="11741" y="16726"/>
                  <a:pt x="11749" y="16735"/>
                  <a:pt x="11757" y="16743"/>
                </a:cubicBezTo>
              </a:path>
              <a:path w="3350" h="1067">
                <a:moveTo>
                  <a:pt x="12030" y="15825"/>
                </a:moveTo>
                <a:cubicBezTo>
                  <a:pt x="12078" y="15749"/>
                  <a:pt x="12129" y="15599"/>
                  <a:pt x="12229" y="15726"/>
                </a:cubicBezTo>
                <a:cubicBezTo>
                  <a:pt x="12279" y="15789"/>
                  <a:pt x="12288" y="15832"/>
                  <a:pt x="12254" y="15900"/>
                </a:cubicBezTo>
                <a:cubicBezTo>
                  <a:pt x="12224" y="15959"/>
                  <a:pt x="12146" y="16027"/>
                  <a:pt x="12154" y="16098"/>
                </a:cubicBezTo>
                <a:cubicBezTo>
                  <a:pt x="12159" y="16145"/>
                  <a:pt x="12192" y="16262"/>
                  <a:pt x="12229" y="16297"/>
                </a:cubicBezTo>
                <a:cubicBezTo>
                  <a:pt x="12245" y="16305"/>
                  <a:pt x="12262" y="16313"/>
                  <a:pt x="12278" y="16321"/>
                </a:cubicBezTo>
              </a:path>
              <a:path w="3350" h="1067">
                <a:moveTo>
                  <a:pt x="12601" y="15825"/>
                </a:moveTo>
                <a:cubicBezTo>
                  <a:pt x="12650" y="15905"/>
                  <a:pt x="12717" y="15984"/>
                  <a:pt x="12750" y="16073"/>
                </a:cubicBezTo>
                <a:cubicBezTo>
                  <a:pt x="12798" y="16203"/>
                  <a:pt x="12808" y="16324"/>
                  <a:pt x="12874" y="16446"/>
                </a:cubicBezTo>
              </a:path>
              <a:path w="3350" h="1067">
                <a:moveTo>
                  <a:pt x="12923" y="15925"/>
                </a:moveTo>
                <a:cubicBezTo>
                  <a:pt x="12837" y="16019"/>
                  <a:pt x="12771" y="16116"/>
                  <a:pt x="12700" y="16222"/>
                </a:cubicBezTo>
                <a:cubicBezTo>
                  <a:pt x="12639" y="16313"/>
                  <a:pt x="12582" y="16406"/>
                  <a:pt x="12526" y="16495"/>
                </a:cubicBezTo>
                <a:cubicBezTo>
                  <a:pt x="12502" y="16545"/>
                  <a:pt x="12494" y="16561"/>
                  <a:pt x="12477" y="16594"/>
                </a:cubicBezTo>
              </a:path>
              <a:path w="3350" h="1067">
                <a:moveTo>
                  <a:pt x="13146" y="16073"/>
                </a:moveTo>
                <a:cubicBezTo>
                  <a:pt x="13187" y="16083"/>
                  <a:pt x="13365" y="16153"/>
                  <a:pt x="13419" y="16123"/>
                </a:cubicBezTo>
                <a:cubicBezTo>
                  <a:pt x="13436" y="16106"/>
                  <a:pt x="13452" y="16090"/>
                  <a:pt x="13469" y="16073"/>
                </a:cubicBezTo>
              </a:path>
              <a:path w="3350" h="1067">
                <a:moveTo>
                  <a:pt x="13146" y="16173"/>
                </a:moveTo>
                <a:cubicBezTo>
                  <a:pt x="13203" y="16272"/>
                  <a:pt x="13243" y="16339"/>
                  <a:pt x="13345" y="16396"/>
                </a:cubicBezTo>
                <a:cubicBezTo>
                  <a:pt x="13395" y="16421"/>
                  <a:pt x="13411" y="16429"/>
                  <a:pt x="13444" y="1639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Ink 24"/>
          <p:cNvSpPr/>
          <p:nvPr/>
        </p:nvSpPr>
        <p:spPr>
          <a:xfrm>
            <a:off x="5081760" y="5653080"/>
            <a:ext cx="839520" cy="411120"/>
          </a:xfrm>
          <a:custGeom>
            <a:avLst/>
            <a:gdLst/>
            <a:ahLst/>
            <a:rect l="l" t="t" r="r" b="b"/>
            <a:pathLst>
              <a:path w="2333" h="1142">
                <a:moveTo>
                  <a:pt x="14114" y="15726"/>
                </a:moveTo>
                <a:cubicBezTo>
                  <a:pt x="14122" y="15718"/>
                  <a:pt x="14131" y="15709"/>
                  <a:pt x="14139" y="15701"/>
                </a:cubicBezTo>
                <a:cubicBezTo>
                  <a:pt x="14179" y="15734"/>
                  <a:pt x="14255" y="15763"/>
                  <a:pt x="14288" y="15801"/>
                </a:cubicBezTo>
                <a:cubicBezTo>
                  <a:pt x="14316" y="15834"/>
                  <a:pt x="14330" y="15868"/>
                  <a:pt x="14362" y="15900"/>
                </a:cubicBezTo>
              </a:path>
              <a:path w="2333" h="1142">
                <a:moveTo>
                  <a:pt x="15032" y="15925"/>
                </a:moveTo>
                <a:cubicBezTo>
                  <a:pt x="15018" y="15904"/>
                  <a:pt x="14933" y="15859"/>
                  <a:pt x="14883" y="15875"/>
                </a:cubicBezTo>
                <a:cubicBezTo>
                  <a:pt x="14813" y="15897"/>
                  <a:pt x="14774" y="15928"/>
                  <a:pt x="14734" y="15999"/>
                </a:cubicBezTo>
                <a:cubicBezTo>
                  <a:pt x="14692" y="16074"/>
                  <a:pt x="14709" y="16163"/>
                  <a:pt x="14709" y="16247"/>
                </a:cubicBezTo>
                <a:cubicBezTo>
                  <a:pt x="14709" y="16348"/>
                  <a:pt x="14743" y="16429"/>
                  <a:pt x="14784" y="16520"/>
                </a:cubicBezTo>
              </a:path>
              <a:path w="2333" h="1142">
                <a:moveTo>
                  <a:pt x="15280" y="15974"/>
                </a:moveTo>
                <a:cubicBezTo>
                  <a:pt x="15272" y="15966"/>
                  <a:pt x="15263" y="15957"/>
                  <a:pt x="15255" y="15949"/>
                </a:cubicBezTo>
                <a:cubicBezTo>
                  <a:pt x="15224" y="16001"/>
                  <a:pt x="15216" y="16081"/>
                  <a:pt x="15230" y="16148"/>
                </a:cubicBezTo>
                <a:cubicBezTo>
                  <a:pt x="15250" y="16243"/>
                  <a:pt x="15255" y="16323"/>
                  <a:pt x="15255" y="16421"/>
                </a:cubicBezTo>
                <a:cubicBezTo>
                  <a:pt x="15255" y="16465"/>
                  <a:pt x="15258" y="16479"/>
                  <a:pt x="15230" y="16495"/>
                </a:cubicBezTo>
                <a:cubicBezTo>
                  <a:pt x="15182" y="16468"/>
                  <a:pt x="15102" y="16404"/>
                  <a:pt x="15106" y="16346"/>
                </a:cubicBezTo>
                <a:cubicBezTo>
                  <a:pt x="15114" y="16330"/>
                  <a:pt x="15123" y="16313"/>
                  <a:pt x="15131" y="16297"/>
                </a:cubicBezTo>
              </a:path>
              <a:path w="2333" h="1142">
                <a:moveTo>
                  <a:pt x="15677" y="16123"/>
                </a:moveTo>
                <a:cubicBezTo>
                  <a:pt x="15596" y="16123"/>
                  <a:pt x="15514" y="16108"/>
                  <a:pt x="15478" y="16197"/>
                </a:cubicBezTo>
                <a:cubicBezTo>
                  <a:pt x="15426" y="16326"/>
                  <a:pt x="15467" y="16439"/>
                  <a:pt x="15478" y="16570"/>
                </a:cubicBezTo>
                <a:cubicBezTo>
                  <a:pt x="15478" y="16643"/>
                  <a:pt x="15477" y="16667"/>
                  <a:pt x="15528" y="16694"/>
                </a:cubicBezTo>
              </a:path>
              <a:path w="2333" h="1142">
                <a:moveTo>
                  <a:pt x="15900" y="15701"/>
                </a:moveTo>
                <a:cubicBezTo>
                  <a:pt x="16003" y="15709"/>
                  <a:pt x="16019" y="15716"/>
                  <a:pt x="16098" y="15776"/>
                </a:cubicBezTo>
                <a:cubicBezTo>
                  <a:pt x="16106" y="15784"/>
                  <a:pt x="16115" y="15793"/>
                  <a:pt x="16123" y="15801"/>
                </a:cubicBezTo>
                <a:cubicBezTo>
                  <a:pt x="16066" y="15856"/>
                  <a:pt x="16055" y="15888"/>
                  <a:pt x="16024" y="15949"/>
                </a:cubicBezTo>
                <a:cubicBezTo>
                  <a:pt x="16010" y="15977"/>
                  <a:pt x="16007" y="16078"/>
                  <a:pt x="16024" y="16123"/>
                </a:cubicBezTo>
                <a:cubicBezTo>
                  <a:pt x="16037" y="16157"/>
                  <a:pt x="16054" y="16189"/>
                  <a:pt x="16073" y="16222"/>
                </a:cubicBezTo>
              </a:path>
              <a:path w="2333" h="1142">
                <a:moveTo>
                  <a:pt x="16197" y="16049"/>
                </a:moveTo>
                <a:cubicBezTo>
                  <a:pt x="16246" y="16170"/>
                  <a:pt x="16249" y="16268"/>
                  <a:pt x="16272" y="16396"/>
                </a:cubicBezTo>
                <a:cubicBezTo>
                  <a:pt x="16303" y="16519"/>
                  <a:pt x="16315" y="16576"/>
                  <a:pt x="16321" y="16669"/>
                </a:cubicBezTo>
              </a:path>
              <a:path w="2333" h="1142">
                <a:moveTo>
                  <a:pt x="16446" y="16247"/>
                </a:moveTo>
                <a:cubicBezTo>
                  <a:pt x="16318" y="16358"/>
                  <a:pt x="16197" y="16454"/>
                  <a:pt x="16073" y="16570"/>
                </a:cubicBezTo>
                <a:cubicBezTo>
                  <a:pt x="15980" y="16658"/>
                  <a:pt x="15891" y="16752"/>
                  <a:pt x="15801" y="1684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Verify:</a:t>
            </a:r>
            <a:br>
              <a:rPr sz="4000"/>
            </a:br>
            <a:r>
              <a:rPr b="0" lang="en-US" sz="3500" spc="-1" strike="noStrike">
                <a:solidFill>
                  <a:srgbClr val="d6d8c0"/>
                </a:solidFill>
                <a:latin typeface="Arial"/>
              </a:rPr>
              <a:t>4tan</a:t>
            </a:r>
            <a:r>
              <a:rPr b="0" lang="en-US" sz="3500" spc="-1" strike="noStrike" baseline="30000">
                <a:solidFill>
                  <a:srgbClr val="d6d8c0"/>
                </a:solidFill>
                <a:latin typeface="Arial"/>
              </a:rPr>
              <a:t>4</a:t>
            </a:r>
            <a:r>
              <a:rPr b="0" lang="en-US" sz="3500" spc="-1" strike="noStrike">
                <a:solidFill>
                  <a:srgbClr val="d6d8c0"/>
                </a:solidFill>
                <a:latin typeface="Arial"/>
              </a:rPr>
              <a:t>x + tan</a:t>
            </a:r>
            <a:r>
              <a:rPr b="0" lang="en-US" sz="3500" spc="-1" strike="noStrike" baseline="30000">
                <a:solidFill>
                  <a:srgbClr val="d6d8c0"/>
                </a:solidFill>
                <a:latin typeface="Arial"/>
              </a:rPr>
              <a:t>2</a:t>
            </a:r>
            <a:r>
              <a:rPr b="0" lang="en-US" sz="3500" spc="-1" strike="noStrike">
                <a:solidFill>
                  <a:srgbClr val="d6d8c0"/>
                </a:solidFill>
                <a:latin typeface="Arial"/>
              </a:rPr>
              <a:t>x – 3 = sec</a:t>
            </a:r>
            <a:r>
              <a:rPr b="0" lang="en-US" sz="3500" spc="-1" strike="noStrike" baseline="30000">
                <a:solidFill>
                  <a:srgbClr val="d6d8c0"/>
                </a:solidFill>
                <a:latin typeface="Arial"/>
              </a:rPr>
              <a:t>2</a:t>
            </a:r>
            <a:r>
              <a:rPr b="0" lang="en-US" sz="3500" spc="-1" strike="noStrike">
                <a:solidFill>
                  <a:srgbClr val="d6d8c0"/>
                </a:solidFill>
                <a:latin typeface="Arial"/>
              </a:rPr>
              <a:t>x(4tan</a:t>
            </a:r>
            <a:r>
              <a:rPr b="0" lang="en-US" sz="3500" spc="-1" strike="noStrike" baseline="30000">
                <a:solidFill>
                  <a:srgbClr val="d6d8c0"/>
                </a:solidFill>
                <a:latin typeface="Arial"/>
              </a:rPr>
              <a:t>2</a:t>
            </a:r>
            <a:r>
              <a:rPr b="0" lang="en-US" sz="3500" spc="-1" strike="noStrike">
                <a:solidFill>
                  <a:srgbClr val="d6d8c0"/>
                </a:solidFill>
                <a:latin typeface="Arial"/>
              </a:rPr>
              <a:t>x – 3)</a:t>
            </a:r>
            <a:endParaRPr b="0" lang="en-US" sz="35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264" name="Ink 3"/>
          <p:cNvSpPr/>
          <p:nvPr/>
        </p:nvSpPr>
        <p:spPr>
          <a:xfrm>
            <a:off x="4357800" y="1857240"/>
            <a:ext cx="4349520" cy="2125800"/>
          </a:xfrm>
          <a:custGeom>
            <a:avLst/>
            <a:gdLst/>
            <a:ahLst/>
            <a:rect l="l" t="t" r="r" b="b"/>
            <a:pathLst>
              <a:path w="12081" h="5905">
                <a:moveTo>
                  <a:pt x="13469" y="5159"/>
                </a:moveTo>
                <a:cubicBezTo>
                  <a:pt x="13458" y="5229"/>
                  <a:pt x="13457" y="5255"/>
                  <a:pt x="13469" y="5333"/>
                </a:cubicBezTo>
                <a:cubicBezTo>
                  <a:pt x="13483" y="5425"/>
                  <a:pt x="13499" y="5423"/>
                  <a:pt x="13593" y="5432"/>
                </a:cubicBezTo>
                <a:cubicBezTo>
                  <a:pt x="13846" y="5456"/>
                  <a:pt x="14121" y="5432"/>
                  <a:pt x="14362" y="5457"/>
                </a:cubicBezTo>
                <a:cubicBezTo>
                  <a:pt x="14429" y="5464"/>
                  <a:pt x="14506" y="5432"/>
                  <a:pt x="14585" y="5432"/>
                </a:cubicBezTo>
                <a:cubicBezTo>
                  <a:pt x="14667" y="5432"/>
                  <a:pt x="14727" y="5410"/>
                  <a:pt x="14808" y="5407"/>
                </a:cubicBezTo>
                <a:cubicBezTo>
                  <a:pt x="14953" y="5401"/>
                  <a:pt x="15143" y="5371"/>
                  <a:pt x="15280" y="5383"/>
                </a:cubicBezTo>
                <a:cubicBezTo>
                  <a:pt x="15353" y="5389"/>
                  <a:pt x="15423" y="5407"/>
                  <a:pt x="15503" y="5407"/>
                </a:cubicBezTo>
                <a:cubicBezTo>
                  <a:pt x="15598" y="5407"/>
                  <a:pt x="15707" y="5415"/>
                  <a:pt x="15801" y="5432"/>
                </a:cubicBezTo>
                <a:cubicBezTo>
                  <a:pt x="15877" y="5446"/>
                  <a:pt x="15943" y="5457"/>
                  <a:pt x="16024" y="5457"/>
                </a:cubicBezTo>
                <a:cubicBezTo>
                  <a:pt x="16152" y="5457"/>
                  <a:pt x="16283" y="5447"/>
                  <a:pt x="16396" y="5432"/>
                </a:cubicBezTo>
                <a:cubicBezTo>
                  <a:pt x="16413" y="5432"/>
                  <a:pt x="16429" y="5432"/>
                  <a:pt x="16446" y="5432"/>
                </a:cubicBezTo>
                <a:cubicBezTo>
                  <a:pt x="16460" y="5376"/>
                  <a:pt x="16468" y="5344"/>
                  <a:pt x="16470" y="5283"/>
                </a:cubicBezTo>
                <a:cubicBezTo>
                  <a:pt x="16470" y="5234"/>
                  <a:pt x="16470" y="5217"/>
                  <a:pt x="16470" y="5184"/>
                </a:cubicBezTo>
              </a:path>
              <a:path w="12081" h="5905">
                <a:moveTo>
                  <a:pt x="12105" y="7243"/>
                </a:moveTo>
                <a:cubicBezTo>
                  <a:pt x="12164" y="7279"/>
                  <a:pt x="12229" y="7268"/>
                  <a:pt x="12303" y="7268"/>
                </a:cubicBezTo>
                <a:cubicBezTo>
                  <a:pt x="12390" y="7268"/>
                  <a:pt x="12467" y="7230"/>
                  <a:pt x="12551" y="7218"/>
                </a:cubicBezTo>
                <a:cubicBezTo>
                  <a:pt x="12621" y="7208"/>
                  <a:pt x="12645" y="7184"/>
                  <a:pt x="12700" y="7169"/>
                </a:cubicBezTo>
                <a:cubicBezTo>
                  <a:pt x="12717" y="7169"/>
                  <a:pt x="12733" y="7169"/>
                  <a:pt x="12750" y="7169"/>
                </a:cubicBezTo>
              </a:path>
              <a:path w="12081" h="5905">
                <a:moveTo>
                  <a:pt x="12129" y="7441"/>
                </a:moveTo>
                <a:cubicBezTo>
                  <a:pt x="12165" y="7455"/>
                  <a:pt x="12274" y="7459"/>
                  <a:pt x="12328" y="7441"/>
                </a:cubicBezTo>
                <a:cubicBezTo>
                  <a:pt x="12388" y="7420"/>
                  <a:pt x="12460" y="7395"/>
                  <a:pt x="12526" y="7392"/>
                </a:cubicBezTo>
                <a:cubicBezTo>
                  <a:pt x="12584" y="7389"/>
                  <a:pt x="12642" y="7392"/>
                  <a:pt x="12700" y="7392"/>
                </a:cubicBezTo>
              </a:path>
              <a:path w="12081" h="5905">
                <a:moveTo>
                  <a:pt x="13295" y="6499"/>
                </a:moveTo>
                <a:cubicBezTo>
                  <a:pt x="13240" y="6570"/>
                  <a:pt x="13218" y="6644"/>
                  <a:pt x="13171" y="6722"/>
                </a:cubicBezTo>
                <a:cubicBezTo>
                  <a:pt x="13107" y="6828"/>
                  <a:pt x="13083" y="6927"/>
                  <a:pt x="13047" y="7045"/>
                </a:cubicBezTo>
                <a:cubicBezTo>
                  <a:pt x="13004" y="7187"/>
                  <a:pt x="12963" y="7315"/>
                  <a:pt x="12948" y="7466"/>
                </a:cubicBezTo>
                <a:cubicBezTo>
                  <a:pt x="12936" y="7587"/>
                  <a:pt x="12981" y="7655"/>
                  <a:pt x="12998" y="7764"/>
                </a:cubicBezTo>
                <a:cubicBezTo>
                  <a:pt x="13011" y="7848"/>
                  <a:pt x="13035" y="7927"/>
                  <a:pt x="13047" y="8012"/>
                </a:cubicBezTo>
                <a:cubicBezTo>
                  <a:pt x="13055" y="8068"/>
                  <a:pt x="13064" y="8133"/>
                  <a:pt x="13097" y="8186"/>
                </a:cubicBezTo>
                <a:cubicBezTo>
                  <a:pt x="13105" y="8194"/>
                  <a:pt x="13114" y="8202"/>
                  <a:pt x="13122" y="8210"/>
                </a:cubicBezTo>
              </a:path>
              <a:path w="12081" h="5905">
                <a:moveTo>
                  <a:pt x="17686" y="6176"/>
                </a:moveTo>
                <a:cubicBezTo>
                  <a:pt x="17709" y="6239"/>
                  <a:pt x="17722" y="6328"/>
                  <a:pt x="17760" y="6375"/>
                </a:cubicBezTo>
                <a:cubicBezTo>
                  <a:pt x="17793" y="6416"/>
                  <a:pt x="17814" y="6497"/>
                  <a:pt x="17835" y="6548"/>
                </a:cubicBezTo>
                <a:cubicBezTo>
                  <a:pt x="17876" y="6645"/>
                  <a:pt x="17909" y="6730"/>
                  <a:pt x="17934" y="6821"/>
                </a:cubicBezTo>
                <a:cubicBezTo>
                  <a:pt x="17966" y="6938"/>
                  <a:pt x="17980" y="7095"/>
                  <a:pt x="17959" y="7218"/>
                </a:cubicBezTo>
                <a:cubicBezTo>
                  <a:pt x="17940" y="7332"/>
                  <a:pt x="17879" y="7439"/>
                  <a:pt x="17835" y="7541"/>
                </a:cubicBezTo>
                <a:cubicBezTo>
                  <a:pt x="17797" y="7630"/>
                  <a:pt x="17772" y="7724"/>
                  <a:pt x="17735" y="7813"/>
                </a:cubicBezTo>
                <a:cubicBezTo>
                  <a:pt x="17710" y="7873"/>
                  <a:pt x="17651" y="7921"/>
                  <a:pt x="17636" y="7987"/>
                </a:cubicBezTo>
                <a:cubicBezTo>
                  <a:pt x="17636" y="8032"/>
                  <a:pt x="17639" y="8045"/>
                  <a:pt x="17611" y="8062"/>
                </a:cubicBezTo>
              </a:path>
              <a:path w="12081" h="5905">
                <a:moveTo>
                  <a:pt x="18876" y="6028"/>
                </a:moveTo>
                <a:cubicBezTo>
                  <a:pt x="18866" y="6154"/>
                  <a:pt x="18828" y="6170"/>
                  <a:pt x="18777" y="6276"/>
                </a:cubicBezTo>
                <a:cubicBezTo>
                  <a:pt x="18707" y="6420"/>
                  <a:pt x="18673" y="6594"/>
                  <a:pt x="18628" y="6747"/>
                </a:cubicBezTo>
                <a:cubicBezTo>
                  <a:pt x="18584" y="6895"/>
                  <a:pt x="18554" y="7016"/>
                  <a:pt x="18554" y="7169"/>
                </a:cubicBezTo>
                <a:cubicBezTo>
                  <a:pt x="18554" y="7275"/>
                  <a:pt x="18565" y="7365"/>
                  <a:pt x="18579" y="7466"/>
                </a:cubicBezTo>
                <a:cubicBezTo>
                  <a:pt x="18592" y="7564"/>
                  <a:pt x="18629" y="7633"/>
                  <a:pt x="18678" y="7714"/>
                </a:cubicBezTo>
                <a:cubicBezTo>
                  <a:pt x="18715" y="7776"/>
                  <a:pt x="18728" y="7803"/>
                  <a:pt x="18777" y="7838"/>
                </a:cubicBezTo>
              </a:path>
              <a:path w="12081" h="5905">
                <a:moveTo>
                  <a:pt x="19100" y="6598"/>
                </a:moveTo>
                <a:cubicBezTo>
                  <a:pt x="19100" y="6697"/>
                  <a:pt x="19064" y="6894"/>
                  <a:pt x="19124" y="6970"/>
                </a:cubicBezTo>
                <a:cubicBezTo>
                  <a:pt x="19166" y="7023"/>
                  <a:pt x="19207" y="7065"/>
                  <a:pt x="19273" y="7069"/>
                </a:cubicBezTo>
                <a:cubicBezTo>
                  <a:pt x="19333" y="7072"/>
                  <a:pt x="19369" y="7046"/>
                  <a:pt x="19422" y="7020"/>
                </a:cubicBezTo>
              </a:path>
              <a:path w="12081" h="5905">
                <a:moveTo>
                  <a:pt x="19422" y="6400"/>
                </a:moveTo>
                <a:cubicBezTo>
                  <a:pt x="19430" y="6504"/>
                  <a:pt x="19447" y="6562"/>
                  <a:pt x="19447" y="6672"/>
                </a:cubicBezTo>
                <a:cubicBezTo>
                  <a:pt x="19447" y="6783"/>
                  <a:pt x="19469" y="6885"/>
                  <a:pt x="19472" y="6995"/>
                </a:cubicBezTo>
                <a:cubicBezTo>
                  <a:pt x="19476" y="7113"/>
                  <a:pt x="19492" y="7225"/>
                  <a:pt x="19496" y="7342"/>
                </a:cubicBezTo>
                <a:cubicBezTo>
                  <a:pt x="19499" y="7437"/>
                  <a:pt x="19468" y="7732"/>
                  <a:pt x="19521" y="7714"/>
                </a:cubicBezTo>
              </a:path>
              <a:path w="12081" h="5905">
                <a:moveTo>
                  <a:pt x="19844" y="6697"/>
                </a:moveTo>
                <a:cubicBezTo>
                  <a:pt x="19844" y="6948"/>
                  <a:pt x="19849" y="7192"/>
                  <a:pt x="19869" y="7441"/>
                </a:cubicBezTo>
                <a:cubicBezTo>
                  <a:pt x="19875" y="7509"/>
                  <a:pt x="19870" y="7626"/>
                  <a:pt x="19893" y="7689"/>
                </a:cubicBezTo>
                <a:cubicBezTo>
                  <a:pt x="19898" y="7704"/>
                  <a:pt x="19918" y="7803"/>
                  <a:pt x="19918" y="7739"/>
                </a:cubicBezTo>
              </a:path>
              <a:path w="12081" h="5905">
                <a:moveTo>
                  <a:pt x="19645" y="7169"/>
                </a:moveTo>
                <a:cubicBezTo>
                  <a:pt x="19749" y="7169"/>
                  <a:pt x="19842" y="7188"/>
                  <a:pt x="19943" y="7193"/>
                </a:cubicBezTo>
                <a:cubicBezTo>
                  <a:pt x="20025" y="7197"/>
                  <a:pt x="20104" y="7240"/>
                  <a:pt x="20191" y="7218"/>
                </a:cubicBezTo>
                <a:cubicBezTo>
                  <a:pt x="20257" y="7201"/>
                  <a:pt x="20285" y="7168"/>
                  <a:pt x="20340" y="7144"/>
                </a:cubicBezTo>
                <a:cubicBezTo>
                  <a:pt x="20348" y="7144"/>
                  <a:pt x="20357" y="7144"/>
                  <a:pt x="20365" y="7144"/>
                </a:cubicBezTo>
              </a:path>
              <a:path w="12081" h="5905">
                <a:moveTo>
                  <a:pt x="20389" y="7119"/>
                </a:moveTo>
                <a:cubicBezTo>
                  <a:pt x="20345" y="7151"/>
                  <a:pt x="20280" y="7211"/>
                  <a:pt x="20265" y="7268"/>
                </a:cubicBezTo>
                <a:cubicBezTo>
                  <a:pt x="20243" y="7349"/>
                  <a:pt x="20241" y="7430"/>
                  <a:pt x="20241" y="7516"/>
                </a:cubicBezTo>
                <a:cubicBezTo>
                  <a:pt x="20241" y="7594"/>
                  <a:pt x="20226" y="7611"/>
                  <a:pt x="20265" y="7640"/>
                </a:cubicBezTo>
                <a:cubicBezTo>
                  <a:pt x="20363" y="7628"/>
                  <a:pt x="20394" y="7596"/>
                  <a:pt x="20414" y="7491"/>
                </a:cubicBezTo>
                <a:cubicBezTo>
                  <a:pt x="20426" y="7427"/>
                  <a:pt x="20429" y="7354"/>
                  <a:pt x="20439" y="7293"/>
                </a:cubicBezTo>
                <a:cubicBezTo>
                  <a:pt x="20439" y="7241"/>
                  <a:pt x="20438" y="7223"/>
                  <a:pt x="20414" y="7193"/>
                </a:cubicBezTo>
                <a:cubicBezTo>
                  <a:pt x="20414" y="7269"/>
                  <a:pt x="20416" y="7347"/>
                  <a:pt x="20439" y="7417"/>
                </a:cubicBezTo>
                <a:cubicBezTo>
                  <a:pt x="20462" y="7485"/>
                  <a:pt x="20515" y="7562"/>
                  <a:pt x="20563" y="7615"/>
                </a:cubicBezTo>
                <a:cubicBezTo>
                  <a:pt x="20608" y="7665"/>
                  <a:pt x="20649" y="7645"/>
                  <a:pt x="20662" y="7590"/>
                </a:cubicBezTo>
              </a:path>
              <a:path w="12081" h="5905">
                <a:moveTo>
                  <a:pt x="20638" y="7218"/>
                </a:moveTo>
                <a:cubicBezTo>
                  <a:pt x="20645" y="7288"/>
                  <a:pt x="20644" y="7371"/>
                  <a:pt x="20662" y="7441"/>
                </a:cubicBezTo>
                <a:cubicBezTo>
                  <a:pt x="20677" y="7498"/>
                  <a:pt x="20689" y="7589"/>
                  <a:pt x="20712" y="7640"/>
                </a:cubicBezTo>
                <a:cubicBezTo>
                  <a:pt x="20737" y="7665"/>
                  <a:pt x="20745" y="7673"/>
                  <a:pt x="20762" y="7689"/>
                </a:cubicBezTo>
                <a:cubicBezTo>
                  <a:pt x="20753" y="7619"/>
                  <a:pt x="20737" y="7564"/>
                  <a:pt x="20737" y="7491"/>
                </a:cubicBezTo>
                <a:cubicBezTo>
                  <a:pt x="20737" y="7421"/>
                  <a:pt x="20745" y="7359"/>
                  <a:pt x="20762" y="7293"/>
                </a:cubicBezTo>
                <a:cubicBezTo>
                  <a:pt x="20782" y="7232"/>
                  <a:pt x="20779" y="7217"/>
                  <a:pt x="20811" y="7193"/>
                </a:cubicBezTo>
                <a:cubicBezTo>
                  <a:pt x="20852" y="7234"/>
                  <a:pt x="20876" y="7272"/>
                  <a:pt x="20910" y="7317"/>
                </a:cubicBezTo>
                <a:cubicBezTo>
                  <a:pt x="20944" y="7363"/>
                  <a:pt x="20975" y="7441"/>
                  <a:pt x="20985" y="7491"/>
                </a:cubicBezTo>
                <a:cubicBezTo>
                  <a:pt x="21000" y="7565"/>
                  <a:pt x="21010" y="7590"/>
                  <a:pt x="21010" y="7665"/>
                </a:cubicBezTo>
              </a:path>
              <a:path w="12081" h="5905">
                <a:moveTo>
                  <a:pt x="21034" y="6524"/>
                </a:moveTo>
                <a:cubicBezTo>
                  <a:pt x="21114" y="6458"/>
                  <a:pt x="21183" y="6393"/>
                  <a:pt x="21208" y="6548"/>
                </a:cubicBezTo>
                <a:cubicBezTo>
                  <a:pt x="21224" y="6650"/>
                  <a:pt x="21178" y="6684"/>
                  <a:pt x="21158" y="6772"/>
                </a:cubicBezTo>
                <a:cubicBezTo>
                  <a:pt x="21146" y="6827"/>
                  <a:pt x="21150" y="6905"/>
                  <a:pt x="21183" y="6945"/>
                </a:cubicBezTo>
                <a:cubicBezTo>
                  <a:pt x="21217" y="6987"/>
                  <a:pt x="21258" y="6970"/>
                  <a:pt x="21307" y="6970"/>
                </a:cubicBezTo>
              </a:path>
              <a:path w="12081" h="5905">
                <a:moveTo>
                  <a:pt x="21456" y="7094"/>
                </a:moveTo>
                <a:cubicBezTo>
                  <a:pt x="21545" y="7195"/>
                  <a:pt x="21545" y="7293"/>
                  <a:pt x="21580" y="7417"/>
                </a:cubicBezTo>
                <a:cubicBezTo>
                  <a:pt x="21606" y="7509"/>
                  <a:pt x="21723" y="7608"/>
                  <a:pt x="21779" y="7689"/>
                </a:cubicBezTo>
                <a:cubicBezTo>
                  <a:pt x="21825" y="7756"/>
                  <a:pt x="21867" y="7726"/>
                  <a:pt x="21927" y="7714"/>
                </a:cubicBezTo>
              </a:path>
              <a:path w="12081" h="5905">
                <a:moveTo>
                  <a:pt x="21903" y="6945"/>
                </a:moveTo>
                <a:cubicBezTo>
                  <a:pt x="21849" y="7019"/>
                  <a:pt x="21788" y="7082"/>
                  <a:pt x="21754" y="7169"/>
                </a:cubicBezTo>
                <a:cubicBezTo>
                  <a:pt x="21713" y="7272"/>
                  <a:pt x="21690" y="7397"/>
                  <a:pt x="21630" y="7491"/>
                </a:cubicBezTo>
                <a:cubicBezTo>
                  <a:pt x="21595" y="7545"/>
                  <a:pt x="21567" y="7611"/>
                  <a:pt x="21530" y="7665"/>
                </a:cubicBezTo>
                <a:cubicBezTo>
                  <a:pt x="21506" y="7689"/>
                  <a:pt x="21497" y="7698"/>
                  <a:pt x="21481" y="7714"/>
                </a:cubicBezTo>
              </a:path>
              <a:path w="12081" h="5905">
                <a:moveTo>
                  <a:pt x="22101" y="7243"/>
                </a:moveTo>
                <a:cubicBezTo>
                  <a:pt x="22174" y="7215"/>
                  <a:pt x="22247" y="7209"/>
                  <a:pt x="22324" y="7193"/>
                </a:cubicBezTo>
                <a:cubicBezTo>
                  <a:pt x="22394" y="7179"/>
                  <a:pt x="22431" y="7169"/>
                  <a:pt x="22498" y="7169"/>
                </a:cubicBezTo>
              </a:path>
              <a:path w="12081" h="5905">
                <a:moveTo>
                  <a:pt x="22895" y="6573"/>
                </a:moveTo>
                <a:cubicBezTo>
                  <a:pt x="22984" y="6537"/>
                  <a:pt x="23090" y="6472"/>
                  <a:pt x="23192" y="6499"/>
                </a:cubicBezTo>
                <a:cubicBezTo>
                  <a:pt x="23296" y="6526"/>
                  <a:pt x="23275" y="6597"/>
                  <a:pt x="23267" y="6672"/>
                </a:cubicBezTo>
                <a:cubicBezTo>
                  <a:pt x="23261" y="6725"/>
                  <a:pt x="23241" y="6786"/>
                  <a:pt x="23192" y="6821"/>
                </a:cubicBezTo>
                <a:cubicBezTo>
                  <a:pt x="23153" y="6849"/>
                  <a:pt x="23110" y="6872"/>
                  <a:pt x="23068" y="6896"/>
                </a:cubicBezTo>
                <a:cubicBezTo>
                  <a:pt x="23130" y="6896"/>
                  <a:pt x="23195" y="6881"/>
                  <a:pt x="23242" y="6921"/>
                </a:cubicBezTo>
                <a:cubicBezTo>
                  <a:pt x="23306" y="6976"/>
                  <a:pt x="23320" y="7028"/>
                  <a:pt x="23366" y="7094"/>
                </a:cubicBezTo>
                <a:cubicBezTo>
                  <a:pt x="23403" y="7147"/>
                  <a:pt x="23436" y="7197"/>
                  <a:pt x="23416" y="7268"/>
                </a:cubicBezTo>
                <a:cubicBezTo>
                  <a:pt x="23396" y="7338"/>
                  <a:pt x="23300" y="7432"/>
                  <a:pt x="23242" y="7466"/>
                </a:cubicBezTo>
                <a:cubicBezTo>
                  <a:pt x="23116" y="7540"/>
                  <a:pt x="22879" y="7560"/>
                  <a:pt x="22746" y="7590"/>
                </a:cubicBezTo>
              </a:path>
              <a:path w="12081" h="5905">
                <a:moveTo>
                  <a:pt x="13990" y="6548"/>
                </a:moveTo>
                <a:cubicBezTo>
                  <a:pt x="13990" y="6638"/>
                  <a:pt x="14011" y="6711"/>
                  <a:pt x="14015" y="6796"/>
                </a:cubicBezTo>
                <a:cubicBezTo>
                  <a:pt x="14021" y="6924"/>
                  <a:pt x="14036" y="7040"/>
                  <a:pt x="14039" y="7169"/>
                </a:cubicBezTo>
                <a:cubicBezTo>
                  <a:pt x="14043" y="7345"/>
                  <a:pt x="14042" y="7522"/>
                  <a:pt x="14015" y="7689"/>
                </a:cubicBezTo>
                <a:cubicBezTo>
                  <a:pt x="14015" y="7731"/>
                  <a:pt x="14015" y="7739"/>
                  <a:pt x="14015" y="7764"/>
                </a:cubicBezTo>
              </a:path>
              <a:path w="12081" h="5905">
                <a:moveTo>
                  <a:pt x="15354" y="6697"/>
                </a:moveTo>
                <a:cubicBezTo>
                  <a:pt x="15377" y="6782"/>
                  <a:pt x="15381" y="6862"/>
                  <a:pt x="15404" y="6945"/>
                </a:cubicBezTo>
                <a:cubicBezTo>
                  <a:pt x="15434" y="7052"/>
                  <a:pt x="15449" y="7159"/>
                  <a:pt x="15453" y="7268"/>
                </a:cubicBezTo>
                <a:cubicBezTo>
                  <a:pt x="15456" y="7353"/>
                  <a:pt x="15483" y="7603"/>
                  <a:pt x="15429" y="7640"/>
                </a:cubicBezTo>
              </a:path>
              <a:path w="12081" h="5905">
                <a:moveTo>
                  <a:pt x="15056" y="7144"/>
                </a:moveTo>
                <a:cubicBezTo>
                  <a:pt x="15148" y="7156"/>
                  <a:pt x="15231" y="7169"/>
                  <a:pt x="15329" y="7169"/>
                </a:cubicBezTo>
                <a:cubicBezTo>
                  <a:pt x="15404" y="7169"/>
                  <a:pt x="15468" y="7156"/>
                  <a:pt x="15528" y="7144"/>
                </a:cubicBezTo>
                <a:cubicBezTo>
                  <a:pt x="15582" y="7133"/>
                  <a:pt x="15646" y="7144"/>
                  <a:pt x="15701" y="7144"/>
                </a:cubicBezTo>
              </a:path>
              <a:path w="12081" h="5905">
                <a:moveTo>
                  <a:pt x="16024" y="6573"/>
                </a:moveTo>
                <a:cubicBezTo>
                  <a:pt x="16024" y="6663"/>
                  <a:pt x="16046" y="6730"/>
                  <a:pt x="16049" y="6821"/>
                </a:cubicBezTo>
                <a:cubicBezTo>
                  <a:pt x="16052" y="6932"/>
                  <a:pt x="16073" y="7029"/>
                  <a:pt x="16073" y="7144"/>
                </a:cubicBezTo>
                <a:cubicBezTo>
                  <a:pt x="16073" y="7252"/>
                  <a:pt x="16109" y="7336"/>
                  <a:pt x="16123" y="7441"/>
                </a:cubicBezTo>
                <a:cubicBezTo>
                  <a:pt x="16134" y="7518"/>
                  <a:pt x="16152" y="7588"/>
                  <a:pt x="16173" y="7665"/>
                </a:cubicBezTo>
              </a:path>
              <a:path w="12081" h="5905">
                <a:moveTo>
                  <a:pt x="15900" y="7169"/>
                </a:moveTo>
                <a:cubicBezTo>
                  <a:pt x="15988" y="7169"/>
                  <a:pt x="16067" y="7183"/>
                  <a:pt x="16148" y="7193"/>
                </a:cubicBezTo>
                <a:cubicBezTo>
                  <a:pt x="16235" y="7204"/>
                  <a:pt x="16305" y="7218"/>
                  <a:pt x="16396" y="7218"/>
                </a:cubicBezTo>
                <a:cubicBezTo>
                  <a:pt x="16426" y="7218"/>
                  <a:pt x="16555" y="7216"/>
                  <a:pt x="16570" y="7193"/>
                </a:cubicBezTo>
                <a:cubicBezTo>
                  <a:pt x="16570" y="7177"/>
                  <a:pt x="16570" y="7160"/>
                  <a:pt x="16570" y="7144"/>
                </a:cubicBezTo>
                <a:cubicBezTo>
                  <a:pt x="16502" y="7144"/>
                  <a:pt x="16442" y="7139"/>
                  <a:pt x="16421" y="7218"/>
                </a:cubicBezTo>
                <a:cubicBezTo>
                  <a:pt x="16402" y="7289"/>
                  <a:pt x="16370" y="7332"/>
                  <a:pt x="16346" y="7417"/>
                </a:cubicBezTo>
                <a:cubicBezTo>
                  <a:pt x="16327" y="7483"/>
                  <a:pt x="16291" y="7573"/>
                  <a:pt x="16346" y="7640"/>
                </a:cubicBezTo>
                <a:cubicBezTo>
                  <a:pt x="16386" y="7689"/>
                  <a:pt x="16450" y="7700"/>
                  <a:pt x="16495" y="7665"/>
                </a:cubicBezTo>
                <a:cubicBezTo>
                  <a:pt x="16535" y="7633"/>
                  <a:pt x="16583" y="7541"/>
                  <a:pt x="16594" y="7491"/>
                </a:cubicBezTo>
                <a:cubicBezTo>
                  <a:pt x="16608" y="7428"/>
                  <a:pt x="16608" y="7347"/>
                  <a:pt x="16619" y="7293"/>
                </a:cubicBezTo>
                <a:cubicBezTo>
                  <a:pt x="16619" y="7243"/>
                  <a:pt x="16619" y="7226"/>
                  <a:pt x="16619" y="7193"/>
                </a:cubicBezTo>
                <a:cubicBezTo>
                  <a:pt x="16583" y="7253"/>
                  <a:pt x="16594" y="7318"/>
                  <a:pt x="16594" y="7392"/>
                </a:cubicBezTo>
                <a:cubicBezTo>
                  <a:pt x="16594" y="7442"/>
                  <a:pt x="16613" y="7503"/>
                  <a:pt x="16644" y="7541"/>
                </a:cubicBezTo>
                <a:cubicBezTo>
                  <a:pt x="16667" y="7569"/>
                  <a:pt x="16670" y="7682"/>
                  <a:pt x="16743" y="7640"/>
                </a:cubicBezTo>
                <a:cubicBezTo>
                  <a:pt x="16743" y="7632"/>
                  <a:pt x="16743" y="7623"/>
                  <a:pt x="16743" y="7615"/>
                </a:cubicBezTo>
              </a:path>
              <a:path w="12081" h="5905">
                <a:moveTo>
                  <a:pt x="16669" y="7243"/>
                </a:moveTo>
                <a:cubicBezTo>
                  <a:pt x="16669" y="7335"/>
                  <a:pt x="16690" y="7402"/>
                  <a:pt x="16694" y="7491"/>
                </a:cubicBezTo>
                <a:cubicBezTo>
                  <a:pt x="16697" y="7556"/>
                  <a:pt x="16715" y="7613"/>
                  <a:pt x="16743" y="7665"/>
                </a:cubicBezTo>
                <a:cubicBezTo>
                  <a:pt x="16751" y="7681"/>
                  <a:pt x="16760" y="7698"/>
                  <a:pt x="16768" y="7714"/>
                </a:cubicBezTo>
                <a:cubicBezTo>
                  <a:pt x="16758" y="7646"/>
                  <a:pt x="16727" y="7591"/>
                  <a:pt x="16718" y="7516"/>
                </a:cubicBezTo>
                <a:cubicBezTo>
                  <a:pt x="16708" y="7427"/>
                  <a:pt x="16711" y="7326"/>
                  <a:pt x="16743" y="7243"/>
                </a:cubicBezTo>
                <a:cubicBezTo>
                  <a:pt x="16749" y="7227"/>
                  <a:pt x="16816" y="7116"/>
                  <a:pt x="16842" y="7119"/>
                </a:cubicBezTo>
                <a:cubicBezTo>
                  <a:pt x="16928" y="7129"/>
                  <a:pt x="16949" y="7207"/>
                  <a:pt x="16991" y="7268"/>
                </a:cubicBezTo>
                <a:cubicBezTo>
                  <a:pt x="17038" y="7336"/>
                  <a:pt x="17042" y="7385"/>
                  <a:pt x="17066" y="7466"/>
                </a:cubicBezTo>
                <a:cubicBezTo>
                  <a:pt x="17086" y="7534"/>
                  <a:pt x="17066" y="7628"/>
                  <a:pt x="17090" y="7689"/>
                </a:cubicBezTo>
                <a:cubicBezTo>
                  <a:pt x="17098" y="7697"/>
                  <a:pt x="17107" y="7706"/>
                  <a:pt x="17115" y="7714"/>
                </a:cubicBezTo>
              </a:path>
              <a:path w="12081" h="5905">
                <a:moveTo>
                  <a:pt x="16942" y="6747"/>
                </a:moveTo>
                <a:cubicBezTo>
                  <a:pt x="17010" y="6660"/>
                  <a:pt x="17050" y="6623"/>
                  <a:pt x="17165" y="6672"/>
                </a:cubicBezTo>
                <a:cubicBezTo>
                  <a:pt x="17240" y="6704"/>
                  <a:pt x="17220" y="6769"/>
                  <a:pt x="17214" y="6821"/>
                </a:cubicBezTo>
                <a:cubicBezTo>
                  <a:pt x="17207" y="6882"/>
                  <a:pt x="17151" y="6942"/>
                  <a:pt x="17239" y="6970"/>
                </a:cubicBezTo>
                <a:cubicBezTo>
                  <a:pt x="17256" y="6970"/>
                  <a:pt x="17272" y="6970"/>
                  <a:pt x="17289" y="6970"/>
                </a:cubicBezTo>
              </a:path>
              <a:path w="12081" h="5905">
                <a:moveTo>
                  <a:pt x="17413" y="7094"/>
                </a:moveTo>
                <a:cubicBezTo>
                  <a:pt x="17462" y="7192"/>
                  <a:pt x="17498" y="7241"/>
                  <a:pt x="17562" y="7317"/>
                </a:cubicBezTo>
                <a:cubicBezTo>
                  <a:pt x="17601" y="7364"/>
                  <a:pt x="17620" y="7420"/>
                  <a:pt x="17661" y="7466"/>
                </a:cubicBezTo>
                <a:cubicBezTo>
                  <a:pt x="17689" y="7494"/>
                  <a:pt x="17702" y="7503"/>
                  <a:pt x="17735" y="7491"/>
                </a:cubicBezTo>
              </a:path>
              <a:path w="12081" h="5905">
                <a:moveTo>
                  <a:pt x="17562" y="6970"/>
                </a:moveTo>
                <a:cubicBezTo>
                  <a:pt x="17511" y="7109"/>
                  <a:pt x="17459" y="7288"/>
                  <a:pt x="17388" y="7417"/>
                </a:cubicBezTo>
                <a:cubicBezTo>
                  <a:pt x="17320" y="7540"/>
                  <a:pt x="17230" y="7634"/>
                  <a:pt x="17165" y="7764"/>
                </a:cubicBezTo>
              </a:path>
              <a:path w="12081" h="5905">
                <a:moveTo>
                  <a:pt x="23664" y="5655"/>
                </a:moveTo>
                <a:cubicBezTo>
                  <a:pt x="23705" y="5740"/>
                  <a:pt x="23770" y="5796"/>
                  <a:pt x="23812" y="5879"/>
                </a:cubicBezTo>
                <a:cubicBezTo>
                  <a:pt x="23869" y="5993"/>
                  <a:pt x="23934" y="6108"/>
                  <a:pt x="23986" y="6226"/>
                </a:cubicBezTo>
                <a:cubicBezTo>
                  <a:pt x="24078" y="6435"/>
                  <a:pt x="24118" y="6673"/>
                  <a:pt x="24160" y="6896"/>
                </a:cubicBezTo>
                <a:cubicBezTo>
                  <a:pt x="24194" y="7077"/>
                  <a:pt x="24185" y="7257"/>
                  <a:pt x="24185" y="7441"/>
                </a:cubicBezTo>
                <a:cubicBezTo>
                  <a:pt x="24185" y="7604"/>
                  <a:pt x="24142" y="7714"/>
                  <a:pt x="24085" y="7863"/>
                </a:cubicBezTo>
                <a:cubicBezTo>
                  <a:pt x="24056" y="7940"/>
                  <a:pt x="24024" y="8012"/>
                  <a:pt x="23986" y="8086"/>
                </a:cubicBezTo>
              </a:path>
              <a:path w="12081" h="5905">
                <a:moveTo>
                  <a:pt x="16321" y="10716"/>
                </a:moveTo>
                <a:cubicBezTo>
                  <a:pt x="16359" y="10790"/>
                  <a:pt x="16334" y="10822"/>
                  <a:pt x="16321" y="10889"/>
                </a:cubicBezTo>
                <a:cubicBezTo>
                  <a:pt x="16321" y="10939"/>
                  <a:pt x="16321" y="10955"/>
                  <a:pt x="16321" y="10988"/>
                </a:cubicBezTo>
                <a:cubicBezTo>
                  <a:pt x="16405" y="10988"/>
                  <a:pt x="16471" y="11010"/>
                  <a:pt x="16545" y="11013"/>
                </a:cubicBezTo>
                <a:cubicBezTo>
                  <a:pt x="16697" y="11020"/>
                  <a:pt x="16843" y="11022"/>
                  <a:pt x="16991" y="11038"/>
                </a:cubicBezTo>
                <a:cubicBezTo>
                  <a:pt x="17083" y="11048"/>
                  <a:pt x="17173" y="11051"/>
                  <a:pt x="17264" y="11063"/>
                </a:cubicBezTo>
                <a:cubicBezTo>
                  <a:pt x="17314" y="11063"/>
                  <a:pt x="17330" y="11063"/>
                  <a:pt x="17363" y="11063"/>
                </a:cubicBezTo>
                <a:cubicBezTo>
                  <a:pt x="17331" y="10979"/>
                  <a:pt x="17348" y="10941"/>
                  <a:pt x="17363" y="10864"/>
                </a:cubicBezTo>
                <a:cubicBezTo>
                  <a:pt x="17382" y="10764"/>
                  <a:pt x="17388" y="10675"/>
                  <a:pt x="17363" y="10592"/>
                </a:cubicBezTo>
                <a:cubicBezTo>
                  <a:pt x="17363" y="10584"/>
                  <a:pt x="17363" y="10575"/>
                  <a:pt x="17363" y="105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Ink 4"/>
          <p:cNvSpPr/>
          <p:nvPr/>
        </p:nvSpPr>
        <p:spPr>
          <a:xfrm>
            <a:off x="4295880" y="3241800"/>
            <a:ext cx="4840200" cy="741240"/>
          </a:xfrm>
          <a:custGeom>
            <a:avLst/>
            <a:gdLst/>
            <a:ahLst/>
            <a:rect l="l" t="t" r="r" b="b"/>
            <a:pathLst>
              <a:path w="13445" h="2060">
                <a:moveTo>
                  <a:pt x="11931" y="9723"/>
                </a:moveTo>
                <a:cubicBezTo>
                  <a:pt x="11997" y="9730"/>
                  <a:pt x="12060" y="9763"/>
                  <a:pt x="12129" y="9748"/>
                </a:cubicBezTo>
                <a:cubicBezTo>
                  <a:pt x="12210" y="9730"/>
                  <a:pt x="12269" y="9723"/>
                  <a:pt x="12353" y="9723"/>
                </a:cubicBezTo>
                <a:cubicBezTo>
                  <a:pt x="12369" y="9723"/>
                  <a:pt x="12386" y="9723"/>
                  <a:pt x="12402" y="9723"/>
                </a:cubicBezTo>
              </a:path>
              <a:path w="13445" h="2060">
                <a:moveTo>
                  <a:pt x="11981" y="9922"/>
                </a:moveTo>
                <a:cubicBezTo>
                  <a:pt x="12113" y="9922"/>
                  <a:pt x="12246" y="9922"/>
                  <a:pt x="12378" y="9922"/>
                </a:cubicBezTo>
              </a:path>
              <a:path w="13445" h="2060">
                <a:moveTo>
                  <a:pt x="12824" y="9376"/>
                </a:moveTo>
                <a:cubicBezTo>
                  <a:pt x="12814" y="9453"/>
                  <a:pt x="12766" y="9530"/>
                  <a:pt x="12750" y="9599"/>
                </a:cubicBezTo>
                <a:cubicBezTo>
                  <a:pt x="12738" y="9650"/>
                  <a:pt x="12732" y="9671"/>
                  <a:pt x="12725" y="9723"/>
                </a:cubicBezTo>
                <a:cubicBezTo>
                  <a:pt x="12780" y="9691"/>
                  <a:pt x="12831" y="9699"/>
                  <a:pt x="12898" y="9699"/>
                </a:cubicBezTo>
                <a:cubicBezTo>
                  <a:pt x="12986" y="9699"/>
                  <a:pt x="13055" y="9723"/>
                  <a:pt x="13146" y="9723"/>
                </a:cubicBezTo>
                <a:cubicBezTo>
                  <a:pt x="13154" y="9723"/>
                  <a:pt x="13163" y="9723"/>
                  <a:pt x="13171" y="9723"/>
                </a:cubicBezTo>
              </a:path>
              <a:path w="13445" h="2060">
                <a:moveTo>
                  <a:pt x="13196" y="9103"/>
                </a:moveTo>
                <a:cubicBezTo>
                  <a:pt x="13177" y="9193"/>
                  <a:pt x="13150" y="9285"/>
                  <a:pt x="13146" y="9376"/>
                </a:cubicBezTo>
                <a:cubicBezTo>
                  <a:pt x="13137" y="9601"/>
                  <a:pt x="13138" y="9824"/>
                  <a:pt x="13122" y="10046"/>
                </a:cubicBezTo>
                <a:cubicBezTo>
                  <a:pt x="13114" y="10153"/>
                  <a:pt x="13114" y="10244"/>
                  <a:pt x="13097" y="10344"/>
                </a:cubicBezTo>
                <a:cubicBezTo>
                  <a:pt x="13097" y="10385"/>
                  <a:pt x="13097" y="10409"/>
                  <a:pt x="13097" y="10368"/>
                </a:cubicBezTo>
              </a:path>
              <a:path w="13445" h="2060">
                <a:moveTo>
                  <a:pt x="13717" y="9351"/>
                </a:moveTo>
                <a:cubicBezTo>
                  <a:pt x="13709" y="9460"/>
                  <a:pt x="13692" y="9564"/>
                  <a:pt x="13692" y="9674"/>
                </a:cubicBezTo>
                <a:cubicBezTo>
                  <a:pt x="13692" y="9775"/>
                  <a:pt x="13667" y="9867"/>
                  <a:pt x="13667" y="9971"/>
                </a:cubicBezTo>
                <a:cubicBezTo>
                  <a:pt x="13667" y="10086"/>
                  <a:pt x="13667" y="10186"/>
                  <a:pt x="13692" y="10294"/>
                </a:cubicBezTo>
                <a:cubicBezTo>
                  <a:pt x="13692" y="10302"/>
                  <a:pt x="13692" y="10311"/>
                  <a:pt x="13692" y="10319"/>
                </a:cubicBezTo>
              </a:path>
              <a:path w="13445" h="2060">
                <a:moveTo>
                  <a:pt x="13419" y="9798"/>
                </a:moveTo>
                <a:cubicBezTo>
                  <a:pt x="13593" y="9798"/>
                  <a:pt x="13766" y="9798"/>
                  <a:pt x="13940" y="9798"/>
                </a:cubicBezTo>
              </a:path>
              <a:path w="13445" h="2060">
                <a:moveTo>
                  <a:pt x="14238" y="9748"/>
                </a:moveTo>
                <a:cubicBezTo>
                  <a:pt x="14193" y="9793"/>
                  <a:pt x="14158" y="9832"/>
                  <a:pt x="14114" y="9872"/>
                </a:cubicBezTo>
                <a:cubicBezTo>
                  <a:pt x="14071" y="9911"/>
                  <a:pt x="13981" y="10010"/>
                  <a:pt x="13965" y="10071"/>
                </a:cubicBezTo>
                <a:cubicBezTo>
                  <a:pt x="13944" y="10150"/>
                  <a:pt x="13945" y="10191"/>
                  <a:pt x="13990" y="10269"/>
                </a:cubicBezTo>
                <a:cubicBezTo>
                  <a:pt x="14035" y="10262"/>
                  <a:pt x="14106" y="10235"/>
                  <a:pt x="14139" y="10195"/>
                </a:cubicBezTo>
                <a:cubicBezTo>
                  <a:pt x="14193" y="10132"/>
                  <a:pt x="14218" y="10072"/>
                  <a:pt x="14238" y="9996"/>
                </a:cubicBezTo>
                <a:cubicBezTo>
                  <a:pt x="14259" y="9916"/>
                  <a:pt x="14276" y="9911"/>
                  <a:pt x="14238" y="9847"/>
                </a:cubicBezTo>
                <a:cubicBezTo>
                  <a:pt x="14238" y="9919"/>
                  <a:pt x="14259" y="9956"/>
                  <a:pt x="14263" y="10021"/>
                </a:cubicBezTo>
                <a:cubicBezTo>
                  <a:pt x="14268" y="10106"/>
                  <a:pt x="14279" y="10180"/>
                  <a:pt x="14337" y="10244"/>
                </a:cubicBezTo>
                <a:cubicBezTo>
                  <a:pt x="14377" y="10288"/>
                  <a:pt x="14378" y="10286"/>
                  <a:pt x="14436" y="10294"/>
                </a:cubicBezTo>
              </a:path>
              <a:path w="13445" h="2060">
                <a:moveTo>
                  <a:pt x="14511" y="9922"/>
                </a:moveTo>
                <a:cubicBezTo>
                  <a:pt x="14511" y="9992"/>
                  <a:pt x="14519" y="10054"/>
                  <a:pt x="14536" y="10120"/>
                </a:cubicBezTo>
                <a:cubicBezTo>
                  <a:pt x="14558" y="10207"/>
                  <a:pt x="14577" y="10279"/>
                  <a:pt x="14585" y="10368"/>
                </a:cubicBezTo>
                <a:cubicBezTo>
                  <a:pt x="14585" y="10285"/>
                  <a:pt x="14573" y="10221"/>
                  <a:pt x="14560" y="10145"/>
                </a:cubicBezTo>
                <a:cubicBezTo>
                  <a:pt x="14543" y="10044"/>
                  <a:pt x="14573" y="9944"/>
                  <a:pt x="14585" y="9847"/>
                </a:cubicBezTo>
                <a:cubicBezTo>
                  <a:pt x="14593" y="9786"/>
                  <a:pt x="14592" y="9791"/>
                  <a:pt x="14635" y="9748"/>
                </a:cubicBezTo>
                <a:cubicBezTo>
                  <a:pt x="14688" y="9779"/>
                  <a:pt x="14765" y="9809"/>
                  <a:pt x="14784" y="9872"/>
                </a:cubicBezTo>
                <a:cubicBezTo>
                  <a:pt x="14802" y="9933"/>
                  <a:pt x="14823" y="10006"/>
                  <a:pt x="14833" y="10071"/>
                </a:cubicBezTo>
                <a:cubicBezTo>
                  <a:pt x="14845" y="10145"/>
                  <a:pt x="14856" y="10251"/>
                  <a:pt x="14883" y="10319"/>
                </a:cubicBezTo>
                <a:cubicBezTo>
                  <a:pt x="14913" y="10349"/>
                  <a:pt x="14924" y="10351"/>
                  <a:pt x="14932" y="10294"/>
                </a:cubicBezTo>
              </a:path>
              <a:path w="13445" h="2060">
                <a:moveTo>
                  <a:pt x="14808" y="9178"/>
                </a:moveTo>
                <a:cubicBezTo>
                  <a:pt x="14821" y="9089"/>
                  <a:pt x="14888" y="9075"/>
                  <a:pt x="14982" y="9103"/>
                </a:cubicBezTo>
                <a:cubicBezTo>
                  <a:pt x="15069" y="9129"/>
                  <a:pt x="15089" y="9200"/>
                  <a:pt x="15056" y="9277"/>
                </a:cubicBezTo>
                <a:cubicBezTo>
                  <a:pt x="15032" y="9333"/>
                  <a:pt x="14968" y="9387"/>
                  <a:pt x="14957" y="9451"/>
                </a:cubicBezTo>
                <a:cubicBezTo>
                  <a:pt x="14934" y="9581"/>
                  <a:pt x="15021" y="9552"/>
                  <a:pt x="15106" y="9575"/>
                </a:cubicBezTo>
                <a:cubicBezTo>
                  <a:pt x="15154" y="9598"/>
                  <a:pt x="15169" y="9606"/>
                  <a:pt x="15205" y="9599"/>
                </a:cubicBezTo>
              </a:path>
              <a:path w="13445" h="2060">
                <a:moveTo>
                  <a:pt x="15354" y="9748"/>
                </a:moveTo>
                <a:cubicBezTo>
                  <a:pt x="15407" y="9875"/>
                  <a:pt x="15461" y="9976"/>
                  <a:pt x="15528" y="10096"/>
                </a:cubicBezTo>
                <a:cubicBezTo>
                  <a:pt x="15574" y="10177"/>
                  <a:pt x="15635" y="10235"/>
                  <a:pt x="15701" y="10294"/>
                </a:cubicBezTo>
                <a:cubicBezTo>
                  <a:pt x="15752" y="10339"/>
                  <a:pt x="15804" y="10426"/>
                  <a:pt x="15875" y="10443"/>
                </a:cubicBezTo>
                <a:cubicBezTo>
                  <a:pt x="15920" y="10443"/>
                  <a:pt x="15933" y="10447"/>
                  <a:pt x="15949" y="10418"/>
                </a:cubicBezTo>
              </a:path>
              <a:path w="13445" h="2060">
                <a:moveTo>
                  <a:pt x="15726" y="9748"/>
                </a:moveTo>
                <a:cubicBezTo>
                  <a:pt x="15644" y="9850"/>
                  <a:pt x="15556" y="9944"/>
                  <a:pt x="15478" y="10046"/>
                </a:cubicBezTo>
                <a:cubicBezTo>
                  <a:pt x="15403" y="10143"/>
                  <a:pt x="15373" y="10280"/>
                  <a:pt x="15329" y="10393"/>
                </a:cubicBezTo>
              </a:path>
              <a:path w="13445" h="2060">
                <a:moveTo>
                  <a:pt x="15925" y="9872"/>
                </a:moveTo>
                <a:cubicBezTo>
                  <a:pt x="16057" y="9872"/>
                  <a:pt x="16189" y="9872"/>
                  <a:pt x="16321" y="9872"/>
                </a:cubicBezTo>
              </a:path>
              <a:path w="13445" h="2060">
                <a:moveTo>
                  <a:pt x="16644" y="9302"/>
                </a:moveTo>
                <a:cubicBezTo>
                  <a:pt x="16699" y="9224"/>
                  <a:pt x="16723" y="9227"/>
                  <a:pt x="16818" y="9227"/>
                </a:cubicBezTo>
                <a:cubicBezTo>
                  <a:pt x="16882" y="9227"/>
                  <a:pt x="16935" y="9232"/>
                  <a:pt x="16991" y="9252"/>
                </a:cubicBezTo>
                <a:cubicBezTo>
                  <a:pt x="17089" y="9287"/>
                  <a:pt x="17106" y="9364"/>
                  <a:pt x="17066" y="9451"/>
                </a:cubicBezTo>
                <a:cubicBezTo>
                  <a:pt x="17022" y="9546"/>
                  <a:pt x="16966" y="9567"/>
                  <a:pt x="16917" y="9649"/>
                </a:cubicBezTo>
                <a:cubicBezTo>
                  <a:pt x="16869" y="9730"/>
                  <a:pt x="16836" y="9714"/>
                  <a:pt x="16768" y="9748"/>
                </a:cubicBezTo>
                <a:cubicBezTo>
                  <a:pt x="16743" y="9773"/>
                  <a:pt x="16735" y="9781"/>
                  <a:pt x="16718" y="9798"/>
                </a:cubicBezTo>
                <a:cubicBezTo>
                  <a:pt x="16793" y="9798"/>
                  <a:pt x="16848" y="9793"/>
                  <a:pt x="16917" y="9823"/>
                </a:cubicBezTo>
                <a:cubicBezTo>
                  <a:pt x="16974" y="9848"/>
                  <a:pt x="17060" y="9897"/>
                  <a:pt x="17090" y="9947"/>
                </a:cubicBezTo>
                <a:cubicBezTo>
                  <a:pt x="17126" y="10007"/>
                  <a:pt x="17159" y="10126"/>
                  <a:pt x="17165" y="10195"/>
                </a:cubicBezTo>
                <a:cubicBezTo>
                  <a:pt x="17174" y="10298"/>
                  <a:pt x="17146" y="10404"/>
                  <a:pt x="17090" y="10492"/>
                </a:cubicBezTo>
                <a:cubicBezTo>
                  <a:pt x="17058" y="10543"/>
                  <a:pt x="16978" y="10606"/>
                  <a:pt x="16917" y="10616"/>
                </a:cubicBezTo>
                <a:cubicBezTo>
                  <a:pt x="16822" y="10632"/>
                  <a:pt x="16734" y="10604"/>
                  <a:pt x="16644" y="10592"/>
                </a:cubicBezTo>
                <a:cubicBezTo>
                  <a:pt x="16576" y="10583"/>
                  <a:pt x="16554" y="10553"/>
                  <a:pt x="16495" y="10517"/>
                </a:cubicBezTo>
                <a:cubicBezTo>
                  <a:pt x="16452" y="10495"/>
                  <a:pt x="16441" y="10491"/>
                  <a:pt x="16421" y="10468"/>
                </a:cubicBezTo>
              </a:path>
              <a:path w="13445" h="2060">
                <a:moveTo>
                  <a:pt x="17785" y="9947"/>
                </a:moveTo>
                <a:cubicBezTo>
                  <a:pt x="17785" y="10076"/>
                  <a:pt x="17788" y="10204"/>
                  <a:pt x="17810" y="10319"/>
                </a:cubicBezTo>
                <a:cubicBezTo>
                  <a:pt x="17810" y="10335"/>
                  <a:pt x="17810" y="10352"/>
                  <a:pt x="17810" y="10368"/>
                </a:cubicBezTo>
              </a:path>
              <a:path w="13445" h="2060">
                <a:moveTo>
                  <a:pt x="17512" y="10096"/>
                </a:moveTo>
                <a:cubicBezTo>
                  <a:pt x="17593" y="10096"/>
                  <a:pt x="17655" y="10117"/>
                  <a:pt x="17735" y="10120"/>
                </a:cubicBezTo>
                <a:cubicBezTo>
                  <a:pt x="17835" y="10120"/>
                  <a:pt x="17884" y="10120"/>
                  <a:pt x="17959" y="10120"/>
                </a:cubicBezTo>
              </a:path>
              <a:path w="13445" h="2060">
                <a:moveTo>
                  <a:pt x="18380" y="9624"/>
                </a:moveTo>
                <a:cubicBezTo>
                  <a:pt x="18370" y="9695"/>
                  <a:pt x="18347" y="9780"/>
                  <a:pt x="18306" y="9847"/>
                </a:cubicBezTo>
                <a:cubicBezTo>
                  <a:pt x="18286" y="9880"/>
                  <a:pt x="18190" y="9958"/>
                  <a:pt x="18256" y="9996"/>
                </a:cubicBezTo>
                <a:cubicBezTo>
                  <a:pt x="18293" y="10017"/>
                  <a:pt x="18437" y="10014"/>
                  <a:pt x="18479" y="10021"/>
                </a:cubicBezTo>
                <a:cubicBezTo>
                  <a:pt x="18568" y="10035"/>
                  <a:pt x="18667" y="10008"/>
                  <a:pt x="18752" y="9996"/>
                </a:cubicBezTo>
              </a:path>
              <a:path w="13445" h="2060">
                <a:moveTo>
                  <a:pt x="18728" y="9376"/>
                </a:moveTo>
                <a:cubicBezTo>
                  <a:pt x="18696" y="9452"/>
                  <a:pt x="18703" y="9515"/>
                  <a:pt x="18703" y="9599"/>
                </a:cubicBezTo>
                <a:cubicBezTo>
                  <a:pt x="18703" y="9750"/>
                  <a:pt x="18682" y="9896"/>
                  <a:pt x="18678" y="10046"/>
                </a:cubicBezTo>
                <a:cubicBezTo>
                  <a:pt x="18674" y="10164"/>
                  <a:pt x="18657" y="10276"/>
                  <a:pt x="18653" y="10393"/>
                </a:cubicBezTo>
                <a:cubicBezTo>
                  <a:pt x="18651" y="10449"/>
                  <a:pt x="18653" y="10750"/>
                  <a:pt x="18653" y="10641"/>
                </a:cubicBezTo>
              </a:path>
              <a:path w="13445" h="2060">
                <a:moveTo>
                  <a:pt x="19298" y="9575"/>
                </a:moveTo>
                <a:cubicBezTo>
                  <a:pt x="19276" y="9722"/>
                  <a:pt x="19248" y="9850"/>
                  <a:pt x="19248" y="9996"/>
                </a:cubicBezTo>
                <a:cubicBezTo>
                  <a:pt x="19248" y="10117"/>
                  <a:pt x="19260" y="10227"/>
                  <a:pt x="19273" y="10344"/>
                </a:cubicBezTo>
                <a:cubicBezTo>
                  <a:pt x="19283" y="10438"/>
                  <a:pt x="19309" y="10527"/>
                  <a:pt x="19323" y="10616"/>
                </a:cubicBezTo>
                <a:cubicBezTo>
                  <a:pt x="19323" y="10661"/>
                  <a:pt x="19320" y="10674"/>
                  <a:pt x="19348" y="10691"/>
                </a:cubicBezTo>
              </a:path>
              <a:path w="13445" h="2060">
                <a:moveTo>
                  <a:pt x="19025" y="10046"/>
                </a:moveTo>
                <a:cubicBezTo>
                  <a:pt x="19105" y="9998"/>
                  <a:pt x="19153" y="10036"/>
                  <a:pt x="19248" y="10046"/>
                </a:cubicBezTo>
                <a:cubicBezTo>
                  <a:pt x="19341" y="10056"/>
                  <a:pt x="19455" y="10050"/>
                  <a:pt x="19546" y="10071"/>
                </a:cubicBezTo>
                <a:cubicBezTo>
                  <a:pt x="19609" y="10102"/>
                  <a:pt x="19640" y="10111"/>
                  <a:pt x="19695" y="10096"/>
                </a:cubicBezTo>
              </a:path>
              <a:path w="13445" h="2060">
                <a:moveTo>
                  <a:pt x="19943" y="10071"/>
                </a:moveTo>
                <a:cubicBezTo>
                  <a:pt x="19883" y="10051"/>
                  <a:pt x="19828" y="10065"/>
                  <a:pt x="19769" y="10096"/>
                </a:cubicBezTo>
                <a:cubicBezTo>
                  <a:pt x="19684" y="10141"/>
                  <a:pt x="19675" y="10185"/>
                  <a:pt x="19645" y="10269"/>
                </a:cubicBezTo>
                <a:cubicBezTo>
                  <a:pt x="19613" y="10357"/>
                  <a:pt x="19624" y="10366"/>
                  <a:pt x="19670" y="10443"/>
                </a:cubicBezTo>
                <a:cubicBezTo>
                  <a:pt x="19713" y="10513"/>
                  <a:pt x="19732" y="10538"/>
                  <a:pt x="19819" y="10542"/>
                </a:cubicBezTo>
                <a:cubicBezTo>
                  <a:pt x="19933" y="10547"/>
                  <a:pt x="19939" y="10499"/>
                  <a:pt x="19968" y="10418"/>
                </a:cubicBezTo>
                <a:cubicBezTo>
                  <a:pt x="19993" y="10348"/>
                  <a:pt x="19993" y="10296"/>
                  <a:pt x="19993" y="10220"/>
                </a:cubicBezTo>
                <a:cubicBezTo>
                  <a:pt x="19993" y="10162"/>
                  <a:pt x="19996" y="10141"/>
                  <a:pt x="19968" y="10096"/>
                </a:cubicBezTo>
                <a:cubicBezTo>
                  <a:pt x="19968" y="10163"/>
                  <a:pt x="19973" y="10232"/>
                  <a:pt x="19993" y="10294"/>
                </a:cubicBezTo>
                <a:cubicBezTo>
                  <a:pt x="20018" y="10371"/>
                  <a:pt x="20056" y="10445"/>
                  <a:pt x="20092" y="10517"/>
                </a:cubicBezTo>
                <a:cubicBezTo>
                  <a:pt x="20118" y="10569"/>
                  <a:pt x="20151" y="10653"/>
                  <a:pt x="20216" y="10666"/>
                </a:cubicBezTo>
                <a:cubicBezTo>
                  <a:pt x="20241" y="10666"/>
                  <a:pt x="20265" y="10666"/>
                  <a:pt x="20290" y="10666"/>
                </a:cubicBezTo>
              </a:path>
              <a:path w="13445" h="2060">
                <a:moveTo>
                  <a:pt x="20241" y="10195"/>
                </a:moveTo>
                <a:cubicBezTo>
                  <a:pt x="20198" y="10181"/>
                  <a:pt x="20199" y="10275"/>
                  <a:pt x="20216" y="10344"/>
                </a:cubicBezTo>
                <a:cubicBezTo>
                  <a:pt x="20234" y="10419"/>
                  <a:pt x="20261" y="10492"/>
                  <a:pt x="20265" y="10567"/>
                </a:cubicBezTo>
                <a:cubicBezTo>
                  <a:pt x="20265" y="10611"/>
                  <a:pt x="20262" y="10625"/>
                  <a:pt x="20290" y="10641"/>
                </a:cubicBezTo>
                <a:cubicBezTo>
                  <a:pt x="20281" y="10552"/>
                  <a:pt x="20252" y="10492"/>
                  <a:pt x="20265" y="10393"/>
                </a:cubicBezTo>
                <a:cubicBezTo>
                  <a:pt x="20277" y="10298"/>
                  <a:pt x="20269" y="10163"/>
                  <a:pt x="20290" y="10071"/>
                </a:cubicBezTo>
                <a:cubicBezTo>
                  <a:pt x="20306" y="10002"/>
                  <a:pt x="20346" y="9893"/>
                  <a:pt x="20439" y="9922"/>
                </a:cubicBezTo>
                <a:cubicBezTo>
                  <a:pt x="20479" y="9934"/>
                  <a:pt x="20521" y="10014"/>
                  <a:pt x="20538" y="10046"/>
                </a:cubicBezTo>
                <a:cubicBezTo>
                  <a:pt x="20577" y="10120"/>
                  <a:pt x="20597" y="10191"/>
                  <a:pt x="20613" y="10269"/>
                </a:cubicBezTo>
                <a:cubicBezTo>
                  <a:pt x="20635" y="10377"/>
                  <a:pt x="20672" y="10485"/>
                  <a:pt x="20687" y="10592"/>
                </a:cubicBezTo>
                <a:cubicBezTo>
                  <a:pt x="20697" y="10661"/>
                  <a:pt x="20691" y="10730"/>
                  <a:pt x="20737" y="10716"/>
                </a:cubicBezTo>
              </a:path>
              <a:path w="13445" h="2060">
                <a:moveTo>
                  <a:pt x="20737" y="9277"/>
                </a:moveTo>
                <a:cubicBezTo>
                  <a:pt x="20737" y="9367"/>
                  <a:pt x="20723" y="9436"/>
                  <a:pt x="20712" y="9525"/>
                </a:cubicBezTo>
                <a:cubicBezTo>
                  <a:pt x="20712" y="9542"/>
                  <a:pt x="20712" y="9558"/>
                  <a:pt x="20712" y="9575"/>
                </a:cubicBezTo>
                <a:cubicBezTo>
                  <a:pt x="20819" y="9575"/>
                  <a:pt x="20927" y="9575"/>
                  <a:pt x="21034" y="9575"/>
                </a:cubicBezTo>
              </a:path>
              <a:path w="13445" h="2060">
                <a:moveTo>
                  <a:pt x="20960" y="9004"/>
                </a:moveTo>
                <a:cubicBezTo>
                  <a:pt x="20960" y="9122"/>
                  <a:pt x="20969" y="9214"/>
                  <a:pt x="20985" y="9327"/>
                </a:cubicBezTo>
                <a:cubicBezTo>
                  <a:pt x="20997" y="9411"/>
                  <a:pt x="21022" y="9494"/>
                  <a:pt x="21034" y="9575"/>
                </a:cubicBezTo>
                <a:cubicBezTo>
                  <a:pt x="21048" y="9666"/>
                  <a:pt x="21069" y="9760"/>
                  <a:pt x="21084" y="9847"/>
                </a:cubicBezTo>
                <a:cubicBezTo>
                  <a:pt x="21099" y="9937"/>
                  <a:pt x="21070" y="9925"/>
                  <a:pt x="21059" y="9947"/>
                </a:cubicBezTo>
              </a:path>
              <a:path w="13445" h="2060">
                <a:moveTo>
                  <a:pt x="21431" y="10071"/>
                </a:moveTo>
                <a:cubicBezTo>
                  <a:pt x="21463" y="10155"/>
                  <a:pt x="21483" y="10211"/>
                  <a:pt x="21530" y="10294"/>
                </a:cubicBezTo>
                <a:cubicBezTo>
                  <a:pt x="21607" y="10430"/>
                  <a:pt x="21703" y="10570"/>
                  <a:pt x="21803" y="10691"/>
                </a:cubicBezTo>
                <a:cubicBezTo>
                  <a:pt x="21860" y="10760"/>
                  <a:pt x="21942" y="10856"/>
                  <a:pt x="22027" y="10889"/>
                </a:cubicBezTo>
                <a:cubicBezTo>
                  <a:pt x="22035" y="10889"/>
                  <a:pt x="22043" y="10889"/>
                  <a:pt x="22051" y="10889"/>
                </a:cubicBezTo>
              </a:path>
              <a:path w="13445" h="2060">
                <a:moveTo>
                  <a:pt x="21927" y="10071"/>
                </a:moveTo>
                <a:cubicBezTo>
                  <a:pt x="21844" y="10161"/>
                  <a:pt x="21787" y="10242"/>
                  <a:pt x="21729" y="10344"/>
                </a:cubicBezTo>
                <a:cubicBezTo>
                  <a:pt x="21662" y="10461"/>
                  <a:pt x="21639" y="10564"/>
                  <a:pt x="21580" y="10666"/>
                </a:cubicBezTo>
                <a:cubicBezTo>
                  <a:pt x="21544" y="10729"/>
                  <a:pt x="21522" y="10804"/>
                  <a:pt x="21481" y="10864"/>
                </a:cubicBezTo>
                <a:cubicBezTo>
                  <a:pt x="21451" y="10908"/>
                  <a:pt x="21443" y="10964"/>
                  <a:pt x="21431" y="11013"/>
                </a:cubicBezTo>
              </a:path>
              <a:path w="13445" h="2060">
                <a:moveTo>
                  <a:pt x="22175" y="10244"/>
                </a:moveTo>
                <a:cubicBezTo>
                  <a:pt x="22288" y="10244"/>
                  <a:pt x="22367" y="10259"/>
                  <a:pt x="22473" y="10269"/>
                </a:cubicBezTo>
              </a:path>
              <a:path w="13445" h="2060">
                <a:moveTo>
                  <a:pt x="22746" y="9773"/>
                </a:moveTo>
                <a:cubicBezTo>
                  <a:pt x="22788" y="9690"/>
                  <a:pt x="22797" y="9654"/>
                  <a:pt x="22895" y="9649"/>
                </a:cubicBezTo>
                <a:cubicBezTo>
                  <a:pt x="22969" y="9645"/>
                  <a:pt x="23051" y="9640"/>
                  <a:pt x="23118" y="9674"/>
                </a:cubicBezTo>
                <a:cubicBezTo>
                  <a:pt x="23187" y="9709"/>
                  <a:pt x="23213" y="9746"/>
                  <a:pt x="23217" y="9823"/>
                </a:cubicBezTo>
                <a:cubicBezTo>
                  <a:pt x="23223" y="9937"/>
                  <a:pt x="23156" y="9925"/>
                  <a:pt x="23093" y="9996"/>
                </a:cubicBezTo>
                <a:cubicBezTo>
                  <a:pt x="23049" y="10046"/>
                  <a:pt x="23009" y="10058"/>
                  <a:pt x="22944" y="10096"/>
                </a:cubicBezTo>
                <a:cubicBezTo>
                  <a:pt x="22901" y="10117"/>
                  <a:pt x="22889" y="10121"/>
                  <a:pt x="22870" y="10145"/>
                </a:cubicBezTo>
                <a:cubicBezTo>
                  <a:pt x="22939" y="10145"/>
                  <a:pt x="22988" y="10140"/>
                  <a:pt x="23044" y="10170"/>
                </a:cubicBezTo>
                <a:cubicBezTo>
                  <a:pt x="23112" y="10207"/>
                  <a:pt x="23146" y="10238"/>
                  <a:pt x="23192" y="10294"/>
                </a:cubicBezTo>
                <a:cubicBezTo>
                  <a:pt x="23258" y="10373"/>
                  <a:pt x="23287" y="10468"/>
                  <a:pt x="23292" y="10567"/>
                </a:cubicBezTo>
                <a:cubicBezTo>
                  <a:pt x="23295" y="10630"/>
                  <a:pt x="23256" y="10692"/>
                  <a:pt x="23217" y="10740"/>
                </a:cubicBezTo>
                <a:cubicBezTo>
                  <a:pt x="23156" y="10814"/>
                  <a:pt x="23125" y="10814"/>
                  <a:pt x="23044" y="10840"/>
                </a:cubicBezTo>
                <a:cubicBezTo>
                  <a:pt x="22977" y="10862"/>
                  <a:pt x="22872" y="10857"/>
                  <a:pt x="22820" y="10790"/>
                </a:cubicBezTo>
                <a:cubicBezTo>
                  <a:pt x="22799" y="10746"/>
                  <a:pt x="22796" y="10734"/>
                  <a:pt x="22771" y="10716"/>
                </a:cubicBezTo>
              </a:path>
              <a:path w="13445" h="2060">
                <a:moveTo>
                  <a:pt x="23664" y="9748"/>
                </a:moveTo>
                <a:cubicBezTo>
                  <a:pt x="23699" y="9808"/>
                  <a:pt x="23688" y="9873"/>
                  <a:pt x="23688" y="9947"/>
                </a:cubicBezTo>
                <a:cubicBezTo>
                  <a:pt x="23688" y="10047"/>
                  <a:pt x="23646" y="10141"/>
                  <a:pt x="23664" y="10244"/>
                </a:cubicBezTo>
                <a:cubicBezTo>
                  <a:pt x="23683" y="10350"/>
                  <a:pt x="23701" y="10461"/>
                  <a:pt x="23713" y="10567"/>
                </a:cubicBezTo>
                <a:cubicBezTo>
                  <a:pt x="23724" y="10668"/>
                  <a:pt x="23722" y="10772"/>
                  <a:pt x="23763" y="10864"/>
                </a:cubicBezTo>
                <a:cubicBezTo>
                  <a:pt x="23783" y="10905"/>
                  <a:pt x="23792" y="10911"/>
                  <a:pt x="23788" y="10939"/>
                </a:cubicBezTo>
              </a:path>
              <a:path w="13445" h="2060">
                <a:moveTo>
                  <a:pt x="23540" y="10294"/>
                </a:moveTo>
                <a:cubicBezTo>
                  <a:pt x="23622" y="10252"/>
                  <a:pt x="23656" y="10283"/>
                  <a:pt x="23738" y="10294"/>
                </a:cubicBezTo>
                <a:cubicBezTo>
                  <a:pt x="23814" y="10304"/>
                  <a:pt x="23912" y="10314"/>
                  <a:pt x="23986" y="10319"/>
                </a:cubicBezTo>
                <a:cubicBezTo>
                  <a:pt x="24066" y="10325"/>
                  <a:pt x="24153" y="10319"/>
                  <a:pt x="24234" y="10319"/>
                </a:cubicBezTo>
                <a:cubicBezTo>
                  <a:pt x="24172" y="10371"/>
                  <a:pt x="24122" y="10396"/>
                  <a:pt x="24085" y="10468"/>
                </a:cubicBezTo>
                <a:cubicBezTo>
                  <a:pt x="24052" y="10531"/>
                  <a:pt x="24020" y="10592"/>
                  <a:pt x="24036" y="10666"/>
                </a:cubicBezTo>
                <a:cubicBezTo>
                  <a:pt x="24042" y="10694"/>
                  <a:pt x="24085" y="10826"/>
                  <a:pt x="24110" y="10840"/>
                </a:cubicBezTo>
                <a:cubicBezTo>
                  <a:pt x="24214" y="10896"/>
                  <a:pt x="24224" y="10825"/>
                  <a:pt x="24259" y="10765"/>
                </a:cubicBezTo>
                <a:cubicBezTo>
                  <a:pt x="24294" y="10705"/>
                  <a:pt x="24284" y="10642"/>
                  <a:pt x="24284" y="10567"/>
                </a:cubicBezTo>
                <a:cubicBezTo>
                  <a:pt x="24284" y="10499"/>
                  <a:pt x="24290" y="10307"/>
                  <a:pt x="24259" y="10368"/>
                </a:cubicBezTo>
                <a:cubicBezTo>
                  <a:pt x="24241" y="10404"/>
                  <a:pt x="24269" y="10512"/>
                  <a:pt x="24284" y="10542"/>
                </a:cubicBezTo>
                <a:cubicBezTo>
                  <a:pt x="24311" y="10595"/>
                  <a:pt x="24328" y="10656"/>
                  <a:pt x="24358" y="10716"/>
                </a:cubicBezTo>
                <a:cubicBezTo>
                  <a:pt x="24391" y="10781"/>
                  <a:pt x="24433" y="10824"/>
                  <a:pt x="24482" y="10864"/>
                </a:cubicBezTo>
              </a:path>
              <a:path w="13445" h="2060">
                <a:moveTo>
                  <a:pt x="24457" y="10418"/>
                </a:moveTo>
                <a:cubicBezTo>
                  <a:pt x="24483" y="10494"/>
                  <a:pt x="24506" y="10575"/>
                  <a:pt x="24532" y="10641"/>
                </a:cubicBezTo>
                <a:cubicBezTo>
                  <a:pt x="24549" y="10684"/>
                  <a:pt x="24595" y="10922"/>
                  <a:pt x="24581" y="10790"/>
                </a:cubicBezTo>
                <a:cubicBezTo>
                  <a:pt x="24573" y="10717"/>
                  <a:pt x="24561" y="10658"/>
                  <a:pt x="24557" y="10592"/>
                </a:cubicBezTo>
                <a:cubicBezTo>
                  <a:pt x="24553" y="10515"/>
                  <a:pt x="24561" y="10416"/>
                  <a:pt x="24581" y="10344"/>
                </a:cubicBezTo>
                <a:cubicBezTo>
                  <a:pt x="24598" y="10283"/>
                  <a:pt x="24643" y="10217"/>
                  <a:pt x="24681" y="10170"/>
                </a:cubicBezTo>
                <a:cubicBezTo>
                  <a:pt x="24714" y="10238"/>
                  <a:pt x="24733" y="10301"/>
                  <a:pt x="24755" y="10368"/>
                </a:cubicBezTo>
                <a:cubicBezTo>
                  <a:pt x="24778" y="10436"/>
                  <a:pt x="24790" y="10497"/>
                  <a:pt x="24805" y="10567"/>
                </a:cubicBezTo>
                <a:cubicBezTo>
                  <a:pt x="24821" y="10644"/>
                  <a:pt x="24824" y="10770"/>
                  <a:pt x="24854" y="10840"/>
                </a:cubicBezTo>
                <a:cubicBezTo>
                  <a:pt x="24869" y="10875"/>
                  <a:pt x="24903" y="10901"/>
                  <a:pt x="24929" y="10914"/>
                </a:cubicBezTo>
              </a:path>
              <a:path w="13445" h="2060">
                <a:moveTo>
                  <a:pt x="24681" y="9674"/>
                </a:moveTo>
                <a:cubicBezTo>
                  <a:pt x="24751" y="9573"/>
                  <a:pt x="24767" y="9516"/>
                  <a:pt x="24879" y="9599"/>
                </a:cubicBezTo>
                <a:cubicBezTo>
                  <a:pt x="24936" y="9641"/>
                  <a:pt x="24896" y="9704"/>
                  <a:pt x="24879" y="9748"/>
                </a:cubicBezTo>
                <a:cubicBezTo>
                  <a:pt x="24851" y="9818"/>
                  <a:pt x="24807" y="9918"/>
                  <a:pt x="24829" y="9996"/>
                </a:cubicBezTo>
                <a:cubicBezTo>
                  <a:pt x="24849" y="10067"/>
                  <a:pt x="24915" y="10096"/>
                  <a:pt x="24978" y="10120"/>
                </a:cubicBezTo>
                <a:cubicBezTo>
                  <a:pt x="25003" y="10128"/>
                  <a:pt x="25028" y="10137"/>
                  <a:pt x="25053" y="10145"/>
                </a:cubicBezTo>
              </a:path>
              <a:path w="13445" h="2060">
                <a:moveTo>
                  <a:pt x="25102" y="10220"/>
                </a:moveTo>
                <a:cubicBezTo>
                  <a:pt x="25102" y="10344"/>
                  <a:pt x="25099" y="10387"/>
                  <a:pt x="25152" y="10492"/>
                </a:cubicBezTo>
                <a:cubicBezTo>
                  <a:pt x="25187" y="10561"/>
                  <a:pt x="25201" y="10656"/>
                  <a:pt x="25251" y="10716"/>
                </a:cubicBezTo>
                <a:cubicBezTo>
                  <a:pt x="25318" y="10796"/>
                  <a:pt x="25353" y="10815"/>
                  <a:pt x="25375" y="10914"/>
                </a:cubicBezTo>
              </a:path>
              <a:path w="13445" h="2060">
                <a:moveTo>
                  <a:pt x="25375" y="10368"/>
                </a:moveTo>
                <a:cubicBezTo>
                  <a:pt x="25303" y="10469"/>
                  <a:pt x="25256" y="10536"/>
                  <a:pt x="25202" y="10641"/>
                </a:cubicBezTo>
                <a:cubicBezTo>
                  <a:pt x="25130" y="10781"/>
                  <a:pt x="25074" y="10913"/>
                  <a:pt x="25028" y="110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Ink 5"/>
          <p:cNvSpPr/>
          <p:nvPr/>
        </p:nvSpPr>
        <p:spPr>
          <a:xfrm>
            <a:off x="4321080" y="3633840"/>
            <a:ext cx="4815000" cy="1206360"/>
          </a:xfrm>
          <a:custGeom>
            <a:avLst/>
            <a:gdLst/>
            <a:ahLst/>
            <a:rect l="l" t="t" r="r" b="b"/>
            <a:pathLst>
              <a:path w="13371" h="3349">
                <a:moveTo>
                  <a:pt x="12030" y="11807"/>
                </a:moveTo>
                <a:cubicBezTo>
                  <a:pt x="12106" y="11778"/>
                  <a:pt x="12151" y="11787"/>
                  <a:pt x="12229" y="11807"/>
                </a:cubicBezTo>
                <a:cubicBezTo>
                  <a:pt x="12290" y="11823"/>
                  <a:pt x="12317" y="11832"/>
                  <a:pt x="12378" y="11832"/>
                </a:cubicBezTo>
              </a:path>
              <a:path w="13371" h="3349">
                <a:moveTo>
                  <a:pt x="12005" y="12328"/>
                </a:moveTo>
                <a:cubicBezTo>
                  <a:pt x="12110" y="12310"/>
                  <a:pt x="12198" y="12303"/>
                  <a:pt x="12303" y="12303"/>
                </a:cubicBezTo>
                <a:cubicBezTo>
                  <a:pt x="12345" y="12303"/>
                  <a:pt x="12353" y="12303"/>
                  <a:pt x="12378" y="12303"/>
                </a:cubicBezTo>
              </a:path>
              <a:path w="13371" h="3349">
                <a:moveTo>
                  <a:pt x="18182" y="10592"/>
                </a:moveTo>
                <a:cubicBezTo>
                  <a:pt x="18172" y="10669"/>
                  <a:pt x="18141" y="10716"/>
                  <a:pt x="18132" y="10790"/>
                </a:cubicBezTo>
                <a:cubicBezTo>
                  <a:pt x="18122" y="10871"/>
                  <a:pt x="18135" y="10897"/>
                  <a:pt x="18207" y="10914"/>
                </a:cubicBezTo>
                <a:cubicBezTo>
                  <a:pt x="18280" y="10932"/>
                  <a:pt x="18341" y="10894"/>
                  <a:pt x="18405" y="10889"/>
                </a:cubicBezTo>
                <a:cubicBezTo>
                  <a:pt x="18637" y="10872"/>
                  <a:pt x="18872" y="10896"/>
                  <a:pt x="19100" y="10914"/>
                </a:cubicBezTo>
                <a:cubicBezTo>
                  <a:pt x="19256" y="10926"/>
                  <a:pt x="19415" y="10923"/>
                  <a:pt x="19571" y="10939"/>
                </a:cubicBezTo>
                <a:cubicBezTo>
                  <a:pt x="19754" y="10957"/>
                  <a:pt x="19934" y="11003"/>
                  <a:pt x="20117" y="11013"/>
                </a:cubicBezTo>
                <a:cubicBezTo>
                  <a:pt x="20316" y="11024"/>
                  <a:pt x="20514" y="11016"/>
                  <a:pt x="20712" y="11038"/>
                </a:cubicBezTo>
                <a:cubicBezTo>
                  <a:pt x="20959" y="11066"/>
                  <a:pt x="21208" y="11105"/>
                  <a:pt x="21456" y="11112"/>
                </a:cubicBezTo>
                <a:cubicBezTo>
                  <a:pt x="21593" y="11116"/>
                  <a:pt x="21851" y="11159"/>
                  <a:pt x="21977" y="11088"/>
                </a:cubicBezTo>
                <a:cubicBezTo>
                  <a:pt x="22036" y="11055"/>
                  <a:pt x="22039" y="11050"/>
                  <a:pt x="22051" y="10964"/>
                </a:cubicBezTo>
                <a:cubicBezTo>
                  <a:pt x="22062" y="10880"/>
                  <a:pt x="22042" y="10809"/>
                  <a:pt x="22027" y="10740"/>
                </a:cubicBezTo>
              </a:path>
              <a:path w="13371" h="3349">
                <a:moveTo>
                  <a:pt x="12626" y="11410"/>
                </a:moveTo>
                <a:cubicBezTo>
                  <a:pt x="12626" y="11518"/>
                  <a:pt x="12615" y="11604"/>
                  <a:pt x="12601" y="11708"/>
                </a:cubicBezTo>
                <a:cubicBezTo>
                  <a:pt x="12592" y="11773"/>
                  <a:pt x="12560" y="11812"/>
                  <a:pt x="12551" y="11881"/>
                </a:cubicBezTo>
                <a:cubicBezTo>
                  <a:pt x="12597" y="11855"/>
                  <a:pt x="12650" y="11856"/>
                  <a:pt x="12700" y="11881"/>
                </a:cubicBezTo>
                <a:cubicBezTo>
                  <a:pt x="12767" y="11915"/>
                  <a:pt x="12826" y="11933"/>
                  <a:pt x="12898" y="11956"/>
                </a:cubicBezTo>
                <a:cubicBezTo>
                  <a:pt x="12986" y="11984"/>
                  <a:pt x="13036" y="11988"/>
                  <a:pt x="13122" y="11956"/>
                </a:cubicBezTo>
              </a:path>
              <a:path w="13371" h="3349">
                <a:moveTo>
                  <a:pt x="13122" y="11137"/>
                </a:moveTo>
                <a:cubicBezTo>
                  <a:pt x="13122" y="11227"/>
                  <a:pt x="13100" y="11294"/>
                  <a:pt x="13097" y="11385"/>
                </a:cubicBezTo>
                <a:cubicBezTo>
                  <a:pt x="13093" y="11512"/>
                  <a:pt x="13082" y="11631"/>
                  <a:pt x="13072" y="11757"/>
                </a:cubicBezTo>
                <a:cubicBezTo>
                  <a:pt x="13060" y="11912"/>
                  <a:pt x="13078" y="12103"/>
                  <a:pt x="13097" y="12254"/>
                </a:cubicBezTo>
                <a:cubicBezTo>
                  <a:pt x="13108" y="12342"/>
                  <a:pt x="13102" y="12467"/>
                  <a:pt x="13122" y="12551"/>
                </a:cubicBezTo>
                <a:cubicBezTo>
                  <a:pt x="13149" y="12607"/>
                  <a:pt x="13157" y="12629"/>
                  <a:pt x="13146" y="12675"/>
                </a:cubicBezTo>
              </a:path>
              <a:path w="13371" h="3349">
                <a:moveTo>
                  <a:pt x="13593" y="11559"/>
                </a:moveTo>
                <a:cubicBezTo>
                  <a:pt x="13622" y="11665"/>
                  <a:pt x="13618" y="11769"/>
                  <a:pt x="13618" y="11881"/>
                </a:cubicBezTo>
                <a:cubicBezTo>
                  <a:pt x="13618" y="11985"/>
                  <a:pt x="13632" y="12079"/>
                  <a:pt x="13643" y="12179"/>
                </a:cubicBezTo>
                <a:cubicBezTo>
                  <a:pt x="13653" y="12271"/>
                  <a:pt x="13663" y="12361"/>
                  <a:pt x="13667" y="12452"/>
                </a:cubicBezTo>
                <a:cubicBezTo>
                  <a:pt x="13669" y="12500"/>
                  <a:pt x="13683" y="12531"/>
                  <a:pt x="13692" y="12576"/>
                </a:cubicBezTo>
              </a:path>
              <a:path w="13371" h="3349">
                <a:moveTo>
                  <a:pt x="13370" y="11906"/>
                </a:moveTo>
                <a:cubicBezTo>
                  <a:pt x="13467" y="11914"/>
                  <a:pt x="13523" y="11926"/>
                  <a:pt x="13618" y="11956"/>
                </a:cubicBezTo>
                <a:cubicBezTo>
                  <a:pt x="13707" y="11984"/>
                  <a:pt x="13798" y="11996"/>
                  <a:pt x="13891" y="12005"/>
                </a:cubicBezTo>
              </a:path>
              <a:path w="13371" h="3349">
                <a:moveTo>
                  <a:pt x="14139" y="12005"/>
                </a:moveTo>
                <a:cubicBezTo>
                  <a:pt x="14088" y="11981"/>
                  <a:pt x="13985" y="12079"/>
                  <a:pt x="13940" y="12129"/>
                </a:cubicBezTo>
                <a:cubicBezTo>
                  <a:pt x="13901" y="12172"/>
                  <a:pt x="13875" y="12274"/>
                  <a:pt x="13866" y="12328"/>
                </a:cubicBezTo>
                <a:cubicBezTo>
                  <a:pt x="13853" y="12403"/>
                  <a:pt x="13874" y="12487"/>
                  <a:pt x="13915" y="12551"/>
                </a:cubicBezTo>
                <a:cubicBezTo>
                  <a:pt x="13954" y="12613"/>
                  <a:pt x="14009" y="12616"/>
                  <a:pt x="14064" y="12576"/>
                </a:cubicBezTo>
                <a:cubicBezTo>
                  <a:pt x="14135" y="12524"/>
                  <a:pt x="14118" y="12401"/>
                  <a:pt x="14139" y="12328"/>
                </a:cubicBezTo>
                <a:cubicBezTo>
                  <a:pt x="14160" y="12257"/>
                  <a:pt x="14163" y="12205"/>
                  <a:pt x="14163" y="12129"/>
                </a:cubicBezTo>
                <a:cubicBezTo>
                  <a:pt x="14163" y="12104"/>
                  <a:pt x="14163" y="12080"/>
                  <a:pt x="14163" y="12055"/>
                </a:cubicBezTo>
                <a:cubicBezTo>
                  <a:pt x="14191" y="12155"/>
                  <a:pt x="14196" y="12257"/>
                  <a:pt x="14238" y="12353"/>
                </a:cubicBezTo>
                <a:cubicBezTo>
                  <a:pt x="14263" y="12410"/>
                  <a:pt x="14270" y="12534"/>
                  <a:pt x="14312" y="12576"/>
                </a:cubicBezTo>
                <a:cubicBezTo>
                  <a:pt x="14337" y="12601"/>
                  <a:pt x="14404" y="12642"/>
                  <a:pt x="14436" y="12650"/>
                </a:cubicBezTo>
              </a:path>
              <a:path w="13371" h="3349">
                <a:moveTo>
                  <a:pt x="14461" y="12129"/>
                </a:moveTo>
                <a:cubicBezTo>
                  <a:pt x="14461" y="12303"/>
                  <a:pt x="14461" y="12476"/>
                  <a:pt x="14461" y="12650"/>
                </a:cubicBezTo>
                <a:cubicBezTo>
                  <a:pt x="14484" y="12553"/>
                  <a:pt x="14481" y="12446"/>
                  <a:pt x="14511" y="12353"/>
                </a:cubicBezTo>
                <a:cubicBezTo>
                  <a:pt x="14536" y="12275"/>
                  <a:pt x="14554" y="12208"/>
                  <a:pt x="14585" y="12129"/>
                </a:cubicBezTo>
                <a:cubicBezTo>
                  <a:pt x="14613" y="12059"/>
                  <a:pt x="14613" y="12052"/>
                  <a:pt x="14660" y="12005"/>
                </a:cubicBezTo>
                <a:cubicBezTo>
                  <a:pt x="14728" y="12065"/>
                  <a:pt x="14773" y="12139"/>
                  <a:pt x="14808" y="12229"/>
                </a:cubicBezTo>
                <a:cubicBezTo>
                  <a:pt x="14839" y="12307"/>
                  <a:pt x="14848" y="12419"/>
                  <a:pt x="14858" y="12502"/>
                </a:cubicBezTo>
                <a:cubicBezTo>
                  <a:pt x="14867" y="12571"/>
                  <a:pt x="14880" y="12635"/>
                  <a:pt x="14908" y="12700"/>
                </a:cubicBezTo>
                <a:cubicBezTo>
                  <a:pt x="14932" y="12750"/>
                  <a:pt x="14940" y="12767"/>
                  <a:pt x="14957" y="12700"/>
                </a:cubicBezTo>
              </a:path>
              <a:path w="13371" h="3349">
                <a:moveTo>
                  <a:pt x="14908" y="11286"/>
                </a:moveTo>
                <a:cubicBezTo>
                  <a:pt x="14908" y="11343"/>
                  <a:pt x="14907" y="11413"/>
                  <a:pt x="14883" y="11460"/>
                </a:cubicBezTo>
                <a:cubicBezTo>
                  <a:pt x="14850" y="11526"/>
                  <a:pt x="14842" y="11573"/>
                  <a:pt x="14932" y="11584"/>
                </a:cubicBezTo>
                <a:cubicBezTo>
                  <a:pt x="15013" y="11594"/>
                  <a:pt x="15022" y="11598"/>
                  <a:pt x="15106" y="11584"/>
                </a:cubicBezTo>
                <a:cubicBezTo>
                  <a:pt x="15123" y="11584"/>
                  <a:pt x="15139" y="11584"/>
                  <a:pt x="15156" y="11584"/>
                </a:cubicBezTo>
              </a:path>
              <a:path w="13371" h="3349">
                <a:moveTo>
                  <a:pt x="15131" y="11063"/>
                </a:moveTo>
                <a:cubicBezTo>
                  <a:pt x="15098" y="11118"/>
                  <a:pt x="15106" y="11169"/>
                  <a:pt x="15106" y="11237"/>
                </a:cubicBezTo>
                <a:cubicBezTo>
                  <a:pt x="15106" y="11435"/>
                  <a:pt x="15061" y="11696"/>
                  <a:pt x="15131" y="11881"/>
                </a:cubicBezTo>
              </a:path>
              <a:path w="13371" h="3349">
                <a:moveTo>
                  <a:pt x="15404" y="12030"/>
                </a:moveTo>
                <a:cubicBezTo>
                  <a:pt x="15434" y="12137"/>
                  <a:pt x="15472" y="12256"/>
                  <a:pt x="15528" y="12353"/>
                </a:cubicBezTo>
                <a:cubicBezTo>
                  <a:pt x="15587" y="12454"/>
                  <a:pt x="15636" y="12552"/>
                  <a:pt x="15701" y="12650"/>
                </a:cubicBezTo>
                <a:cubicBezTo>
                  <a:pt x="15770" y="12753"/>
                  <a:pt x="15821" y="12854"/>
                  <a:pt x="15925" y="12923"/>
                </a:cubicBezTo>
                <a:cubicBezTo>
                  <a:pt x="15991" y="12967"/>
                  <a:pt x="15992" y="12965"/>
                  <a:pt x="16073" y="12973"/>
                </a:cubicBezTo>
              </a:path>
              <a:path w="13371" h="3349">
                <a:moveTo>
                  <a:pt x="15825" y="12129"/>
                </a:moveTo>
                <a:cubicBezTo>
                  <a:pt x="15736" y="12244"/>
                  <a:pt x="15635" y="12400"/>
                  <a:pt x="15528" y="12502"/>
                </a:cubicBezTo>
                <a:cubicBezTo>
                  <a:pt x="15443" y="12583"/>
                  <a:pt x="15346" y="12680"/>
                  <a:pt x="15280" y="12774"/>
                </a:cubicBezTo>
                <a:cubicBezTo>
                  <a:pt x="15233" y="12867"/>
                  <a:pt x="15223" y="12896"/>
                  <a:pt x="15156" y="12923"/>
                </a:cubicBezTo>
              </a:path>
              <a:path w="13371" h="3349">
                <a:moveTo>
                  <a:pt x="12799" y="10096"/>
                </a:moveTo>
                <a:cubicBezTo>
                  <a:pt x="12812" y="10150"/>
                  <a:pt x="12822" y="10202"/>
                  <a:pt x="12824" y="10269"/>
                </a:cubicBezTo>
                <a:cubicBezTo>
                  <a:pt x="12826" y="10355"/>
                  <a:pt x="12787" y="10433"/>
                  <a:pt x="12799" y="10517"/>
                </a:cubicBezTo>
                <a:cubicBezTo>
                  <a:pt x="12811" y="10594"/>
                  <a:pt x="12850" y="10603"/>
                  <a:pt x="12923" y="10616"/>
                </a:cubicBezTo>
                <a:cubicBezTo>
                  <a:pt x="13063" y="10641"/>
                  <a:pt x="13229" y="10626"/>
                  <a:pt x="13370" y="10641"/>
                </a:cubicBezTo>
                <a:cubicBezTo>
                  <a:pt x="13491" y="10654"/>
                  <a:pt x="13626" y="10655"/>
                  <a:pt x="13742" y="10666"/>
                </a:cubicBezTo>
                <a:cubicBezTo>
                  <a:pt x="13880" y="10679"/>
                  <a:pt x="14029" y="10682"/>
                  <a:pt x="14163" y="10691"/>
                </a:cubicBezTo>
                <a:cubicBezTo>
                  <a:pt x="14346" y="10703"/>
                  <a:pt x="14530" y="10699"/>
                  <a:pt x="14709" y="10716"/>
                </a:cubicBezTo>
                <a:cubicBezTo>
                  <a:pt x="14813" y="10726"/>
                  <a:pt x="14934" y="10733"/>
                  <a:pt x="15032" y="10740"/>
                </a:cubicBezTo>
                <a:cubicBezTo>
                  <a:pt x="15167" y="10750"/>
                  <a:pt x="15294" y="10761"/>
                  <a:pt x="15429" y="10765"/>
                </a:cubicBezTo>
                <a:cubicBezTo>
                  <a:pt x="15515" y="10767"/>
                  <a:pt x="15590" y="10787"/>
                  <a:pt x="15677" y="10790"/>
                </a:cubicBezTo>
                <a:cubicBezTo>
                  <a:pt x="15744" y="10792"/>
                  <a:pt x="15819" y="10790"/>
                  <a:pt x="15875" y="10765"/>
                </a:cubicBezTo>
                <a:cubicBezTo>
                  <a:pt x="15949" y="10732"/>
                  <a:pt x="15960" y="10712"/>
                  <a:pt x="15974" y="10641"/>
                </a:cubicBezTo>
                <a:cubicBezTo>
                  <a:pt x="15992" y="10549"/>
                  <a:pt x="15932" y="10384"/>
                  <a:pt x="15949" y="10319"/>
                </a:cubicBezTo>
                <a:cubicBezTo>
                  <a:pt x="15957" y="10327"/>
                  <a:pt x="15966" y="10336"/>
                  <a:pt x="15974" y="10344"/>
                </a:cubicBezTo>
              </a:path>
              <a:path w="13371" h="3349">
                <a:moveTo>
                  <a:pt x="22175" y="10666"/>
                </a:moveTo>
                <a:cubicBezTo>
                  <a:pt x="22204" y="10736"/>
                  <a:pt x="22240" y="10808"/>
                  <a:pt x="22250" y="10889"/>
                </a:cubicBezTo>
                <a:cubicBezTo>
                  <a:pt x="22260" y="10972"/>
                  <a:pt x="22260" y="11055"/>
                  <a:pt x="22275" y="11137"/>
                </a:cubicBezTo>
                <a:cubicBezTo>
                  <a:pt x="22290" y="11220"/>
                  <a:pt x="22283" y="11253"/>
                  <a:pt x="22374" y="11261"/>
                </a:cubicBezTo>
                <a:cubicBezTo>
                  <a:pt x="22442" y="11267"/>
                  <a:pt x="22545" y="11237"/>
                  <a:pt x="22622" y="11237"/>
                </a:cubicBezTo>
                <a:cubicBezTo>
                  <a:pt x="22749" y="11237"/>
                  <a:pt x="22871" y="11252"/>
                  <a:pt x="22994" y="11261"/>
                </a:cubicBezTo>
                <a:cubicBezTo>
                  <a:pt x="23196" y="11276"/>
                  <a:pt x="23386" y="11280"/>
                  <a:pt x="23589" y="11311"/>
                </a:cubicBezTo>
                <a:cubicBezTo>
                  <a:pt x="23763" y="11337"/>
                  <a:pt x="23934" y="11357"/>
                  <a:pt x="24110" y="11361"/>
                </a:cubicBezTo>
                <a:cubicBezTo>
                  <a:pt x="24277" y="11365"/>
                  <a:pt x="24438" y="11385"/>
                  <a:pt x="24606" y="11385"/>
                </a:cubicBezTo>
                <a:cubicBezTo>
                  <a:pt x="24748" y="11385"/>
                  <a:pt x="24889" y="11380"/>
                  <a:pt x="25028" y="11361"/>
                </a:cubicBezTo>
                <a:cubicBezTo>
                  <a:pt x="25103" y="11350"/>
                  <a:pt x="25245" y="11344"/>
                  <a:pt x="25301" y="11286"/>
                </a:cubicBezTo>
                <a:cubicBezTo>
                  <a:pt x="25380" y="11204"/>
                  <a:pt x="25372" y="11128"/>
                  <a:pt x="25375" y="11013"/>
                </a:cubicBezTo>
                <a:cubicBezTo>
                  <a:pt x="25380" y="10804"/>
                  <a:pt x="25365" y="10602"/>
                  <a:pt x="25350" y="10393"/>
                </a:cubicBezTo>
              </a:path>
              <a:path w="13371" h="3349">
                <a:moveTo>
                  <a:pt x="16321" y="11633"/>
                </a:moveTo>
                <a:cubicBezTo>
                  <a:pt x="16321" y="11866"/>
                  <a:pt x="16323" y="12102"/>
                  <a:pt x="16297" y="12328"/>
                </a:cubicBezTo>
                <a:cubicBezTo>
                  <a:pt x="16285" y="12432"/>
                  <a:pt x="16297" y="12545"/>
                  <a:pt x="16297" y="12650"/>
                </a:cubicBezTo>
              </a:path>
              <a:path w="13371" h="3349">
                <a:moveTo>
                  <a:pt x="16073" y="12055"/>
                </a:moveTo>
                <a:cubicBezTo>
                  <a:pt x="16203" y="12061"/>
                  <a:pt x="16316" y="12080"/>
                  <a:pt x="16446" y="12080"/>
                </a:cubicBezTo>
                <a:cubicBezTo>
                  <a:pt x="16512" y="12080"/>
                  <a:pt x="16529" y="12080"/>
                  <a:pt x="16570" y="12080"/>
                </a:cubicBezTo>
              </a:path>
              <a:path w="13371" h="3349">
                <a:moveTo>
                  <a:pt x="17115" y="11906"/>
                </a:moveTo>
                <a:cubicBezTo>
                  <a:pt x="17139" y="12001"/>
                  <a:pt x="17140" y="12081"/>
                  <a:pt x="17140" y="12179"/>
                </a:cubicBezTo>
                <a:cubicBezTo>
                  <a:pt x="17140" y="12357"/>
                  <a:pt x="17144" y="12526"/>
                  <a:pt x="17165" y="12700"/>
                </a:cubicBezTo>
                <a:cubicBezTo>
                  <a:pt x="17165" y="12717"/>
                  <a:pt x="17165" y="12733"/>
                  <a:pt x="17165" y="12750"/>
                </a:cubicBezTo>
              </a:path>
              <a:path w="13371" h="3349">
                <a:moveTo>
                  <a:pt x="16892" y="12254"/>
                </a:moveTo>
                <a:cubicBezTo>
                  <a:pt x="16960" y="12208"/>
                  <a:pt x="17024" y="12184"/>
                  <a:pt x="17115" y="12204"/>
                </a:cubicBezTo>
                <a:cubicBezTo>
                  <a:pt x="17218" y="12226"/>
                  <a:pt x="17313" y="12257"/>
                  <a:pt x="17413" y="12278"/>
                </a:cubicBezTo>
                <a:cubicBezTo>
                  <a:pt x="17480" y="12292"/>
                  <a:pt x="17593" y="12348"/>
                  <a:pt x="17661" y="12328"/>
                </a:cubicBezTo>
                <a:cubicBezTo>
                  <a:pt x="17669" y="12320"/>
                  <a:pt x="17678" y="12311"/>
                  <a:pt x="17686" y="12303"/>
                </a:cubicBezTo>
                <a:cubicBezTo>
                  <a:pt x="17579" y="12303"/>
                  <a:pt x="17550" y="12305"/>
                  <a:pt x="17487" y="12402"/>
                </a:cubicBezTo>
                <a:cubicBezTo>
                  <a:pt x="17433" y="12484"/>
                  <a:pt x="17423" y="12556"/>
                  <a:pt x="17462" y="12650"/>
                </a:cubicBezTo>
                <a:cubicBezTo>
                  <a:pt x="17474" y="12678"/>
                  <a:pt x="17558" y="12752"/>
                  <a:pt x="17587" y="12750"/>
                </a:cubicBezTo>
                <a:cubicBezTo>
                  <a:pt x="17657" y="12746"/>
                  <a:pt x="17678" y="12651"/>
                  <a:pt x="17686" y="12601"/>
                </a:cubicBezTo>
                <a:cubicBezTo>
                  <a:pt x="17699" y="12526"/>
                  <a:pt x="17711" y="12456"/>
                  <a:pt x="17711" y="12378"/>
                </a:cubicBezTo>
                <a:cubicBezTo>
                  <a:pt x="17711" y="12361"/>
                  <a:pt x="17711" y="12345"/>
                  <a:pt x="17711" y="12328"/>
                </a:cubicBezTo>
                <a:cubicBezTo>
                  <a:pt x="17711" y="12411"/>
                  <a:pt x="17709" y="12499"/>
                  <a:pt x="17735" y="12576"/>
                </a:cubicBezTo>
                <a:cubicBezTo>
                  <a:pt x="17756" y="12640"/>
                  <a:pt x="17802" y="12695"/>
                  <a:pt x="17835" y="12750"/>
                </a:cubicBezTo>
                <a:cubicBezTo>
                  <a:pt x="17843" y="12766"/>
                  <a:pt x="17851" y="12783"/>
                  <a:pt x="17859" y="12799"/>
                </a:cubicBezTo>
              </a:path>
              <a:path w="13371" h="3349">
                <a:moveTo>
                  <a:pt x="17909" y="12477"/>
                </a:moveTo>
                <a:cubicBezTo>
                  <a:pt x="17940" y="12477"/>
                  <a:pt x="17946" y="12571"/>
                  <a:pt x="17959" y="12650"/>
                </a:cubicBezTo>
                <a:cubicBezTo>
                  <a:pt x="17971" y="12725"/>
                  <a:pt x="17931" y="12930"/>
                  <a:pt x="17983" y="12874"/>
                </a:cubicBezTo>
                <a:cubicBezTo>
                  <a:pt x="18011" y="12844"/>
                  <a:pt x="18007" y="12605"/>
                  <a:pt x="18008" y="12576"/>
                </a:cubicBezTo>
                <a:cubicBezTo>
                  <a:pt x="18010" y="12520"/>
                  <a:pt x="18018" y="12433"/>
                  <a:pt x="18033" y="12378"/>
                </a:cubicBezTo>
                <a:cubicBezTo>
                  <a:pt x="18053" y="12308"/>
                  <a:pt x="18074" y="12246"/>
                  <a:pt x="18107" y="12179"/>
                </a:cubicBezTo>
                <a:cubicBezTo>
                  <a:pt x="18141" y="12221"/>
                  <a:pt x="18190" y="12275"/>
                  <a:pt x="18207" y="12328"/>
                </a:cubicBezTo>
                <a:cubicBezTo>
                  <a:pt x="18240" y="12428"/>
                  <a:pt x="18233" y="12528"/>
                  <a:pt x="18256" y="12626"/>
                </a:cubicBezTo>
                <a:cubicBezTo>
                  <a:pt x="18273" y="12699"/>
                  <a:pt x="18302" y="12782"/>
                  <a:pt x="18331" y="12849"/>
                </a:cubicBezTo>
                <a:cubicBezTo>
                  <a:pt x="18339" y="12865"/>
                  <a:pt x="18347" y="12882"/>
                  <a:pt x="18355" y="12898"/>
                </a:cubicBezTo>
              </a:path>
              <a:path w="13371" h="3349">
                <a:moveTo>
                  <a:pt x="18256" y="11782"/>
                </a:moveTo>
                <a:cubicBezTo>
                  <a:pt x="18286" y="11740"/>
                  <a:pt x="18334" y="11634"/>
                  <a:pt x="18405" y="11658"/>
                </a:cubicBezTo>
                <a:cubicBezTo>
                  <a:pt x="18452" y="11674"/>
                  <a:pt x="18512" y="11763"/>
                  <a:pt x="18504" y="11807"/>
                </a:cubicBezTo>
                <a:cubicBezTo>
                  <a:pt x="18486" y="11906"/>
                  <a:pt x="18455" y="11976"/>
                  <a:pt x="18455" y="12080"/>
                </a:cubicBezTo>
                <a:cubicBezTo>
                  <a:pt x="18455" y="12145"/>
                  <a:pt x="18439" y="12222"/>
                  <a:pt x="18479" y="12278"/>
                </a:cubicBezTo>
                <a:cubicBezTo>
                  <a:pt x="18515" y="12328"/>
                  <a:pt x="18549" y="12342"/>
                  <a:pt x="18604" y="12353"/>
                </a:cubicBezTo>
              </a:path>
              <a:path w="13371" h="3349">
                <a:moveTo>
                  <a:pt x="18728" y="12278"/>
                </a:moveTo>
                <a:cubicBezTo>
                  <a:pt x="18775" y="12353"/>
                  <a:pt x="18799" y="12459"/>
                  <a:pt x="18852" y="12526"/>
                </a:cubicBezTo>
                <a:cubicBezTo>
                  <a:pt x="18936" y="12633"/>
                  <a:pt x="19008" y="12746"/>
                  <a:pt x="19100" y="12849"/>
                </a:cubicBezTo>
                <a:cubicBezTo>
                  <a:pt x="19154" y="12909"/>
                  <a:pt x="19216" y="12965"/>
                  <a:pt x="19273" y="13022"/>
                </a:cubicBezTo>
              </a:path>
              <a:path w="13371" h="3349">
                <a:moveTo>
                  <a:pt x="19323" y="12303"/>
                </a:moveTo>
                <a:cubicBezTo>
                  <a:pt x="19298" y="12278"/>
                  <a:pt x="19273" y="12254"/>
                  <a:pt x="19248" y="12229"/>
                </a:cubicBezTo>
                <a:cubicBezTo>
                  <a:pt x="19207" y="12281"/>
                  <a:pt x="19179" y="12336"/>
                  <a:pt x="19124" y="12378"/>
                </a:cubicBezTo>
                <a:cubicBezTo>
                  <a:pt x="19043" y="12440"/>
                  <a:pt x="19005" y="12513"/>
                  <a:pt x="18951" y="12601"/>
                </a:cubicBezTo>
                <a:cubicBezTo>
                  <a:pt x="18893" y="12697"/>
                  <a:pt x="18841" y="12771"/>
                  <a:pt x="18802" y="12874"/>
                </a:cubicBezTo>
                <a:cubicBezTo>
                  <a:pt x="18780" y="12931"/>
                  <a:pt x="18762" y="13003"/>
                  <a:pt x="18728" y="13047"/>
                </a:cubicBezTo>
                <a:cubicBezTo>
                  <a:pt x="18700" y="13075"/>
                  <a:pt x="18691" y="13089"/>
                  <a:pt x="18703" y="13122"/>
                </a:cubicBezTo>
              </a:path>
              <a:path w="13371" h="3349">
                <a:moveTo>
                  <a:pt x="19794" y="12502"/>
                </a:moveTo>
                <a:cubicBezTo>
                  <a:pt x="19910" y="12502"/>
                  <a:pt x="20025" y="12502"/>
                  <a:pt x="20141" y="12502"/>
                </a:cubicBezTo>
              </a:path>
              <a:path w="13371" h="3349">
                <a:moveTo>
                  <a:pt x="20538" y="12129"/>
                </a:moveTo>
                <a:cubicBezTo>
                  <a:pt x="20628" y="12137"/>
                  <a:pt x="20673" y="12139"/>
                  <a:pt x="20737" y="12204"/>
                </a:cubicBezTo>
                <a:cubicBezTo>
                  <a:pt x="20804" y="12272"/>
                  <a:pt x="20831" y="12302"/>
                  <a:pt x="20762" y="12378"/>
                </a:cubicBezTo>
                <a:cubicBezTo>
                  <a:pt x="20708" y="12437"/>
                  <a:pt x="20676" y="12484"/>
                  <a:pt x="20588" y="12502"/>
                </a:cubicBezTo>
                <a:cubicBezTo>
                  <a:pt x="20537" y="12513"/>
                  <a:pt x="20516" y="12519"/>
                  <a:pt x="20464" y="12526"/>
                </a:cubicBezTo>
                <a:cubicBezTo>
                  <a:pt x="20549" y="12514"/>
                  <a:pt x="20531" y="12507"/>
                  <a:pt x="20613" y="12551"/>
                </a:cubicBezTo>
                <a:cubicBezTo>
                  <a:pt x="20723" y="12609"/>
                  <a:pt x="20737" y="12692"/>
                  <a:pt x="20786" y="12799"/>
                </a:cubicBezTo>
                <a:cubicBezTo>
                  <a:pt x="20862" y="12966"/>
                  <a:pt x="20855" y="13047"/>
                  <a:pt x="20811" y="13221"/>
                </a:cubicBezTo>
                <a:cubicBezTo>
                  <a:pt x="20783" y="13332"/>
                  <a:pt x="20733" y="13416"/>
                  <a:pt x="20613" y="13444"/>
                </a:cubicBezTo>
                <a:cubicBezTo>
                  <a:pt x="20455" y="13482"/>
                  <a:pt x="20334" y="13349"/>
                  <a:pt x="20216" y="132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Ink 6"/>
          <p:cNvSpPr/>
          <p:nvPr/>
        </p:nvSpPr>
        <p:spPr>
          <a:xfrm>
            <a:off x="2411280" y="2340000"/>
            <a:ext cx="303480" cy="2035080"/>
          </a:xfrm>
          <a:custGeom>
            <a:avLst/>
            <a:gdLst/>
            <a:ahLst/>
            <a:rect l="l" t="t" r="r" b="b"/>
            <a:pathLst>
              <a:path w="845" h="5656">
                <a:moveTo>
                  <a:pt x="7441" y="6499"/>
                </a:moveTo>
                <a:cubicBezTo>
                  <a:pt x="7441" y="6713"/>
                  <a:pt x="7436" y="6931"/>
                  <a:pt x="7417" y="7144"/>
                </a:cubicBezTo>
                <a:cubicBezTo>
                  <a:pt x="7370" y="7662"/>
                  <a:pt x="7327" y="8192"/>
                  <a:pt x="7268" y="8706"/>
                </a:cubicBezTo>
                <a:cubicBezTo>
                  <a:pt x="7222" y="9111"/>
                  <a:pt x="7106" y="9517"/>
                  <a:pt x="7069" y="9922"/>
                </a:cubicBezTo>
                <a:cubicBezTo>
                  <a:pt x="7040" y="10234"/>
                  <a:pt x="7078" y="10554"/>
                  <a:pt x="7094" y="10864"/>
                </a:cubicBezTo>
                <a:cubicBezTo>
                  <a:pt x="7100" y="10986"/>
                  <a:pt x="7147" y="11147"/>
                  <a:pt x="7144" y="11261"/>
                </a:cubicBezTo>
                <a:cubicBezTo>
                  <a:pt x="7144" y="11306"/>
                  <a:pt x="7147" y="11319"/>
                  <a:pt x="7119" y="11336"/>
                </a:cubicBezTo>
                <a:cubicBezTo>
                  <a:pt x="7018" y="11271"/>
                  <a:pt x="6981" y="11240"/>
                  <a:pt x="6871" y="11212"/>
                </a:cubicBezTo>
                <a:cubicBezTo>
                  <a:pt x="6796" y="11193"/>
                  <a:pt x="6777" y="11203"/>
                  <a:pt x="6697" y="11212"/>
                </a:cubicBezTo>
                <a:cubicBezTo>
                  <a:pt x="6707" y="11314"/>
                  <a:pt x="6721" y="11384"/>
                  <a:pt x="6747" y="11485"/>
                </a:cubicBezTo>
                <a:cubicBezTo>
                  <a:pt x="6777" y="11602"/>
                  <a:pt x="6841" y="11685"/>
                  <a:pt x="6871" y="11807"/>
                </a:cubicBezTo>
                <a:cubicBezTo>
                  <a:pt x="6894" y="11900"/>
                  <a:pt x="6930" y="12012"/>
                  <a:pt x="6945" y="12105"/>
                </a:cubicBezTo>
                <a:cubicBezTo>
                  <a:pt x="6945" y="12121"/>
                  <a:pt x="6945" y="12138"/>
                  <a:pt x="6945" y="12154"/>
                </a:cubicBezTo>
                <a:cubicBezTo>
                  <a:pt x="7006" y="12087"/>
                  <a:pt x="7060" y="12033"/>
                  <a:pt x="7119" y="11956"/>
                </a:cubicBezTo>
                <a:cubicBezTo>
                  <a:pt x="7313" y="11706"/>
                  <a:pt x="7417" y="11429"/>
                  <a:pt x="7541" y="1113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6d8c0"/>
                </a:solidFill>
                <a:latin typeface="Arial"/>
              </a:rPr>
              <a:t>Homework:</a:t>
            </a:r>
            <a:br>
              <a:rPr sz="8500"/>
            </a:br>
            <a:r>
              <a:rPr b="0" lang="en-US" sz="8500" spc="-1" strike="noStrike">
                <a:solidFill>
                  <a:srgbClr val="d6d8c0"/>
                </a:solidFill>
                <a:latin typeface="Arial"/>
              </a:rPr>
              <a:t>Pages 389-390</a:t>
            </a:r>
            <a:br>
              <a:rPr sz="8500"/>
            </a:br>
            <a:r>
              <a:rPr b="0" lang="en-US" sz="8500" spc="-1" strike="noStrike">
                <a:solidFill>
                  <a:srgbClr val="d6d8c0"/>
                </a:solidFill>
                <a:latin typeface="Arial"/>
              </a:rPr>
              <a:t>#19-21,25-29</a:t>
            </a:r>
            <a:endParaRPr b="0" lang="en-US" sz="8500" spc="-1" strike="noStrike">
              <a:solidFill>
                <a:srgbClr val="d6d8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Questions from homework</a:t>
            </a:r>
            <a:br>
              <a:rPr sz="4000"/>
            </a:b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(pg 389 #1,3,7,9)</a:t>
            </a:r>
            <a:endParaRPr b="0" lang="en-US" sz="40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80" name="Ink 3"/>
          <p:cNvSpPr/>
          <p:nvPr/>
        </p:nvSpPr>
        <p:spPr>
          <a:xfrm>
            <a:off x="919080" y="2044800"/>
            <a:ext cx="331920" cy="447480"/>
          </a:xfrm>
          <a:custGeom>
            <a:avLst/>
            <a:gdLst/>
            <a:ahLst/>
            <a:rect l="l" t="t" r="r" b="b"/>
            <a:pathLst>
              <a:path w="919" h="1242">
                <a:moveTo>
                  <a:pt x="3101" y="5978"/>
                </a:moveTo>
                <a:cubicBezTo>
                  <a:pt x="3194" y="5954"/>
                  <a:pt x="3133" y="6106"/>
                  <a:pt x="3125" y="6176"/>
                </a:cubicBezTo>
                <a:cubicBezTo>
                  <a:pt x="3116" y="6253"/>
                  <a:pt x="3112" y="6327"/>
                  <a:pt x="3101" y="6400"/>
                </a:cubicBezTo>
                <a:cubicBezTo>
                  <a:pt x="3088" y="6484"/>
                  <a:pt x="3128" y="6578"/>
                  <a:pt x="3076" y="6648"/>
                </a:cubicBezTo>
                <a:cubicBezTo>
                  <a:pt x="3051" y="6672"/>
                  <a:pt x="3043" y="6680"/>
                  <a:pt x="3026" y="6648"/>
                </a:cubicBezTo>
              </a:path>
              <a:path w="919" h="1242">
                <a:moveTo>
                  <a:pt x="3026" y="5730"/>
                </a:moveTo>
                <a:cubicBezTo>
                  <a:pt x="2953" y="5671"/>
                  <a:pt x="2967" y="5687"/>
                  <a:pt x="2902" y="5730"/>
                </a:cubicBezTo>
                <a:cubicBezTo>
                  <a:pt x="2841" y="5770"/>
                  <a:pt x="2773" y="5817"/>
                  <a:pt x="2729" y="5879"/>
                </a:cubicBezTo>
                <a:cubicBezTo>
                  <a:pt x="2687" y="5938"/>
                  <a:pt x="2637" y="6039"/>
                  <a:pt x="2604" y="6102"/>
                </a:cubicBezTo>
                <a:cubicBezTo>
                  <a:pt x="2553" y="6200"/>
                  <a:pt x="2555" y="6292"/>
                  <a:pt x="2555" y="6400"/>
                </a:cubicBezTo>
                <a:cubicBezTo>
                  <a:pt x="2555" y="6474"/>
                  <a:pt x="2546" y="6607"/>
                  <a:pt x="2580" y="6672"/>
                </a:cubicBezTo>
                <a:cubicBezTo>
                  <a:pt x="2626" y="6761"/>
                  <a:pt x="2715" y="6860"/>
                  <a:pt x="2803" y="6896"/>
                </a:cubicBezTo>
                <a:cubicBezTo>
                  <a:pt x="2908" y="6938"/>
                  <a:pt x="3004" y="6928"/>
                  <a:pt x="3101" y="6871"/>
                </a:cubicBezTo>
                <a:cubicBezTo>
                  <a:pt x="3215" y="6804"/>
                  <a:pt x="3262" y="6756"/>
                  <a:pt x="3324" y="6648"/>
                </a:cubicBezTo>
                <a:cubicBezTo>
                  <a:pt x="3388" y="6537"/>
                  <a:pt x="3455" y="6458"/>
                  <a:pt x="3473" y="6325"/>
                </a:cubicBezTo>
                <a:cubicBezTo>
                  <a:pt x="3486" y="6225"/>
                  <a:pt x="3472" y="6116"/>
                  <a:pt x="3423" y="6028"/>
                </a:cubicBezTo>
                <a:cubicBezTo>
                  <a:pt x="3383" y="5956"/>
                  <a:pt x="3307" y="5834"/>
                  <a:pt x="3225" y="5804"/>
                </a:cubicBezTo>
                <a:cubicBezTo>
                  <a:pt x="3168" y="5783"/>
                  <a:pt x="3021" y="5760"/>
                  <a:pt x="2952" y="5779"/>
                </a:cubicBezTo>
                <a:cubicBezTo>
                  <a:pt x="2935" y="5787"/>
                  <a:pt x="2919" y="5796"/>
                  <a:pt x="2902" y="58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Ink 4"/>
          <p:cNvSpPr/>
          <p:nvPr/>
        </p:nvSpPr>
        <p:spPr>
          <a:xfrm>
            <a:off x="1866960" y="2027160"/>
            <a:ext cx="874800" cy="339840"/>
          </a:xfrm>
          <a:custGeom>
            <a:avLst/>
            <a:gdLst/>
            <a:ahLst/>
            <a:rect l="l" t="t" r="r" b="b"/>
            <a:pathLst>
              <a:path w="2432" h="943">
                <a:moveTo>
                  <a:pt x="5879" y="5730"/>
                </a:moveTo>
                <a:cubicBezTo>
                  <a:pt x="5833" y="5684"/>
                  <a:pt x="5821" y="5659"/>
                  <a:pt x="5755" y="5655"/>
                </a:cubicBezTo>
                <a:cubicBezTo>
                  <a:pt x="5672" y="5650"/>
                  <a:pt x="5596" y="5681"/>
                  <a:pt x="5531" y="5730"/>
                </a:cubicBezTo>
                <a:cubicBezTo>
                  <a:pt x="5485" y="5765"/>
                  <a:pt x="5448" y="5771"/>
                  <a:pt x="5407" y="5804"/>
                </a:cubicBezTo>
                <a:cubicBezTo>
                  <a:pt x="5337" y="5861"/>
                  <a:pt x="5407" y="5902"/>
                  <a:pt x="5457" y="5928"/>
                </a:cubicBezTo>
                <a:cubicBezTo>
                  <a:pt x="5517" y="5959"/>
                  <a:pt x="5634" y="6003"/>
                  <a:pt x="5680" y="6052"/>
                </a:cubicBezTo>
                <a:cubicBezTo>
                  <a:pt x="5730" y="6106"/>
                  <a:pt x="5730" y="6157"/>
                  <a:pt x="5730" y="6226"/>
                </a:cubicBezTo>
                <a:cubicBezTo>
                  <a:pt x="5730" y="6381"/>
                  <a:pt x="5646" y="6383"/>
                  <a:pt x="5507" y="6424"/>
                </a:cubicBezTo>
                <a:cubicBezTo>
                  <a:pt x="5426" y="6448"/>
                  <a:pt x="5366" y="6449"/>
                  <a:pt x="5283" y="6449"/>
                </a:cubicBezTo>
                <a:cubicBezTo>
                  <a:pt x="5233" y="6449"/>
                  <a:pt x="5144" y="6415"/>
                  <a:pt x="5209" y="6350"/>
                </a:cubicBezTo>
                <a:cubicBezTo>
                  <a:pt x="5226" y="6342"/>
                  <a:pt x="5242" y="6333"/>
                  <a:pt x="5259" y="6325"/>
                </a:cubicBezTo>
              </a:path>
              <a:path w="2432" h="943">
                <a:moveTo>
                  <a:pt x="6226" y="5904"/>
                </a:moveTo>
                <a:cubicBezTo>
                  <a:pt x="6256" y="6015"/>
                  <a:pt x="6241" y="6065"/>
                  <a:pt x="6226" y="6176"/>
                </a:cubicBezTo>
                <a:cubicBezTo>
                  <a:pt x="6224" y="6191"/>
                  <a:pt x="6184" y="6452"/>
                  <a:pt x="6201" y="6449"/>
                </a:cubicBezTo>
                <a:cubicBezTo>
                  <a:pt x="6209" y="6424"/>
                  <a:pt x="6218" y="6400"/>
                  <a:pt x="6226" y="6375"/>
                </a:cubicBezTo>
              </a:path>
              <a:path w="2432" h="943">
                <a:moveTo>
                  <a:pt x="6400" y="5631"/>
                </a:moveTo>
                <a:lnTo>
                  <a:pt x="6400" y="5631"/>
                </a:lnTo>
              </a:path>
              <a:path w="2432" h="943">
                <a:moveTo>
                  <a:pt x="6524" y="6127"/>
                </a:moveTo>
                <a:cubicBezTo>
                  <a:pt x="6509" y="6217"/>
                  <a:pt x="6490" y="6322"/>
                  <a:pt x="6474" y="6400"/>
                </a:cubicBezTo>
                <a:cubicBezTo>
                  <a:pt x="6448" y="6530"/>
                  <a:pt x="6469" y="6317"/>
                  <a:pt x="6474" y="6300"/>
                </a:cubicBezTo>
                <a:cubicBezTo>
                  <a:pt x="6495" y="6226"/>
                  <a:pt x="6517" y="6150"/>
                  <a:pt x="6548" y="6077"/>
                </a:cubicBezTo>
                <a:cubicBezTo>
                  <a:pt x="6582" y="5998"/>
                  <a:pt x="6632" y="5972"/>
                  <a:pt x="6672" y="5904"/>
                </a:cubicBezTo>
                <a:cubicBezTo>
                  <a:pt x="6706" y="5845"/>
                  <a:pt x="6833" y="5816"/>
                  <a:pt x="6871" y="5904"/>
                </a:cubicBezTo>
                <a:cubicBezTo>
                  <a:pt x="6899" y="5969"/>
                  <a:pt x="6913" y="6108"/>
                  <a:pt x="6921" y="6176"/>
                </a:cubicBezTo>
                <a:cubicBezTo>
                  <a:pt x="6928" y="6241"/>
                  <a:pt x="6925" y="6292"/>
                  <a:pt x="6945" y="6350"/>
                </a:cubicBezTo>
                <a:cubicBezTo>
                  <a:pt x="6965" y="6391"/>
                  <a:pt x="6963" y="6407"/>
                  <a:pt x="6995" y="6400"/>
                </a:cubicBezTo>
              </a:path>
              <a:path w="2432" h="943">
                <a:moveTo>
                  <a:pt x="7193" y="5829"/>
                </a:moveTo>
                <a:cubicBezTo>
                  <a:pt x="7236" y="5937"/>
                  <a:pt x="7238" y="6022"/>
                  <a:pt x="7268" y="6127"/>
                </a:cubicBezTo>
                <a:cubicBezTo>
                  <a:pt x="7290" y="6203"/>
                  <a:pt x="7351" y="6261"/>
                  <a:pt x="7392" y="6325"/>
                </a:cubicBezTo>
                <a:cubicBezTo>
                  <a:pt x="7422" y="6371"/>
                  <a:pt x="7492" y="6480"/>
                  <a:pt x="7565" y="6474"/>
                </a:cubicBezTo>
                <a:cubicBezTo>
                  <a:pt x="7590" y="6449"/>
                  <a:pt x="7598" y="6441"/>
                  <a:pt x="7615" y="6424"/>
                </a:cubicBezTo>
              </a:path>
              <a:path w="2432" h="943">
                <a:moveTo>
                  <a:pt x="7590" y="5804"/>
                </a:moveTo>
                <a:cubicBezTo>
                  <a:pt x="7522" y="5923"/>
                  <a:pt x="7484" y="6060"/>
                  <a:pt x="7417" y="6176"/>
                </a:cubicBezTo>
                <a:cubicBezTo>
                  <a:pt x="7373" y="6252"/>
                  <a:pt x="7310" y="6317"/>
                  <a:pt x="7268" y="6400"/>
                </a:cubicBezTo>
                <a:cubicBezTo>
                  <a:pt x="7239" y="6458"/>
                  <a:pt x="7215" y="6502"/>
                  <a:pt x="7169" y="6548"/>
                </a:cubicBezTo>
                <a:cubicBezTo>
                  <a:pt x="7161" y="6556"/>
                  <a:pt x="7152" y="6565"/>
                  <a:pt x="7144" y="65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Ink 5"/>
          <p:cNvSpPr/>
          <p:nvPr/>
        </p:nvSpPr>
        <p:spPr>
          <a:xfrm>
            <a:off x="3000240" y="2054160"/>
            <a:ext cx="1305000" cy="303120"/>
          </a:xfrm>
          <a:custGeom>
            <a:avLst/>
            <a:gdLst/>
            <a:ahLst/>
            <a:rect l="l" t="t" r="r" b="b"/>
            <a:pathLst>
              <a:path w="3623" h="844">
                <a:moveTo>
                  <a:pt x="8806" y="5904"/>
                </a:moveTo>
                <a:cubicBezTo>
                  <a:pt x="8782" y="5855"/>
                  <a:pt x="8759" y="5753"/>
                  <a:pt x="8682" y="5779"/>
                </a:cubicBezTo>
                <a:cubicBezTo>
                  <a:pt x="8618" y="5801"/>
                  <a:pt x="8572" y="5907"/>
                  <a:pt x="8533" y="5953"/>
                </a:cubicBezTo>
                <a:cubicBezTo>
                  <a:pt x="8435" y="6069"/>
                  <a:pt x="8381" y="6140"/>
                  <a:pt x="8334" y="6300"/>
                </a:cubicBezTo>
                <a:cubicBezTo>
                  <a:pt x="8315" y="6364"/>
                  <a:pt x="8347" y="6425"/>
                  <a:pt x="8384" y="6474"/>
                </a:cubicBezTo>
                <a:cubicBezTo>
                  <a:pt x="8431" y="6537"/>
                  <a:pt x="8506" y="6475"/>
                  <a:pt x="8558" y="6449"/>
                </a:cubicBezTo>
              </a:path>
              <a:path w="3623" h="844">
                <a:moveTo>
                  <a:pt x="9277" y="5854"/>
                </a:moveTo>
                <a:cubicBezTo>
                  <a:pt x="9204" y="5854"/>
                  <a:pt x="9170" y="5871"/>
                  <a:pt x="9103" y="5904"/>
                </a:cubicBezTo>
                <a:cubicBezTo>
                  <a:pt x="9044" y="5933"/>
                  <a:pt x="8987" y="5975"/>
                  <a:pt x="9004" y="6052"/>
                </a:cubicBezTo>
                <a:cubicBezTo>
                  <a:pt x="9018" y="6115"/>
                  <a:pt x="9074" y="6170"/>
                  <a:pt x="9103" y="6226"/>
                </a:cubicBezTo>
                <a:cubicBezTo>
                  <a:pt x="9138" y="6293"/>
                  <a:pt x="9178" y="6370"/>
                  <a:pt x="9153" y="6449"/>
                </a:cubicBezTo>
                <a:cubicBezTo>
                  <a:pt x="9135" y="6506"/>
                  <a:pt x="9050" y="6522"/>
                  <a:pt x="9004" y="6524"/>
                </a:cubicBezTo>
                <a:cubicBezTo>
                  <a:pt x="8949" y="6526"/>
                  <a:pt x="8855" y="6513"/>
                  <a:pt x="8905" y="6449"/>
                </a:cubicBezTo>
                <a:cubicBezTo>
                  <a:pt x="8913" y="6441"/>
                  <a:pt x="8922" y="6432"/>
                  <a:pt x="8930" y="6424"/>
                </a:cubicBezTo>
              </a:path>
              <a:path w="3623" h="844">
                <a:moveTo>
                  <a:pt x="9872" y="5928"/>
                </a:moveTo>
                <a:cubicBezTo>
                  <a:pt x="9894" y="5972"/>
                  <a:pt x="9907" y="5984"/>
                  <a:pt x="9872" y="6003"/>
                </a:cubicBezTo>
                <a:cubicBezTo>
                  <a:pt x="9815" y="6022"/>
                  <a:pt x="9867" y="5971"/>
                  <a:pt x="9798" y="5928"/>
                </a:cubicBezTo>
                <a:cubicBezTo>
                  <a:pt x="9732" y="5887"/>
                  <a:pt x="9710" y="5946"/>
                  <a:pt x="9649" y="5978"/>
                </a:cubicBezTo>
                <a:cubicBezTo>
                  <a:pt x="9556" y="6027"/>
                  <a:pt x="9537" y="6098"/>
                  <a:pt x="9475" y="6176"/>
                </a:cubicBezTo>
                <a:cubicBezTo>
                  <a:pt x="9422" y="6244"/>
                  <a:pt x="9357" y="6316"/>
                  <a:pt x="9401" y="6400"/>
                </a:cubicBezTo>
                <a:cubicBezTo>
                  <a:pt x="9459" y="6511"/>
                  <a:pt x="9503" y="6496"/>
                  <a:pt x="9599" y="6524"/>
                </a:cubicBezTo>
                <a:cubicBezTo>
                  <a:pt x="9647" y="6547"/>
                  <a:pt x="9662" y="6555"/>
                  <a:pt x="9699" y="6548"/>
                </a:cubicBezTo>
              </a:path>
              <a:path w="3623" h="844">
                <a:moveTo>
                  <a:pt x="10269" y="5904"/>
                </a:moveTo>
                <a:cubicBezTo>
                  <a:pt x="10275" y="6006"/>
                  <a:pt x="10270" y="6134"/>
                  <a:pt x="10319" y="6226"/>
                </a:cubicBezTo>
                <a:cubicBezTo>
                  <a:pt x="10373" y="6328"/>
                  <a:pt x="10433" y="6384"/>
                  <a:pt x="10492" y="6474"/>
                </a:cubicBezTo>
                <a:cubicBezTo>
                  <a:pt x="10538" y="6544"/>
                  <a:pt x="10557" y="6548"/>
                  <a:pt x="10641" y="6548"/>
                </a:cubicBezTo>
              </a:path>
              <a:path w="3623" h="844">
                <a:moveTo>
                  <a:pt x="10641" y="5928"/>
                </a:moveTo>
                <a:cubicBezTo>
                  <a:pt x="10528" y="6017"/>
                  <a:pt x="10483" y="6095"/>
                  <a:pt x="10393" y="6201"/>
                </a:cubicBezTo>
                <a:cubicBezTo>
                  <a:pt x="10314" y="6294"/>
                  <a:pt x="10240" y="6373"/>
                  <a:pt x="10145" y="6449"/>
                </a:cubicBezTo>
                <a:cubicBezTo>
                  <a:pt x="10109" y="6478"/>
                  <a:pt x="10090" y="6483"/>
                  <a:pt x="10120" y="6499"/>
                </a:cubicBezTo>
              </a:path>
              <a:path w="3623" h="844">
                <a:moveTo>
                  <a:pt x="10914" y="6077"/>
                </a:moveTo>
                <a:cubicBezTo>
                  <a:pt x="11040" y="6077"/>
                  <a:pt x="11141" y="6066"/>
                  <a:pt x="11261" y="6052"/>
                </a:cubicBezTo>
              </a:path>
              <a:path w="3623" h="844">
                <a:moveTo>
                  <a:pt x="11038" y="6251"/>
                </a:moveTo>
                <a:cubicBezTo>
                  <a:pt x="11140" y="6268"/>
                  <a:pt x="11209" y="6258"/>
                  <a:pt x="11311" y="6226"/>
                </a:cubicBezTo>
                <a:cubicBezTo>
                  <a:pt x="11336" y="6218"/>
                  <a:pt x="11360" y="6209"/>
                  <a:pt x="11385" y="6201"/>
                </a:cubicBezTo>
              </a:path>
              <a:path w="3623" h="844">
                <a:moveTo>
                  <a:pt x="11956" y="5705"/>
                </a:moveTo>
                <a:cubicBezTo>
                  <a:pt x="11925" y="5899"/>
                  <a:pt x="11850" y="6086"/>
                  <a:pt x="11832" y="6276"/>
                </a:cubicBezTo>
                <a:cubicBezTo>
                  <a:pt x="11823" y="6372"/>
                  <a:pt x="11832" y="6408"/>
                  <a:pt x="11807" y="64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Ink 6"/>
          <p:cNvSpPr/>
          <p:nvPr/>
        </p:nvSpPr>
        <p:spPr>
          <a:xfrm>
            <a:off x="1973160" y="2705040"/>
            <a:ext cx="2401920" cy="743040"/>
          </a:xfrm>
          <a:custGeom>
            <a:avLst/>
            <a:gdLst/>
            <a:ahLst/>
            <a:rect l="l" t="t" r="r" b="b"/>
            <a:pathLst>
              <a:path w="6673" h="2060">
                <a:moveTo>
                  <a:pt x="5928" y="7813"/>
                </a:moveTo>
                <a:cubicBezTo>
                  <a:pt x="5917" y="7726"/>
                  <a:pt x="5896" y="7701"/>
                  <a:pt x="5804" y="7689"/>
                </a:cubicBezTo>
                <a:cubicBezTo>
                  <a:pt x="5742" y="7681"/>
                  <a:pt x="5636" y="7689"/>
                  <a:pt x="5581" y="7714"/>
                </a:cubicBezTo>
                <a:cubicBezTo>
                  <a:pt x="5539" y="7733"/>
                  <a:pt x="5466" y="7817"/>
                  <a:pt x="5482" y="7863"/>
                </a:cubicBezTo>
                <a:cubicBezTo>
                  <a:pt x="5505" y="7932"/>
                  <a:pt x="5609" y="7954"/>
                  <a:pt x="5655" y="7987"/>
                </a:cubicBezTo>
                <a:cubicBezTo>
                  <a:pt x="5743" y="8050"/>
                  <a:pt x="5826" y="8108"/>
                  <a:pt x="5904" y="8186"/>
                </a:cubicBezTo>
                <a:cubicBezTo>
                  <a:pt x="5940" y="8222"/>
                  <a:pt x="5939" y="8313"/>
                  <a:pt x="5879" y="8334"/>
                </a:cubicBezTo>
                <a:cubicBezTo>
                  <a:pt x="5830" y="8351"/>
                  <a:pt x="5548" y="8353"/>
                  <a:pt x="5531" y="8310"/>
                </a:cubicBezTo>
                <a:cubicBezTo>
                  <a:pt x="5531" y="8293"/>
                  <a:pt x="5531" y="8277"/>
                  <a:pt x="5531" y="8260"/>
                </a:cubicBezTo>
              </a:path>
              <a:path w="6673" h="2060">
                <a:moveTo>
                  <a:pt x="6276" y="7888"/>
                </a:moveTo>
                <a:cubicBezTo>
                  <a:pt x="6270" y="7997"/>
                  <a:pt x="6250" y="8083"/>
                  <a:pt x="6226" y="8186"/>
                </a:cubicBezTo>
                <a:cubicBezTo>
                  <a:pt x="6215" y="8234"/>
                  <a:pt x="6176" y="8420"/>
                  <a:pt x="6176" y="8260"/>
                </a:cubicBezTo>
              </a:path>
              <a:path w="6673" h="2060">
                <a:moveTo>
                  <a:pt x="6325" y="7590"/>
                </a:moveTo>
                <a:lnTo>
                  <a:pt x="6325" y="7590"/>
                </a:lnTo>
              </a:path>
              <a:path w="6673" h="2060">
                <a:moveTo>
                  <a:pt x="6474" y="8136"/>
                </a:moveTo>
                <a:cubicBezTo>
                  <a:pt x="6474" y="8247"/>
                  <a:pt x="6501" y="8324"/>
                  <a:pt x="6449" y="8260"/>
                </a:cubicBezTo>
                <a:cubicBezTo>
                  <a:pt x="6459" y="8188"/>
                  <a:pt x="6474" y="8145"/>
                  <a:pt x="6474" y="8062"/>
                </a:cubicBezTo>
                <a:cubicBezTo>
                  <a:pt x="6474" y="7990"/>
                  <a:pt x="6465" y="7894"/>
                  <a:pt x="6524" y="7838"/>
                </a:cubicBezTo>
                <a:cubicBezTo>
                  <a:pt x="6577" y="7788"/>
                  <a:pt x="6641" y="7839"/>
                  <a:pt x="6672" y="7888"/>
                </a:cubicBezTo>
                <a:cubicBezTo>
                  <a:pt x="6707" y="7943"/>
                  <a:pt x="6739" y="8007"/>
                  <a:pt x="6772" y="8062"/>
                </a:cubicBezTo>
                <a:cubicBezTo>
                  <a:pt x="6806" y="8120"/>
                  <a:pt x="6829" y="8184"/>
                  <a:pt x="6871" y="8235"/>
                </a:cubicBezTo>
                <a:cubicBezTo>
                  <a:pt x="6879" y="8243"/>
                  <a:pt x="6888" y="8252"/>
                  <a:pt x="6896" y="8260"/>
                </a:cubicBezTo>
              </a:path>
              <a:path w="6673" h="2060">
                <a:moveTo>
                  <a:pt x="6995" y="7888"/>
                </a:moveTo>
                <a:cubicBezTo>
                  <a:pt x="7035" y="8000"/>
                  <a:pt x="7068" y="8116"/>
                  <a:pt x="7144" y="8210"/>
                </a:cubicBezTo>
                <a:cubicBezTo>
                  <a:pt x="7182" y="8257"/>
                  <a:pt x="7263" y="8354"/>
                  <a:pt x="7317" y="8384"/>
                </a:cubicBezTo>
                <a:cubicBezTo>
                  <a:pt x="7405" y="8432"/>
                  <a:pt x="7448" y="8440"/>
                  <a:pt x="7541" y="8409"/>
                </a:cubicBezTo>
              </a:path>
              <a:path w="6673" h="2060">
                <a:moveTo>
                  <a:pt x="7466" y="7838"/>
                </a:moveTo>
                <a:cubicBezTo>
                  <a:pt x="7418" y="7954"/>
                  <a:pt x="7367" y="8083"/>
                  <a:pt x="7293" y="8186"/>
                </a:cubicBezTo>
                <a:cubicBezTo>
                  <a:pt x="7238" y="8262"/>
                  <a:pt x="7214" y="8327"/>
                  <a:pt x="7169" y="8409"/>
                </a:cubicBezTo>
                <a:cubicBezTo>
                  <a:pt x="7147" y="8431"/>
                  <a:pt x="7138" y="8436"/>
                  <a:pt x="7144" y="8458"/>
                </a:cubicBezTo>
              </a:path>
              <a:path w="6673" h="2060">
                <a:moveTo>
                  <a:pt x="7962" y="8384"/>
                </a:moveTo>
                <a:cubicBezTo>
                  <a:pt x="7979" y="8376"/>
                  <a:pt x="7995" y="8367"/>
                  <a:pt x="8012" y="8359"/>
                </a:cubicBezTo>
              </a:path>
              <a:path w="6673" h="2060">
                <a:moveTo>
                  <a:pt x="8880" y="7516"/>
                </a:moveTo>
                <a:cubicBezTo>
                  <a:pt x="8945" y="7612"/>
                  <a:pt x="8917" y="7661"/>
                  <a:pt x="8905" y="7764"/>
                </a:cubicBezTo>
                <a:cubicBezTo>
                  <a:pt x="8894" y="7854"/>
                  <a:pt x="8884" y="7947"/>
                  <a:pt x="8880" y="8037"/>
                </a:cubicBezTo>
                <a:cubicBezTo>
                  <a:pt x="8877" y="8111"/>
                  <a:pt x="8880" y="8186"/>
                  <a:pt x="8880" y="8260"/>
                </a:cubicBezTo>
              </a:path>
              <a:path w="6673" h="2060">
                <a:moveTo>
                  <a:pt x="8483" y="8409"/>
                </a:moveTo>
                <a:cubicBezTo>
                  <a:pt x="8582" y="8372"/>
                  <a:pt x="8671" y="8362"/>
                  <a:pt x="8781" y="8359"/>
                </a:cubicBezTo>
                <a:cubicBezTo>
                  <a:pt x="9064" y="8352"/>
                  <a:pt x="9468" y="8432"/>
                  <a:pt x="9723" y="8334"/>
                </a:cubicBezTo>
              </a:path>
              <a:path w="6673" h="2060">
                <a:moveTo>
                  <a:pt x="8607" y="8731"/>
                </a:moveTo>
                <a:cubicBezTo>
                  <a:pt x="8549" y="8752"/>
                  <a:pt x="8431" y="8777"/>
                  <a:pt x="8384" y="8806"/>
                </a:cubicBezTo>
                <a:cubicBezTo>
                  <a:pt x="8276" y="8871"/>
                  <a:pt x="8353" y="8951"/>
                  <a:pt x="8409" y="9004"/>
                </a:cubicBezTo>
                <a:cubicBezTo>
                  <a:pt x="8480" y="9072"/>
                  <a:pt x="8573" y="9122"/>
                  <a:pt x="8632" y="9203"/>
                </a:cubicBezTo>
                <a:cubicBezTo>
                  <a:pt x="8695" y="9290"/>
                  <a:pt x="8697" y="9342"/>
                  <a:pt x="8632" y="9401"/>
                </a:cubicBezTo>
                <a:cubicBezTo>
                  <a:pt x="8567" y="9460"/>
                  <a:pt x="8519" y="9451"/>
                  <a:pt x="8434" y="9451"/>
                </a:cubicBezTo>
                <a:cubicBezTo>
                  <a:pt x="8340" y="9451"/>
                  <a:pt x="8312" y="9432"/>
                  <a:pt x="8334" y="9351"/>
                </a:cubicBezTo>
              </a:path>
              <a:path w="6673" h="2060">
                <a:moveTo>
                  <a:pt x="9029" y="9079"/>
                </a:moveTo>
                <a:cubicBezTo>
                  <a:pt x="9029" y="9156"/>
                  <a:pt x="8989" y="9283"/>
                  <a:pt x="9004" y="9351"/>
                </a:cubicBezTo>
                <a:cubicBezTo>
                  <a:pt x="9029" y="9401"/>
                  <a:pt x="9037" y="9418"/>
                  <a:pt x="9004" y="9451"/>
                </a:cubicBezTo>
              </a:path>
              <a:path w="6673" h="2060">
                <a:moveTo>
                  <a:pt x="9103" y="8731"/>
                </a:moveTo>
                <a:cubicBezTo>
                  <a:pt x="9165" y="8740"/>
                  <a:pt x="9170" y="8748"/>
                  <a:pt x="9227" y="8781"/>
                </a:cubicBezTo>
              </a:path>
              <a:path w="6673" h="2060">
                <a:moveTo>
                  <a:pt x="9277" y="9327"/>
                </a:moveTo>
                <a:cubicBezTo>
                  <a:pt x="9323" y="9304"/>
                  <a:pt x="9342" y="9236"/>
                  <a:pt x="9351" y="9178"/>
                </a:cubicBezTo>
                <a:cubicBezTo>
                  <a:pt x="9363" y="9106"/>
                  <a:pt x="9379" y="9063"/>
                  <a:pt x="9426" y="9004"/>
                </a:cubicBezTo>
                <a:cubicBezTo>
                  <a:pt x="9515" y="9068"/>
                  <a:pt x="9531" y="9158"/>
                  <a:pt x="9599" y="9252"/>
                </a:cubicBezTo>
                <a:cubicBezTo>
                  <a:pt x="9692" y="9382"/>
                  <a:pt x="9717" y="9392"/>
                  <a:pt x="9823" y="9475"/>
                </a:cubicBezTo>
                <a:cubicBezTo>
                  <a:pt x="9869" y="9522"/>
                  <a:pt x="9883" y="9543"/>
                  <a:pt x="9897" y="9475"/>
                </a:cubicBezTo>
              </a:path>
              <a:path w="6673" h="2060">
                <a:moveTo>
                  <a:pt x="9872" y="9004"/>
                </a:moveTo>
                <a:cubicBezTo>
                  <a:pt x="9927" y="9154"/>
                  <a:pt x="9975" y="9369"/>
                  <a:pt x="10145" y="9451"/>
                </a:cubicBezTo>
                <a:cubicBezTo>
                  <a:pt x="10247" y="9500"/>
                  <a:pt x="10302" y="9562"/>
                  <a:pt x="10418" y="9575"/>
                </a:cubicBezTo>
              </a:path>
              <a:path w="6673" h="2060">
                <a:moveTo>
                  <a:pt x="10344" y="8930"/>
                </a:moveTo>
                <a:cubicBezTo>
                  <a:pt x="10232" y="9041"/>
                  <a:pt x="10118" y="9153"/>
                  <a:pt x="10021" y="9277"/>
                </a:cubicBezTo>
                <a:cubicBezTo>
                  <a:pt x="9978" y="9332"/>
                  <a:pt x="9902" y="9402"/>
                  <a:pt x="9897" y="9475"/>
                </a:cubicBezTo>
                <a:cubicBezTo>
                  <a:pt x="9897" y="9492"/>
                  <a:pt x="9897" y="9508"/>
                  <a:pt x="9897" y="9525"/>
                </a:cubicBezTo>
              </a:path>
              <a:path w="6673" h="2060">
                <a:moveTo>
                  <a:pt x="11063" y="8285"/>
                </a:moveTo>
                <a:cubicBezTo>
                  <a:pt x="11129" y="8293"/>
                  <a:pt x="11195" y="8302"/>
                  <a:pt x="11261" y="8310"/>
                </a:cubicBezTo>
              </a:path>
              <a:path w="6673" h="2060">
                <a:moveTo>
                  <a:pt x="10939" y="8582"/>
                </a:moveTo>
                <a:cubicBezTo>
                  <a:pt x="11067" y="8604"/>
                  <a:pt x="11209" y="8635"/>
                  <a:pt x="11336" y="8582"/>
                </a:cubicBezTo>
                <a:cubicBezTo>
                  <a:pt x="11361" y="8566"/>
                  <a:pt x="11385" y="8549"/>
                  <a:pt x="11410" y="8533"/>
                </a:cubicBezTo>
              </a:path>
              <a:path w="6673" h="2060">
                <a:moveTo>
                  <a:pt x="12030" y="7838"/>
                </a:moveTo>
                <a:cubicBezTo>
                  <a:pt x="12076" y="8070"/>
                  <a:pt x="12092" y="8281"/>
                  <a:pt x="12129" y="8508"/>
                </a:cubicBezTo>
                <a:cubicBezTo>
                  <a:pt x="12152" y="8598"/>
                  <a:pt x="12160" y="8622"/>
                  <a:pt x="12154" y="86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Ink 7"/>
          <p:cNvSpPr/>
          <p:nvPr/>
        </p:nvSpPr>
        <p:spPr>
          <a:xfrm>
            <a:off x="1963800" y="2840040"/>
            <a:ext cx="635040" cy="160200"/>
          </a:xfrm>
          <a:custGeom>
            <a:avLst/>
            <a:gdLst/>
            <a:ahLst/>
            <a:rect l="l" t="t" r="r" b="b"/>
            <a:pathLst>
              <a:path w="1762" h="447">
                <a:moveTo>
                  <a:pt x="5457" y="8334"/>
                </a:moveTo>
                <a:cubicBezTo>
                  <a:pt x="5547" y="8277"/>
                  <a:pt x="5652" y="8217"/>
                  <a:pt x="5755" y="8186"/>
                </a:cubicBezTo>
                <a:cubicBezTo>
                  <a:pt x="5994" y="8115"/>
                  <a:pt x="6228" y="8036"/>
                  <a:pt x="6474" y="7987"/>
                </a:cubicBezTo>
                <a:cubicBezTo>
                  <a:pt x="6666" y="7949"/>
                  <a:pt x="6852" y="7919"/>
                  <a:pt x="7045" y="7913"/>
                </a:cubicBezTo>
                <a:cubicBezTo>
                  <a:pt x="7128" y="7913"/>
                  <a:pt x="7162" y="7911"/>
                  <a:pt x="7218" y="78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Ink 8"/>
          <p:cNvSpPr/>
          <p:nvPr/>
        </p:nvSpPr>
        <p:spPr>
          <a:xfrm>
            <a:off x="2884320" y="3259080"/>
            <a:ext cx="1152720" cy="822240"/>
          </a:xfrm>
          <a:custGeom>
            <a:avLst/>
            <a:gdLst/>
            <a:ahLst/>
            <a:rect l="l" t="t" r="r" b="b"/>
            <a:pathLst>
              <a:path w="3201" h="2283">
                <a:moveTo>
                  <a:pt x="8012" y="9525"/>
                </a:moveTo>
                <a:cubicBezTo>
                  <a:pt x="8198" y="9432"/>
                  <a:pt x="8360" y="9386"/>
                  <a:pt x="8558" y="9327"/>
                </a:cubicBezTo>
                <a:cubicBezTo>
                  <a:pt x="8797" y="9255"/>
                  <a:pt x="9032" y="9226"/>
                  <a:pt x="9277" y="9178"/>
                </a:cubicBezTo>
                <a:cubicBezTo>
                  <a:pt x="9457" y="9143"/>
                  <a:pt x="9644" y="9163"/>
                  <a:pt x="9823" y="9128"/>
                </a:cubicBezTo>
                <a:cubicBezTo>
                  <a:pt x="9895" y="9114"/>
                  <a:pt x="10007" y="9109"/>
                  <a:pt x="10071" y="9079"/>
                </a:cubicBezTo>
                <a:cubicBezTo>
                  <a:pt x="10079" y="9071"/>
                  <a:pt x="10088" y="9062"/>
                  <a:pt x="10096" y="9054"/>
                </a:cubicBezTo>
              </a:path>
              <a:path w="3201" h="2283">
                <a:moveTo>
                  <a:pt x="9699" y="10195"/>
                </a:moveTo>
                <a:cubicBezTo>
                  <a:pt x="9699" y="10486"/>
                  <a:pt x="9702" y="10776"/>
                  <a:pt x="9674" y="11063"/>
                </a:cubicBezTo>
                <a:cubicBezTo>
                  <a:pt x="9666" y="11141"/>
                  <a:pt x="9650" y="11327"/>
                  <a:pt x="9699" y="11311"/>
                </a:cubicBezTo>
              </a:path>
              <a:path w="3201" h="2283">
                <a:moveTo>
                  <a:pt x="10170" y="10691"/>
                </a:moveTo>
                <a:cubicBezTo>
                  <a:pt x="10325" y="10632"/>
                  <a:pt x="10399" y="10658"/>
                  <a:pt x="10567" y="10666"/>
                </a:cubicBezTo>
                <a:cubicBezTo>
                  <a:pt x="10583" y="10666"/>
                  <a:pt x="10600" y="10666"/>
                  <a:pt x="10616" y="10666"/>
                </a:cubicBezTo>
              </a:path>
              <a:path w="3201" h="2283">
                <a:moveTo>
                  <a:pt x="10145" y="10765"/>
                </a:moveTo>
                <a:cubicBezTo>
                  <a:pt x="10303" y="10741"/>
                  <a:pt x="10458" y="10740"/>
                  <a:pt x="10616" y="10716"/>
                </a:cubicBezTo>
              </a:path>
              <a:path w="3201" h="2283">
                <a:moveTo>
                  <a:pt x="11212" y="10244"/>
                </a:moveTo>
                <a:cubicBezTo>
                  <a:pt x="11207" y="10450"/>
                  <a:pt x="11168" y="10639"/>
                  <a:pt x="11162" y="10840"/>
                </a:cubicBezTo>
                <a:cubicBezTo>
                  <a:pt x="11159" y="10958"/>
                  <a:pt x="11167" y="11074"/>
                  <a:pt x="11187" y="11187"/>
                </a:cubicBezTo>
                <a:cubicBezTo>
                  <a:pt x="11195" y="11220"/>
                  <a:pt x="11204" y="11253"/>
                  <a:pt x="11212" y="112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Ink 4"/>
          <p:cNvSpPr/>
          <p:nvPr/>
        </p:nvSpPr>
        <p:spPr>
          <a:xfrm>
            <a:off x="660240" y="1366920"/>
            <a:ext cx="4438800" cy="633240"/>
          </a:xfrm>
          <a:custGeom>
            <a:avLst/>
            <a:gdLst/>
            <a:ahLst/>
            <a:rect l="l" t="t" r="r" b="b"/>
            <a:pathLst>
              <a:path w="12328" h="1762">
                <a:moveTo>
                  <a:pt x="4589" y="4142"/>
                </a:moveTo>
                <a:cubicBezTo>
                  <a:pt x="4611" y="4201"/>
                  <a:pt x="4614" y="4227"/>
                  <a:pt x="4614" y="4291"/>
                </a:cubicBezTo>
                <a:cubicBezTo>
                  <a:pt x="4673" y="4322"/>
                  <a:pt x="4609" y="4229"/>
                  <a:pt x="4589" y="4192"/>
                </a:cubicBezTo>
                <a:cubicBezTo>
                  <a:pt x="4550" y="4119"/>
                  <a:pt x="4522" y="4092"/>
                  <a:pt x="4440" y="4142"/>
                </a:cubicBezTo>
                <a:cubicBezTo>
                  <a:pt x="4355" y="4194"/>
                  <a:pt x="4321" y="4243"/>
                  <a:pt x="4266" y="4316"/>
                </a:cubicBezTo>
                <a:cubicBezTo>
                  <a:pt x="4198" y="4406"/>
                  <a:pt x="4135" y="4452"/>
                  <a:pt x="4093" y="4564"/>
                </a:cubicBezTo>
                <a:cubicBezTo>
                  <a:pt x="4046" y="4690"/>
                  <a:pt x="4032" y="4782"/>
                  <a:pt x="4043" y="4911"/>
                </a:cubicBezTo>
                <a:cubicBezTo>
                  <a:pt x="4048" y="4973"/>
                  <a:pt x="4062" y="5023"/>
                  <a:pt x="4118" y="5060"/>
                </a:cubicBezTo>
                <a:cubicBezTo>
                  <a:pt x="4187" y="5105"/>
                  <a:pt x="4269" y="5088"/>
                  <a:pt x="4341" y="5060"/>
                </a:cubicBezTo>
                <a:cubicBezTo>
                  <a:pt x="4405" y="5035"/>
                  <a:pt x="4450" y="4990"/>
                  <a:pt x="4514" y="4961"/>
                </a:cubicBezTo>
              </a:path>
              <a:path w="12328" h="1762">
                <a:moveTo>
                  <a:pt x="5135" y="4291"/>
                </a:moveTo>
                <a:cubicBezTo>
                  <a:pt x="5157" y="4221"/>
                  <a:pt x="5058" y="4287"/>
                  <a:pt x="5011" y="4316"/>
                </a:cubicBezTo>
                <a:cubicBezTo>
                  <a:pt x="4959" y="4348"/>
                  <a:pt x="4873" y="4385"/>
                  <a:pt x="4837" y="4440"/>
                </a:cubicBezTo>
                <a:cubicBezTo>
                  <a:pt x="4829" y="4457"/>
                  <a:pt x="4820" y="4473"/>
                  <a:pt x="4812" y="4490"/>
                </a:cubicBezTo>
                <a:cubicBezTo>
                  <a:pt x="4869" y="4545"/>
                  <a:pt x="4929" y="4584"/>
                  <a:pt x="4986" y="4638"/>
                </a:cubicBezTo>
                <a:cubicBezTo>
                  <a:pt x="5043" y="4692"/>
                  <a:pt x="5162" y="4736"/>
                  <a:pt x="5184" y="4812"/>
                </a:cubicBezTo>
                <a:cubicBezTo>
                  <a:pt x="5212" y="4908"/>
                  <a:pt x="5157" y="4925"/>
                  <a:pt x="5085" y="4961"/>
                </a:cubicBezTo>
                <a:cubicBezTo>
                  <a:pt x="5011" y="4998"/>
                  <a:pt x="4900" y="5042"/>
                  <a:pt x="4812" y="5011"/>
                </a:cubicBezTo>
                <a:cubicBezTo>
                  <a:pt x="4782" y="4981"/>
                  <a:pt x="4777" y="4967"/>
                  <a:pt x="4812" y="4936"/>
                </a:cubicBezTo>
              </a:path>
              <a:path w="12328" h="1762">
                <a:moveTo>
                  <a:pt x="5804" y="4366"/>
                </a:moveTo>
                <a:cubicBezTo>
                  <a:pt x="5865" y="4386"/>
                  <a:pt x="5880" y="4383"/>
                  <a:pt x="5904" y="4415"/>
                </a:cubicBezTo>
                <a:cubicBezTo>
                  <a:pt x="5835" y="4388"/>
                  <a:pt x="5792" y="4331"/>
                  <a:pt x="5730" y="4366"/>
                </a:cubicBezTo>
                <a:cubicBezTo>
                  <a:pt x="5677" y="4396"/>
                  <a:pt x="5634" y="4463"/>
                  <a:pt x="5606" y="4514"/>
                </a:cubicBezTo>
                <a:cubicBezTo>
                  <a:pt x="5564" y="4589"/>
                  <a:pt x="5522" y="4677"/>
                  <a:pt x="5507" y="4762"/>
                </a:cubicBezTo>
                <a:cubicBezTo>
                  <a:pt x="5491" y="4855"/>
                  <a:pt x="5484" y="4897"/>
                  <a:pt x="5531" y="4986"/>
                </a:cubicBezTo>
                <a:cubicBezTo>
                  <a:pt x="5576" y="5071"/>
                  <a:pt x="5639" y="5094"/>
                  <a:pt x="5730" y="5035"/>
                </a:cubicBezTo>
                <a:cubicBezTo>
                  <a:pt x="5791" y="4995"/>
                  <a:pt x="5850" y="4936"/>
                  <a:pt x="5904" y="4887"/>
                </a:cubicBezTo>
              </a:path>
              <a:path w="12328" h="1762">
                <a:moveTo>
                  <a:pt x="6201" y="3820"/>
                </a:moveTo>
                <a:cubicBezTo>
                  <a:pt x="6282" y="3808"/>
                  <a:pt x="6468" y="3738"/>
                  <a:pt x="6524" y="3845"/>
                </a:cubicBezTo>
                <a:cubicBezTo>
                  <a:pt x="6574" y="3941"/>
                  <a:pt x="6538" y="4015"/>
                  <a:pt x="6474" y="4093"/>
                </a:cubicBezTo>
                <a:cubicBezTo>
                  <a:pt x="6411" y="4170"/>
                  <a:pt x="6320" y="4211"/>
                  <a:pt x="6300" y="4316"/>
                </a:cubicBezTo>
                <a:cubicBezTo>
                  <a:pt x="6272" y="4457"/>
                  <a:pt x="6377" y="4469"/>
                  <a:pt x="6474" y="4465"/>
                </a:cubicBezTo>
                <a:cubicBezTo>
                  <a:pt x="6499" y="4465"/>
                  <a:pt x="6523" y="4465"/>
                  <a:pt x="6548" y="4465"/>
                </a:cubicBezTo>
              </a:path>
              <a:path w="12328" h="1762">
                <a:moveTo>
                  <a:pt x="6871" y="4316"/>
                </a:moveTo>
                <a:cubicBezTo>
                  <a:pt x="6871" y="4433"/>
                  <a:pt x="6885" y="4503"/>
                  <a:pt x="6921" y="4614"/>
                </a:cubicBezTo>
                <a:cubicBezTo>
                  <a:pt x="6960" y="4731"/>
                  <a:pt x="6991" y="4748"/>
                  <a:pt x="7094" y="4812"/>
                </a:cubicBezTo>
                <a:cubicBezTo>
                  <a:pt x="7186" y="4870"/>
                  <a:pt x="7260" y="4906"/>
                  <a:pt x="7367" y="4911"/>
                </a:cubicBezTo>
                <a:cubicBezTo>
                  <a:pt x="7384" y="4911"/>
                  <a:pt x="7400" y="4911"/>
                  <a:pt x="7417" y="4911"/>
                </a:cubicBezTo>
              </a:path>
              <a:path w="12328" h="1762">
                <a:moveTo>
                  <a:pt x="7392" y="4490"/>
                </a:moveTo>
                <a:cubicBezTo>
                  <a:pt x="7248" y="4604"/>
                  <a:pt x="7089" y="4700"/>
                  <a:pt x="6945" y="4812"/>
                </a:cubicBezTo>
                <a:cubicBezTo>
                  <a:pt x="6801" y="4924"/>
                  <a:pt x="6785" y="4949"/>
                  <a:pt x="6648" y="5011"/>
                </a:cubicBezTo>
              </a:path>
              <a:path w="12328" h="1762">
                <a:moveTo>
                  <a:pt x="3870" y="5308"/>
                </a:moveTo>
                <a:cubicBezTo>
                  <a:pt x="4074" y="5329"/>
                  <a:pt x="4239" y="5312"/>
                  <a:pt x="4440" y="5308"/>
                </a:cubicBezTo>
                <a:cubicBezTo>
                  <a:pt x="4686" y="5304"/>
                  <a:pt x="4938" y="5299"/>
                  <a:pt x="5184" y="5283"/>
                </a:cubicBezTo>
                <a:cubicBezTo>
                  <a:pt x="5556" y="5258"/>
                  <a:pt x="5926" y="5259"/>
                  <a:pt x="6300" y="5259"/>
                </a:cubicBezTo>
                <a:cubicBezTo>
                  <a:pt x="6549" y="5259"/>
                  <a:pt x="6795" y="5283"/>
                  <a:pt x="7045" y="5283"/>
                </a:cubicBezTo>
                <a:cubicBezTo>
                  <a:pt x="7161" y="5283"/>
                  <a:pt x="7276" y="5283"/>
                  <a:pt x="7392" y="5283"/>
                </a:cubicBezTo>
              </a:path>
              <a:path w="12328" h="1762">
                <a:moveTo>
                  <a:pt x="1885" y="4366"/>
                </a:moveTo>
                <a:cubicBezTo>
                  <a:pt x="1869" y="4366"/>
                  <a:pt x="1852" y="4366"/>
                  <a:pt x="1836" y="4366"/>
                </a:cubicBezTo>
                <a:cubicBezTo>
                  <a:pt x="1903" y="4311"/>
                  <a:pt x="1949" y="4316"/>
                  <a:pt x="2034" y="4316"/>
                </a:cubicBezTo>
                <a:cubicBezTo>
                  <a:pt x="2115" y="4316"/>
                  <a:pt x="2153" y="4336"/>
                  <a:pt x="2158" y="4415"/>
                </a:cubicBezTo>
                <a:cubicBezTo>
                  <a:pt x="2164" y="4512"/>
                  <a:pt x="2149" y="4565"/>
                  <a:pt x="2084" y="4638"/>
                </a:cubicBezTo>
                <a:cubicBezTo>
                  <a:pt x="2045" y="4681"/>
                  <a:pt x="2001" y="4721"/>
                  <a:pt x="1960" y="4762"/>
                </a:cubicBezTo>
                <a:cubicBezTo>
                  <a:pt x="2013" y="4795"/>
                  <a:pt x="2073" y="4792"/>
                  <a:pt x="2133" y="4812"/>
                </a:cubicBezTo>
                <a:cubicBezTo>
                  <a:pt x="2212" y="4838"/>
                  <a:pt x="2259" y="4878"/>
                  <a:pt x="2307" y="4936"/>
                </a:cubicBezTo>
                <a:cubicBezTo>
                  <a:pt x="2356" y="4994"/>
                  <a:pt x="2284" y="5054"/>
                  <a:pt x="2232" y="5085"/>
                </a:cubicBezTo>
                <a:cubicBezTo>
                  <a:pt x="2161" y="5127"/>
                  <a:pt x="2094" y="5169"/>
                  <a:pt x="2009" y="5184"/>
                </a:cubicBezTo>
                <a:cubicBezTo>
                  <a:pt x="1928" y="5184"/>
                  <a:pt x="1885" y="5168"/>
                  <a:pt x="1836" y="5110"/>
                </a:cubicBezTo>
              </a:path>
              <a:path w="12328" h="1762">
                <a:moveTo>
                  <a:pt x="1984" y="4043"/>
                </a:moveTo>
                <a:cubicBezTo>
                  <a:pt x="2222" y="4125"/>
                  <a:pt x="2372" y="4237"/>
                  <a:pt x="2580" y="4366"/>
                </a:cubicBezTo>
                <a:cubicBezTo>
                  <a:pt x="2714" y="4449"/>
                  <a:pt x="2771" y="4531"/>
                  <a:pt x="2853" y="4663"/>
                </a:cubicBezTo>
                <a:cubicBezTo>
                  <a:pt x="2914" y="4762"/>
                  <a:pt x="2921" y="4892"/>
                  <a:pt x="2902" y="5011"/>
                </a:cubicBezTo>
                <a:cubicBezTo>
                  <a:pt x="2881" y="5139"/>
                  <a:pt x="2782" y="5244"/>
                  <a:pt x="2729" y="5358"/>
                </a:cubicBezTo>
                <a:cubicBezTo>
                  <a:pt x="2697" y="5426"/>
                  <a:pt x="2666" y="5490"/>
                  <a:pt x="2629" y="5556"/>
                </a:cubicBezTo>
              </a:path>
              <a:path w="12328" h="1762">
                <a:moveTo>
                  <a:pt x="8062" y="5110"/>
                </a:moveTo>
                <a:cubicBezTo>
                  <a:pt x="8198" y="5097"/>
                  <a:pt x="8298" y="5110"/>
                  <a:pt x="8434" y="5110"/>
                </a:cubicBezTo>
              </a:path>
              <a:path w="12328" h="1762">
                <a:moveTo>
                  <a:pt x="8111" y="5333"/>
                </a:moveTo>
                <a:cubicBezTo>
                  <a:pt x="8282" y="5351"/>
                  <a:pt x="8417" y="5371"/>
                  <a:pt x="8582" y="5333"/>
                </a:cubicBezTo>
              </a:path>
              <a:path w="12328" h="1762">
                <a:moveTo>
                  <a:pt x="9723" y="4638"/>
                </a:moveTo>
                <a:cubicBezTo>
                  <a:pt x="9723" y="4663"/>
                  <a:pt x="9723" y="4688"/>
                  <a:pt x="9723" y="4713"/>
                </a:cubicBezTo>
                <a:cubicBezTo>
                  <a:pt x="9767" y="4735"/>
                  <a:pt x="9730" y="4619"/>
                  <a:pt x="9699" y="4564"/>
                </a:cubicBezTo>
                <a:cubicBezTo>
                  <a:pt x="9647" y="4472"/>
                  <a:pt x="9562" y="4577"/>
                  <a:pt x="9525" y="4614"/>
                </a:cubicBezTo>
                <a:cubicBezTo>
                  <a:pt x="9445" y="4693"/>
                  <a:pt x="9382" y="4747"/>
                  <a:pt x="9327" y="4837"/>
                </a:cubicBezTo>
                <a:cubicBezTo>
                  <a:pt x="9261" y="4943"/>
                  <a:pt x="9232" y="4984"/>
                  <a:pt x="9227" y="5110"/>
                </a:cubicBezTo>
                <a:cubicBezTo>
                  <a:pt x="9224" y="5190"/>
                  <a:pt x="9263" y="5221"/>
                  <a:pt x="9327" y="5259"/>
                </a:cubicBezTo>
                <a:cubicBezTo>
                  <a:pt x="9383" y="5292"/>
                  <a:pt x="9487" y="5299"/>
                  <a:pt x="9550" y="5283"/>
                </a:cubicBezTo>
                <a:cubicBezTo>
                  <a:pt x="9566" y="5275"/>
                  <a:pt x="9583" y="5267"/>
                  <a:pt x="9599" y="5259"/>
                </a:cubicBezTo>
              </a:path>
              <a:path w="12328" h="1762">
                <a:moveTo>
                  <a:pt x="10294" y="4514"/>
                </a:moveTo>
                <a:cubicBezTo>
                  <a:pt x="10223" y="4540"/>
                  <a:pt x="10132" y="4567"/>
                  <a:pt x="10071" y="4614"/>
                </a:cubicBezTo>
                <a:cubicBezTo>
                  <a:pt x="10045" y="4634"/>
                  <a:pt x="9944" y="4720"/>
                  <a:pt x="9947" y="4762"/>
                </a:cubicBezTo>
                <a:cubicBezTo>
                  <a:pt x="9952" y="4822"/>
                  <a:pt x="10106" y="4903"/>
                  <a:pt x="10145" y="4936"/>
                </a:cubicBezTo>
                <a:cubicBezTo>
                  <a:pt x="10178" y="4963"/>
                  <a:pt x="10281" y="5082"/>
                  <a:pt x="10244" y="5135"/>
                </a:cubicBezTo>
                <a:cubicBezTo>
                  <a:pt x="10209" y="5186"/>
                  <a:pt x="10124" y="5219"/>
                  <a:pt x="10071" y="5234"/>
                </a:cubicBezTo>
                <a:cubicBezTo>
                  <a:pt x="9993" y="5256"/>
                  <a:pt x="9912" y="5298"/>
                  <a:pt x="9872" y="5209"/>
                </a:cubicBezTo>
                <a:cubicBezTo>
                  <a:pt x="9872" y="5201"/>
                  <a:pt x="9872" y="5192"/>
                  <a:pt x="9872" y="5184"/>
                </a:cubicBezTo>
              </a:path>
              <a:path w="12328" h="1762">
                <a:moveTo>
                  <a:pt x="10790" y="4589"/>
                </a:moveTo>
                <a:cubicBezTo>
                  <a:pt x="10832" y="4630"/>
                  <a:pt x="10857" y="4654"/>
                  <a:pt x="10815" y="4614"/>
                </a:cubicBezTo>
                <a:cubicBezTo>
                  <a:pt x="10773" y="4572"/>
                  <a:pt x="10750" y="4538"/>
                  <a:pt x="10691" y="4589"/>
                </a:cubicBezTo>
                <a:cubicBezTo>
                  <a:pt x="10582" y="4682"/>
                  <a:pt x="10525" y="4762"/>
                  <a:pt x="10468" y="4887"/>
                </a:cubicBezTo>
                <a:cubicBezTo>
                  <a:pt x="10435" y="4959"/>
                  <a:pt x="10426" y="5089"/>
                  <a:pt x="10468" y="5159"/>
                </a:cubicBezTo>
                <a:cubicBezTo>
                  <a:pt x="10519" y="5244"/>
                  <a:pt x="10603" y="5269"/>
                  <a:pt x="10691" y="5283"/>
                </a:cubicBezTo>
                <a:cubicBezTo>
                  <a:pt x="10755" y="5293"/>
                  <a:pt x="10808" y="5259"/>
                  <a:pt x="10864" y="5234"/>
                </a:cubicBezTo>
              </a:path>
              <a:path w="12328" h="1762">
                <a:moveTo>
                  <a:pt x="11013" y="4688"/>
                </a:moveTo>
                <a:cubicBezTo>
                  <a:pt x="11045" y="4784"/>
                  <a:pt x="11066" y="4958"/>
                  <a:pt x="11137" y="5035"/>
                </a:cubicBezTo>
                <a:cubicBezTo>
                  <a:pt x="11206" y="5110"/>
                  <a:pt x="11270" y="5141"/>
                  <a:pt x="11361" y="5184"/>
                </a:cubicBezTo>
                <a:cubicBezTo>
                  <a:pt x="11424" y="5214"/>
                  <a:pt x="11430" y="5231"/>
                  <a:pt x="11485" y="5209"/>
                </a:cubicBezTo>
              </a:path>
              <a:path w="12328" h="1762">
                <a:moveTo>
                  <a:pt x="11361" y="4713"/>
                </a:moveTo>
                <a:cubicBezTo>
                  <a:pt x="11258" y="4850"/>
                  <a:pt x="11146" y="4997"/>
                  <a:pt x="11013" y="5110"/>
                </a:cubicBezTo>
                <a:cubicBezTo>
                  <a:pt x="10943" y="5169"/>
                  <a:pt x="10897" y="5192"/>
                  <a:pt x="10889" y="5283"/>
                </a:cubicBezTo>
                <a:cubicBezTo>
                  <a:pt x="10889" y="5291"/>
                  <a:pt x="10889" y="5300"/>
                  <a:pt x="10889" y="5308"/>
                </a:cubicBezTo>
              </a:path>
              <a:path w="12328" h="1762">
                <a:moveTo>
                  <a:pt x="12378" y="4638"/>
                </a:moveTo>
                <a:cubicBezTo>
                  <a:pt x="12253" y="4652"/>
                  <a:pt x="12212" y="4696"/>
                  <a:pt x="12105" y="4762"/>
                </a:cubicBezTo>
                <a:cubicBezTo>
                  <a:pt x="12035" y="4806"/>
                  <a:pt x="12002" y="4825"/>
                  <a:pt x="12055" y="4911"/>
                </a:cubicBezTo>
                <a:cubicBezTo>
                  <a:pt x="12091" y="4969"/>
                  <a:pt x="12162" y="5016"/>
                  <a:pt x="12179" y="5085"/>
                </a:cubicBezTo>
                <a:cubicBezTo>
                  <a:pt x="12193" y="5143"/>
                  <a:pt x="12180" y="5223"/>
                  <a:pt x="12129" y="5259"/>
                </a:cubicBezTo>
                <a:cubicBezTo>
                  <a:pt x="12046" y="5318"/>
                  <a:pt x="11920" y="5279"/>
                  <a:pt x="11832" y="5259"/>
                </a:cubicBezTo>
              </a:path>
              <a:path w="12328" h="1762">
                <a:moveTo>
                  <a:pt x="12204" y="5110"/>
                </a:moveTo>
                <a:cubicBezTo>
                  <a:pt x="12378" y="5052"/>
                  <a:pt x="12466" y="5027"/>
                  <a:pt x="12601" y="4936"/>
                </a:cubicBezTo>
                <a:cubicBezTo>
                  <a:pt x="12667" y="4891"/>
                  <a:pt x="12731" y="4848"/>
                  <a:pt x="12750" y="4762"/>
                </a:cubicBezTo>
                <a:cubicBezTo>
                  <a:pt x="12750" y="4746"/>
                  <a:pt x="12750" y="4729"/>
                  <a:pt x="12750" y="4713"/>
                </a:cubicBezTo>
                <a:cubicBezTo>
                  <a:pt x="12694" y="4721"/>
                  <a:pt x="12601" y="4753"/>
                  <a:pt x="12551" y="4787"/>
                </a:cubicBezTo>
                <a:cubicBezTo>
                  <a:pt x="12464" y="4846"/>
                  <a:pt x="12389" y="4940"/>
                  <a:pt x="12353" y="5035"/>
                </a:cubicBezTo>
                <a:cubicBezTo>
                  <a:pt x="12319" y="5123"/>
                  <a:pt x="12315" y="5241"/>
                  <a:pt x="12402" y="5308"/>
                </a:cubicBezTo>
                <a:cubicBezTo>
                  <a:pt x="12486" y="5373"/>
                  <a:pt x="12584" y="5356"/>
                  <a:pt x="12675" y="5333"/>
                </a:cubicBezTo>
              </a:path>
              <a:path w="12328" h="1762">
                <a:moveTo>
                  <a:pt x="13196" y="4713"/>
                </a:moveTo>
                <a:cubicBezTo>
                  <a:pt x="13117" y="4724"/>
                  <a:pt x="12999" y="4795"/>
                  <a:pt x="12948" y="4862"/>
                </a:cubicBezTo>
                <a:cubicBezTo>
                  <a:pt x="12918" y="4902"/>
                  <a:pt x="12799" y="5086"/>
                  <a:pt x="12799" y="5135"/>
                </a:cubicBezTo>
                <a:cubicBezTo>
                  <a:pt x="12799" y="5236"/>
                  <a:pt x="12892" y="5279"/>
                  <a:pt x="12973" y="5283"/>
                </a:cubicBezTo>
                <a:cubicBezTo>
                  <a:pt x="13063" y="5288"/>
                  <a:pt x="13135" y="5281"/>
                  <a:pt x="13221" y="5259"/>
                </a:cubicBezTo>
              </a:path>
              <a:path w="12328" h="1762">
                <a:moveTo>
                  <a:pt x="13543" y="4713"/>
                </a:moveTo>
                <a:cubicBezTo>
                  <a:pt x="13644" y="4921"/>
                  <a:pt x="13663" y="4994"/>
                  <a:pt x="13841" y="5110"/>
                </a:cubicBezTo>
                <a:cubicBezTo>
                  <a:pt x="13928" y="5167"/>
                  <a:pt x="14012" y="5248"/>
                  <a:pt x="14114" y="5259"/>
                </a:cubicBezTo>
                <a:cubicBezTo>
                  <a:pt x="14130" y="5259"/>
                  <a:pt x="14147" y="5259"/>
                  <a:pt x="14163" y="5259"/>
                </a:cubicBezTo>
              </a:path>
              <a:path w="12328" h="1762">
                <a:moveTo>
                  <a:pt x="13915" y="4663"/>
                </a:moveTo>
                <a:cubicBezTo>
                  <a:pt x="13683" y="4829"/>
                  <a:pt x="13515" y="5021"/>
                  <a:pt x="13320" y="5234"/>
                </a:cubicBezTo>
                <a:cubicBezTo>
                  <a:pt x="13254" y="5308"/>
                  <a:pt x="13188" y="5383"/>
                  <a:pt x="13122" y="54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Ink 5"/>
          <p:cNvSpPr/>
          <p:nvPr/>
        </p:nvSpPr>
        <p:spPr>
          <a:xfrm>
            <a:off x="1589040" y="2044800"/>
            <a:ext cx="903240" cy="304560"/>
          </a:xfrm>
          <a:custGeom>
            <a:avLst/>
            <a:gdLst/>
            <a:ahLst/>
            <a:rect l="l" t="t" r="r" b="b"/>
            <a:pathLst>
              <a:path w="2507" h="845">
                <a:moveTo>
                  <a:pt x="4837" y="5879"/>
                </a:moveTo>
                <a:cubicBezTo>
                  <a:pt x="4837" y="5904"/>
                  <a:pt x="4837" y="5928"/>
                  <a:pt x="4837" y="5953"/>
                </a:cubicBezTo>
                <a:cubicBezTo>
                  <a:pt x="4837" y="5884"/>
                  <a:pt x="4848" y="5803"/>
                  <a:pt x="4787" y="5755"/>
                </a:cubicBezTo>
                <a:cubicBezTo>
                  <a:pt x="4698" y="5685"/>
                  <a:pt x="4622" y="5771"/>
                  <a:pt x="4564" y="5829"/>
                </a:cubicBezTo>
                <a:cubicBezTo>
                  <a:pt x="4509" y="5884"/>
                  <a:pt x="4428" y="5998"/>
                  <a:pt x="4415" y="6077"/>
                </a:cubicBezTo>
                <a:cubicBezTo>
                  <a:pt x="4400" y="6171"/>
                  <a:pt x="4401" y="6314"/>
                  <a:pt x="4440" y="6400"/>
                </a:cubicBezTo>
                <a:cubicBezTo>
                  <a:pt x="4475" y="6477"/>
                  <a:pt x="4535" y="6485"/>
                  <a:pt x="4614" y="6474"/>
                </a:cubicBezTo>
                <a:cubicBezTo>
                  <a:pt x="4756" y="6455"/>
                  <a:pt x="4760" y="6438"/>
                  <a:pt x="4862" y="6375"/>
                </a:cubicBezTo>
              </a:path>
              <a:path w="2507" h="845">
                <a:moveTo>
                  <a:pt x="5159" y="5978"/>
                </a:moveTo>
                <a:cubicBezTo>
                  <a:pt x="5102" y="6069"/>
                  <a:pt x="5085" y="6126"/>
                  <a:pt x="5060" y="6226"/>
                </a:cubicBezTo>
                <a:cubicBezTo>
                  <a:pt x="5040" y="6304"/>
                  <a:pt x="5001" y="6392"/>
                  <a:pt x="5110" y="6424"/>
                </a:cubicBezTo>
                <a:cubicBezTo>
                  <a:pt x="5211" y="6453"/>
                  <a:pt x="5290" y="6318"/>
                  <a:pt x="5333" y="6251"/>
                </a:cubicBezTo>
                <a:cubicBezTo>
                  <a:pt x="5372" y="6190"/>
                  <a:pt x="5389" y="6089"/>
                  <a:pt x="5358" y="6028"/>
                </a:cubicBezTo>
                <a:cubicBezTo>
                  <a:pt x="5333" y="5978"/>
                  <a:pt x="5256" y="5964"/>
                  <a:pt x="5209" y="5953"/>
                </a:cubicBezTo>
                <a:cubicBezTo>
                  <a:pt x="5201" y="5953"/>
                  <a:pt x="5192" y="5953"/>
                  <a:pt x="5184" y="5953"/>
                </a:cubicBezTo>
              </a:path>
              <a:path w="2507" h="845">
                <a:moveTo>
                  <a:pt x="5730" y="5680"/>
                </a:moveTo>
                <a:cubicBezTo>
                  <a:pt x="5730" y="5864"/>
                  <a:pt x="5712" y="6043"/>
                  <a:pt x="5705" y="6226"/>
                </a:cubicBezTo>
                <a:cubicBezTo>
                  <a:pt x="5703" y="6289"/>
                  <a:pt x="5694" y="6405"/>
                  <a:pt x="5755" y="6449"/>
                </a:cubicBezTo>
                <a:cubicBezTo>
                  <a:pt x="5755" y="6441"/>
                  <a:pt x="5755" y="6432"/>
                  <a:pt x="5755" y="6424"/>
                </a:cubicBezTo>
              </a:path>
              <a:path w="2507" h="845">
                <a:moveTo>
                  <a:pt x="5432" y="5953"/>
                </a:moveTo>
                <a:cubicBezTo>
                  <a:pt x="5486" y="5986"/>
                  <a:pt x="5543" y="5986"/>
                  <a:pt x="5606" y="6003"/>
                </a:cubicBezTo>
                <a:cubicBezTo>
                  <a:pt x="5744" y="6039"/>
                  <a:pt x="5885" y="6028"/>
                  <a:pt x="6028" y="6028"/>
                </a:cubicBezTo>
                <a:cubicBezTo>
                  <a:pt x="6119" y="6028"/>
                  <a:pt x="6143" y="6028"/>
                  <a:pt x="6201" y="6028"/>
                </a:cubicBezTo>
              </a:path>
              <a:path w="2507" h="845">
                <a:moveTo>
                  <a:pt x="6375" y="5928"/>
                </a:moveTo>
                <a:cubicBezTo>
                  <a:pt x="6396" y="6044"/>
                  <a:pt x="6407" y="6220"/>
                  <a:pt x="6474" y="6325"/>
                </a:cubicBezTo>
                <a:cubicBezTo>
                  <a:pt x="6528" y="6410"/>
                  <a:pt x="6633" y="6463"/>
                  <a:pt x="6722" y="6499"/>
                </a:cubicBezTo>
                <a:cubicBezTo>
                  <a:pt x="6792" y="6527"/>
                  <a:pt x="6848" y="6524"/>
                  <a:pt x="6921" y="6524"/>
                </a:cubicBezTo>
              </a:path>
              <a:path w="2507" h="845">
                <a:moveTo>
                  <a:pt x="6821" y="6077"/>
                </a:moveTo>
                <a:cubicBezTo>
                  <a:pt x="6569" y="6180"/>
                  <a:pt x="6346" y="6271"/>
                  <a:pt x="6077" y="63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Ink 6"/>
          <p:cNvSpPr/>
          <p:nvPr/>
        </p:nvSpPr>
        <p:spPr>
          <a:xfrm>
            <a:off x="795240" y="2705040"/>
            <a:ext cx="1955880" cy="411120"/>
          </a:xfrm>
          <a:custGeom>
            <a:avLst/>
            <a:gdLst/>
            <a:ahLst/>
            <a:rect l="l" t="t" r="r" b="b"/>
            <a:pathLst>
              <a:path w="5433" h="1142">
                <a:moveTo>
                  <a:pt x="2629" y="7739"/>
                </a:moveTo>
                <a:cubicBezTo>
                  <a:pt x="2621" y="7795"/>
                  <a:pt x="2612" y="7807"/>
                  <a:pt x="2604" y="7863"/>
                </a:cubicBezTo>
                <a:cubicBezTo>
                  <a:pt x="2577" y="7808"/>
                  <a:pt x="2560" y="7720"/>
                  <a:pt x="2480" y="7739"/>
                </a:cubicBezTo>
                <a:cubicBezTo>
                  <a:pt x="2423" y="7753"/>
                  <a:pt x="2340" y="7840"/>
                  <a:pt x="2307" y="7888"/>
                </a:cubicBezTo>
                <a:cubicBezTo>
                  <a:pt x="2240" y="7984"/>
                  <a:pt x="2216" y="8075"/>
                  <a:pt x="2208" y="8186"/>
                </a:cubicBezTo>
                <a:cubicBezTo>
                  <a:pt x="2203" y="8251"/>
                  <a:pt x="2244" y="8309"/>
                  <a:pt x="2282" y="8359"/>
                </a:cubicBezTo>
                <a:cubicBezTo>
                  <a:pt x="2327" y="8419"/>
                  <a:pt x="2413" y="8424"/>
                  <a:pt x="2480" y="8434"/>
                </a:cubicBezTo>
              </a:path>
              <a:path w="5433" h="1142">
                <a:moveTo>
                  <a:pt x="3001" y="7863"/>
                </a:moveTo>
                <a:cubicBezTo>
                  <a:pt x="2943" y="7846"/>
                  <a:pt x="2892" y="7848"/>
                  <a:pt x="2828" y="7888"/>
                </a:cubicBezTo>
                <a:cubicBezTo>
                  <a:pt x="2751" y="7936"/>
                  <a:pt x="2731" y="7989"/>
                  <a:pt x="2753" y="8086"/>
                </a:cubicBezTo>
                <a:cubicBezTo>
                  <a:pt x="2772" y="8169"/>
                  <a:pt x="2849" y="8257"/>
                  <a:pt x="2877" y="8334"/>
                </a:cubicBezTo>
                <a:cubicBezTo>
                  <a:pt x="2885" y="8351"/>
                  <a:pt x="2894" y="8367"/>
                  <a:pt x="2902" y="8384"/>
                </a:cubicBezTo>
                <a:cubicBezTo>
                  <a:pt x="2841" y="8433"/>
                  <a:pt x="2803" y="8434"/>
                  <a:pt x="2729" y="8409"/>
                </a:cubicBezTo>
                <a:cubicBezTo>
                  <a:pt x="2685" y="8387"/>
                  <a:pt x="2673" y="8384"/>
                  <a:pt x="2654" y="8359"/>
                </a:cubicBezTo>
              </a:path>
              <a:path w="5433" h="1142">
                <a:moveTo>
                  <a:pt x="3373" y="7863"/>
                </a:moveTo>
                <a:cubicBezTo>
                  <a:pt x="3381" y="7888"/>
                  <a:pt x="3390" y="7913"/>
                  <a:pt x="3398" y="7938"/>
                </a:cubicBezTo>
                <a:cubicBezTo>
                  <a:pt x="3355" y="7895"/>
                  <a:pt x="3329" y="7849"/>
                  <a:pt x="3274" y="7888"/>
                </a:cubicBezTo>
                <a:cubicBezTo>
                  <a:pt x="3235" y="7915"/>
                  <a:pt x="3148" y="8022"/>
                  <a:pt x="3125" y="8062"/>
                </a:cubicBezTo>
                <a:cubicBezTo>
                  <a:pt x="3084" y="8134"/>
                  <a:pt x="3055" y="8220"/>
                  <a:pt x="3076" y="8285"/>
                </a:cubicBezTo>
                <a:cubicBezTo>
                  <a:pt x="3113" y="8402"/>
                  <a:pt x="3128" y="8404"/>
                  <a:pt x="3249" y="8409"/>
                </a:cubicBezTo>
                <a:cubicBezTo>
                  <a:pt x="3328" y="8412"/>
                  <a:pt x="3333" y="8392"/>
                  <a:pt x="3373" y="8334"/>
                </a:cubicBezTo>
              </a:path>
              <a:path w="5433" h="1142">
                <a:moveTo>
                  <a:pt x="3597" y="7516"/>
                </a:moveTo>
                <a:cubicBezTo>
                  <a:pt x="3670" y="7521"/>
                  <a:pt x="3786" y="7505"/>
                  <a:pt x="3770" y="7615"/>
                </a:cubicBezTo>
                <a:cubicBezTo>
                  <a:pt x="3757" y="7706"/>
                  <a:pt x="3706" y="7772"/>
                  <a:pt x="3646" y="7838"/>
                </a:cubicBezTo>
                <a:cubicBezTo>
                  <a:pt x="3616" y="7872"/>
                  <a:pt x="3571" y="7960"/>
                  <a:pt x="3646" y="7987"/>
                </a:cubicBezTo>
                <a:cubicBezTo>
                  <a:pt x="3671" y="7987"/>
                  <a:pt x="3696" y="7987"/>
                  <a:pt x="3721" y="7987"/>
                </a:cubicBezTo>
              </a:path>
              <a:path w="5433" h="1142">
                <a:moveTo>
                  <a:pt x="3944" y="8062"/>
                </a:moveTo>
                <a:cubicBezTo>
                  <a:pt x="3956" y="8319"/>
                  <a:pt x="3939" y="8179"/>
                  <a:pt x="4043" y="8334"/>
                </a:cubicBezTo>
                <a:cubicBezTo>
                  <a:pt x="4096" y="8413"/>
                  <a:pt x="4124" y="8409"/>
                  <a:pt x="4217" y="8409"/>
                </a:cubicBezTo>
              </a:path>
              <a:path w="5433" h="1142">
                <a:moveTo>
                  <a:pt x="4118" y="8062"/>
                </a:moveTo>
                <a:cubicBezTo>
                  <a:pt x="4034" y="8191"/>
                  <a:pt x="3982" y="8192"/>
                  <a:pt x="3894" y="8285"/>
                </a:cubicBezTo>
                <a:cubicBezTo>
                  <a:pt x="3852" y="8348"/>
                  <a:pt x="3836" y="8360"/>
                  <a:pt x="3845" y="8409"/>
                </a:cubicBezTo>
              </a:path>
              <a:path w="5433" h="1142">
                <a:moveTo>
                  <a:pt x="4614" y="7938"/>
                </a:moveTo>
                <a:cubicBezTo>
                  <a:pt x="4614" y="7979"/>
                  <a:pt x="4614" y="7987"/>
                  <a:pt x="4614" y="8012"/>
                </a:cubicBezTo>
              </a:path>
              <a:path w="5433" h="1142">
                <a:moveTo>
                  <a:pt x="4564" y="8533"/>
                </a:moveTo>
                <a:cubicBezTo>
                  <a:pt x="4564" y="8599"/>
                  <a:pt x="4564" y="8616"/>
                  <a:pt x="4564" y="8657"/>
                </a:cubicBezTo>
              </a:path>
              <a:path w="5433" h="1142">
                <a:moveTo>
                  <a:pt x="4366" y="8210"/>
                </a:moveTo>
                <a:cubicBezTo>
                  <a:pt x="4470" y="8193"/>
                  <a:pt x="4559" y="8186"/>
                  <a:pt x="4663" y="8186"/>
                </a:cubicBezTo>
                <a:cubicBezTo>
                  <a:pt x="4737" y="8186"/>
                  <a:pt x="4802" y="8175"/>
                  <a:pt x="4862" y="8210"/>
                </a:cubicBezTo>
              </a:path>
              <a:path w="5433" h="1142">
                <a:moveTo>
                  <a:pt x="5631" y="8012"/>
                </a:moveTo>
                <a:cubicBezTo>
                  <a:pt x="5604" y="7979"/>
                  <a:pt x="5583" y="7946"/>
                  <a:pt x="5556" y="7913"/>
                </a:cubicBezTo>
                <a:cubicBezTo>
                  <a:pt x="5486" y="7953"/>
                  <a:pt x="5391" y="8014"/>
                  <a:pt x="5358" y="8086"/>
                </a:cubicBezTo>
                <a:cubicBezTo>
                  <a:pt x="5313" y="8184"/>
                  <a:pt x="5292" y="8257"/>
                  <a:pt x="5333" y="8359"/>
                </a:cubicBezTo>
                <a:cubicBezTo>
                  <a:pt x="5374" y="8460"/>
                  <a:pt x="5486" y="8455"/>
                  <a:pt x="5581" y="8458"/>
                </a:cubicBezTo>
                <a:cubicBezTo>
                  <a:pt x="5655" y="8458"/>
                  <a:pt x="5680" y="8458"/>
                  <a:pt x="5730" y="8458"/>
                </a:cubicBezTo>
              </a:path>
              <a:path w="5433" h="1142">
                <a:moveTo>
                  <a:pt x="5953" y="8062"/>
                </a:moveTo>
                <a:cubicBezTo>
                  <a:pt x="5934" y="8120"/>
                  <a:pt x="5865" y="8227"/>
                  <a:pt x="5879" y="8285"/>
                </a:cubicBezTo>
                <a:cubicBezTo>
                  <a:pt x="5901" y="8377"/>
                  <a:pt x="5964" y="8425"/>
                  <a:pt x="6052" y="8434"/>
                </a:cubicBezTo>
                <a:cubicBezTo>
                  <a:pt x="6154" y="8445"/>
                  <a:pt x="6145" y="8426"/>
                  <a:pt x="6201" y="8359"/>
                </a:cubicBezTo>
                <a:cubicBezTo>
                  <a:pt x="6259" y="8289"/>
                  <a:pt x="6308" y="8212"/>
                  <a:pt x="6300" y="8111"/>
                </a:cubicBezTo>
                <a:cubicBezTo>
                  <a:pt x="6294" y="8042"/>
                  <a:pt x="6178" y="8013"/>
                  <a:pt x="6127" y="7987"/>
                </a:cubicBezTo>
                <a:cubicBezTo>
                  <a:pt x="6052" y="7949"/>
                  <a:pt x="6005" y="7986"/>
                  <a:pt x="5928" y="8012"/>
                </a:cubicBezTo>
              </a:path>
              <a:path w="5433" h="1142">
                <a:moveTo>
                  <a:pt x="6697" y="7689"/>
                </a:moveTo>
                <a:cubicBezTo>
                  <a:pt x="6697" y="7808"/>
                  <a:pt x="6680" y="7897"/>
                  <a:pt x="6648" y="8012"/>
                </a:cubicBezTo>
                <a:cubicBezTo>
                  <a:pt x="6625" y="8093"/>
                  <a:pt x="6565" y="8230"/>
                  <a:pt x="6573" y="8310"/>
                </a:cubicBezTo>
                <a:cubicBezTo>
                  <a:pt x="6578" y="8353"/>
                  <a:pt x="6598" y="8385"/>
                  <a:pt x="6598" y="8434"/>
                </a:cubicBezTo>
              </a:path>
              <a:path w="5433" h="1142">
                <a:moveTo>
                  <a:pt x="6449" y="8062"/>
                </a:moveTo>
                <a:cubicBezTo>
                  <a:pt x="6554" y="8050"/>
                  <a:pt x="6618" y="8052"/>
                  <a:pt x="6722" y="8062"/>
                </a:cubicBezTo>
                <a:cubicBezTo>
                  <a:pt x="6813" y="8062"/>
                  <a:pt x="6838" y="8062"/>
                  <a:pt x="6896" y="8062"/>
                </a:cubicBezTo>
              </a:path>
              <a:path w="5433" h="1142">
                <a:moveTo>
                  <a:pt x="7243" y="7962"/>
                </a:moveTo>
                <a:cubicBezTo>
                  <a:pt x="7284" y="8125"/>
                  <a:pt x="7314" y="8167"/>
                  <a:pt x="7417" y="8285"/>
                </a:cubicBezTo>
                <a:cubicBezTo>
                  <a:pt x="7501" y="8381"/>
                  <a:pt x="7516" y="8392"/>
                  <a:pt x="7640" y="8434"/>
                </a:cubicBezTo>
              </a:path>
              <a:path w="5433" h="1142">
                <a:moveTo>
                  <a:pt x="7491" y="8111"/>
                </a:moveTo>
                <a:cubicBezTo>
                  <a:pt x="7315" y="8266"/>
                  <a:pt x="7140" y="8420"/>
                  <a:pt x="6970" y="85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Ink 7"/>
          <p:cNvSpPr/>
          <p:nvPr/>
        </p:nvSpPr>
        <p:spPr>
          <a:xfrm>
            <a:off x="3133800" y="3009960"/>
            <a:ext cx="135000" cy="88920"/>
          </a:xfrm>
          <a:custGeom>
            <a:avLst/>
            <a:gdLst/>
            <a:ahLst/>
            <a:rect l="l" t="t" r="r" b="b"/>
            <a:pathLst>
              <a:path w="374" h="249">
                <a:moveTo>
                  <a:pt x="8706" y="8359"/>
                </a:moveTo>
                <a:cubicBezTo>
                  <a:pt x="8830" y="8359"/>
                  <a:pt x="8955" y="8359"/>
                  <a:pt x="9079" y="8359"/>
                </a:cubicBezTo>
              </a:path>
              <a:path w="374" h="249">
                <a:moveTo>
                  <a:pt x="8706" y="8533"/>
                </a:moveTo>
                <a:cubicBezTo>
                  <a:pt x="8760" y="8587"/>
                  <a:pt x="8828" y="8598"/>
                  <a:pt x="8905" y="8607"/>
                </a:cubicBezTo>
                <a:cubicBezTo>
                  <a:pt x="8930" y="8607"/>
                  <a:pt x="8954" y="8607"/>
                  <a:pt x="8979" y="86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Ink 8"/>
          <p:cNvSpPr/>
          <p:nvPr/>
        </p:nvSpPr>
        <p:spPr>
          <a:xfrm>
            <a:off x="3483000" y="2724120"/>
            <a:ext cx="1411200" cy="650880"/>
          </a:xfrm>
          <a:custGeom>
            <a:avLst/>
            <a:gdLst/>
            <a:ahLst/>
            <a:rect l="l" t="t" r="r" b="b"/>
            <a:pathLst>
              <a:path w="3920" h="1812">
                <a:moveTo>
                  <a:pt x="10393" y="7590"/>
                </a:moveTo>
                <a:cubicBezTo>
                  <a:pt x="10382" y="7675"/>
                  <a:pt x="10330" y="7752"/>
                  <a:pt x="10319" y="7838"/>
                </a:cubicBezTo>
                <a:cubicBezTo>
                  <a:pt x="10303" y="7967"/>
                  <a:pt x="10323" y="8087"/>
                  <a:pt x="10294" y="8210"/>
                </a:cubicBezTo>
                <a:cubicBezTo>
                  <a:pt x="10294" y="8218"/>
                  <a:pt x="10294" y="8227"/>
                  <a:pt x="10294" y="8235"/>
                </a:cubicBezTo>
              </a:path>
              <a:path w="3920" h="1812">
                <a:moveTo>
                  <a:pt x="9723" y="8434"/>
                </a:moveTo>
                <a:cubicBezTo>
                  <a:pt x="10128" y="8434"/>
                  <a:pt x="10534" y="8434"/>
                  <a:pt x="10939" y="8434"/>
                </a:cubicBezTo>
              </a:path>
              <a:path w="3920" h="1812">
                <a:moveTo>
                  <a:pt x="10120" y="8731"/>
                </a:moveTo>
                <a:cubicBezTo>
                  <a:pt x="10029" y="8759"/>
                  <a:pt x="9942" y="8779"/>
                  <a:pt x="9847" y="8806"/>
                </a:cubicBezTo>
                <a:cubicBezTo>
                  <a:pt x="9758" y="8827"/>
                  <a:pt x="9733" y="8828"/>
                  <a:pt x="9699" y="8880"/>
                </a:cubicBezTo>
                <a:cubicBezTo>
                  <a:pt x="9755" y="8937"/>
                  <a:pt x="9815" y="8976"/>
                  <a:pt x="9872" y="9029"/>
                </a:cubicBezTo>
                <a:cubicBezTo>
                  <a:pt x="9908" y="9062"/>
                  <a:pt x="10027" y="9167"/>
                  <a:pt x="10046" y="9203"/>
                </a:cubicBezTo>
                <a:cubicBezTo>
                  <a:pt x="10066" y="9240"/>
                  <a:pt x="10081" y="9330"/>
                  <a:pt x="10021" y="9351"/>
                </a:cubicBezTo>
                <a:cubicBezTo>
                  <a:pt x="9957" y="9373"/>
                  <a:pt x="9843" y="9390"/>
                  <a:pt x="9773" y="9376"/>
                </a:cubicBezTo>
                <a:cubicBezTo>
                  <a:pt x="9659" y="9354"/>
                  <a:pt x="9681" y="9343"/>
                  <a:pt x="9699" y="9252"/>
                </a:cubicBezTo>
              </a:path>
              <a:path w="3920" h="1812">
                <a:moveTo>
                  <a:pt x="10418" y="9079"/>
                </a:moveTo>
                <a:cubicBezTo>
                  <a:pt x="10391" y="9154"/>
                  <a:pt x="10380" y="9264"/>
                  <a:pt x="10344" y="9327"/>
                </a:cubicBezTo>
              </a:path>
              <a:path w="3920" h="1812">
                <a:moveTo>
                  <a:pt x="10468" y="8657"/>
                </a:moveTo>
                <a:cubicBezTo>
                  <a:pt x="10492" y="8632"/>
                  <a:pt x="10500" y="8623"/>
                  <a:pt x="10517" y="8607"/>
                </a:cubicBezTo>
              </a:path>
              <a:path w="3920" h="1812">
                <a:moveTo>
                  <a:pt x="10567" y="9153"/>
                </a:moveTo>
                <a:cubicBezTo>
                  <a:pt x="10548" y="9264"/>
                  <a:pt x="10567" y="9286"/>
                  <a:pt x="10517" y="9327"/>
                </a:cubicBezTo>
                <a:cubicBezTo>
                  <a:pt x="10542" y="9260"/>
                  <a:pt x="10566" y="9218"/>
                  <a:pt x="10592" y="9153"/>
                </a:cubicBezTo>
                <a:cubicBezTo>
                  <a:pt x="10623" y="9076"/>
                  <a:pt x="10612" y="8999"/>
                  <a:pt x="10666" y="8930"/>
                </a:cubicBezTo>
                <a:cubicBezTo>
                  <a:pt x="10707" y="8877"/>
                  <a:pt x="10818" y="8790"/>
                  <a:pt x="10889" y="8806"/>
                </a:cubicBezTo>
                <a:cubicBezTo>
                  <a:pt x="10949" y="8820"/>
                  <a:pt x="11000" y="8922"/>
                  <a:pt x="11013" y="8979"/>
                </a:cubicBezTo>
                <a:cubicBezTo>
                  <a:pt x="11030" y="9057"/>
                  <a:pt x="11024" y="9158"/>
                  <a:pt x="11038" y="9227"/>
                </a:cubicBezTo>
                <a:cubicBezTo>
                  <a:pt x="11038" y="9286"/>
                  <a:pt x="11041" y="9294"/>
                  <a:pt x="11063" y="9203"/>
                </a:cubicBezTo>
              </a:path>
              <a:path w="3920" h="1812">
                <a:moveTo>
                  <a:pt x="11559" y="8582"/>
                </a:moveTo>
                <a:cubicBezTo>
                  <a:pt x="11567" y="8582"/>
                  <a:pt x="11576" y="8582"/>
                  <a:pt x="11584" y="8582"/>
                </a:cubicBezTo>
              </a:path>
              <a:path w="3920" h="1812">
                <a:moveTo>
                  <a:pt x="12452" y="7565"/>
                </a:moveTo>
                <a:cubicBezTo>
                  <a:pt x="12498" y="7642"/>
                  <a:pt x="12462" y="7677"/>
                  <a:pt x="12452" y="7764"/>
                </a:cubicBezTo>
                <a:cubicBezTo>
                  <a:pt x="12439" y="7875"/>
                  <a:pt x="12427" y="7968"/>
                  <a:pt x="12427" y="8086"/>
                </a:cubicBezTo>
                <a:cubicBezTo>
                  <a:pt x="12427" y="8152"/>
                  <a:pt x="12427" y="8219"/>
                  <a:pt x="12427" y="8285"/>
                </a:cubicBezTo>
              </a:path>
              <a:path w="3920" h="1812">
                <a:moveTo>
                  <a:pt x="12105" y="8409"/>
                </a:moveTo>
                <a:cubicBezTo>
                  <a:pt x="12197" y="8374"/>
                  <a:pt x="12280" y="8397"/>
                  <a:pt x="12378" y="8384"/>
                </a:cubicBezTo>
                <a:cubicBezTo>
                  <a:pt x="12561" y="8360"/>
                  <a:pt x="12738" y="8384"/>
                  <a:pt x="12923" y="8384"/>
                </a:cubicBezTo>
                <a:cubicBezTo>
                  <a:pt x="12981" y="8384"/>
                  <a:pt x="13006" y="8384"/>
                  <a:pt x="13047" y="8384"/>
                </a:cubicBezTo>
              </a:path>
              <a:path w="3920" h="1812">
                <a:moveTo>
                  <a:pt x="12626" y="8781"/>
                </a:moveTo>
                <a:cubicBezTo>
                  <a:pt x="12661" y="8720"/>
                  <a:pt x="12645" y="8691"/>
                  <a:pt x="12601" y="8632"/>
                </a:cubicBezTo>
                <a:cubicBezTo>
                  <a:pt x="12553" y="8568"/>
                  <a:pt x="12430" y="8619"/>
                  <a:pt x="12378" y="8657"/>
                </a:cubicBezTo>
                <a:cubicBezTo>
                  <a:pt x="12323" y="8697"/>
                  <a:pt x="12189" y="8777"/>
                  <a:pt x="12154" y="8830"/>
                </a:cubicBezTo>
                <a:cubicBezTo>
                  <a:pt x="12081" y="8941"/>
                  <a:pt x="12132" y="9002"/>
                  <a:pt x="12154" y="9103"/>
                </a:cubicBezTo>
                <a:cubicBezTo>
                  <a:pt x="12178" y="9210"/>
                  <a:pt x="12205" y="9194"/>
                  <a:pt x="12303" y="9227"/>
                </a:cubicBezTo>
                <a:cubicBezTo>
                  <a:pt x="12409" y="9262"/>
                  <a:pt x="12471" y="9244"/>
                  <a:pt x="12576" y="9203"/>
                </a:cubicBezTo>
              </a:path>
              <a:path w="3920" h="1812">
                <a:moveTo>
                  <a:pt x="12849" y="8806"/>
                </a:moveTo>
                <a:cubicBezTo>
                  <a:pt x="12799" y="8869"/>
                  <a:pt x="12743" y="8966"/>
                  <a:pt x="12750" y="9054"/>
                </a:cubicBezTo>
                <a:cubicBezTo>
                  <a:pt x="12759" y="9168"/>
                  <a:pt x="12796" y="9187"/>
                  <a:pt x="12874" y="9252"/>
                </a:cubicBezTo>
                <a:cubicBezTo>
                  <a:pt x="12940" y="9308"/>
                  <a:pt x="13000" y="9357"/>
                  <a:pt x="13097" y="9327"/>
                </a:cubicBezTo>
                <a:cubicBezTo>
                  <a:pt x="13147" y="9311"/>
                  <a:pt x="13246" y="9223"/>
                  <a:pt x="13271" y="9178"/>
                </a:cubicBezTo>
                <a:cubicBezTo>
                  <a:pt x="13295" y="9136"/>
                  <a:pt x="13322" y="8979"/>
                  <a:pt x="13295" y="8930"/>
                </a:cubicBezTo>
                <a:cubicBezTo>
                  <a:pt x="13267" y="8878"/>
                  <a:pt x="13135" y="8792"/>
                  <a:pt x="13072" y="8781"/>
                </a:cubicBezTo>
                <a:cubicBezTo>
                  <a:pt x="12984" y="8765"/>
                  <a:pt x="13005" y="8788"/>
                  <a:pt x="12948" y="8731"/>
                </a:cubicBezTo>
              </a:path>
              <a:path w="3920" h="1812">
                <a:moveTo>
                  <a:pt x="13395" y="8706"/>
                </a:moveTo>
                <a:cubicBezTo>
                  <a:pt x="13328" y="8728"/>
                  <a:pt x="13310" y="8733"/>
                  <a:pt x="13271" y="8756"/>
                </a:cubicBezTo>
                <a:cubicBezTo>
                  <a:pt x="13283" y="8839"/>
                  <a:pt x="13334" y="8890"/>
                  <a:pt x="13395" y="8954"/>
                </a:cubicBezTo>
                <a:cubicBezTo>
                  <a:pt x="13452" y="9014"/>
                  <a:pt x="13568" y="9122"/>
                  <a:pt x="13593" y="9203"/>
                </a:cubicBezTo>
                <a:cubicBezTo>
                  <a:pt x="13613" y="9267"/>
                  <a:pt x="13553" y="9337"/>
                  <a:pt x="13494" y="9351"/>
                </a:cubicBezTo>
                <a:cubicBezTo>
                  <a:pt x="13432" y="9365"/>
                  <a:pt x="13314" y="9295"/>
                  <a:pt x="13271" y="92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Ink 9"/>
          <p:cNvSpPr/>
          <p:nvPr/>
        </p:nvSpPr>
        <p:spPr>
          <a:xfrm>
            <a:off x="731880" y="3411360"/>
            <a:ext cx="608040" cy="652680"/>
          </a:xfrm>
          <a:custGeom>
            <a:avLst/>
            <a:gdLst/>
            <a:ahLst/>
            <a:rect l="l" t="t" r="r" b="b"/>
            <a:pathLst>
              <a:path w="1688" h="1812">
                <a:moveTo>
                  <a:pt x="2803" y="9475"/>
                </a:moveTo>
                <a:cubicBezTo>
                  <a:pt x="2797" y="9631"/>
                  <a:pt x="2770" y="9772"/>
                  <a:pt x="2753" y="9922"/>
                </a:cubicBezTo>
                <a:cubicBezTo>
                  <a:pt x="2745" y="9996"/>
                  <a:pt x="2745" y="10055"/>
                  <a:pt x="2729" y="10120"/>
                </a:cubicBezTo>
              </a:path>
              <a:path w="1688" h="1812">
                <a:moveTo>
                  <a:pt x="2034" y="10294"/>
                </a:moveTo>
                <a:cubicBezTo>
                  <a:pt x="2334" y="10294"/>
                  <a:pt x="2628" y="10284"/>
                  <a:pt x="2927" y="10269"/>
                </a:cubicBezTo>
                <a:cubicBezTo>
                  <a:pt x="3073" y="10262"/>
                  <a:pt x="3324" y="10318"/>
                  <a:pt x="3448" y="10244"/>
                </a:cubicBezTo>
              </a:path>
              <a:path w="1688" h="1812">
                <a:moveTo>
                  <a:pt x="2480" y="10641"/>
                </a:moveTo>
                <a:cubicBezTo>
                  <a:pt x="2386" y="10653"/>
                  <a:pt x="2324" y="10693"/>
                  <a:pt x="2232" y="10716"/>
                </a:cubicBezTo>
                <a:cubicBezTo>
                  <a:pt x="2188" y="10716"/>
                  <a:pt x="2175" y="10713"/>
                  <a:pt x="2158" y="10740"/>
                </a:cubicBezTo>
                <a:cubicBezTo>
                  <a:pt x="2173" y="10859"/>
                  <a:pt x="2214" y="10815"/>
                  <a:pt x="2282" y="10889"/>
                </a:cubicBezTo>
                <a:cubicBezTo>
                  <a:pt x="2335" y="10946"/>
                  <a:pt x="2410" y="11024"/>
                  <a:pt x="2456" y="11088"/>
                </a:cubicBezTo>
                <a:cubicBezTo>
                  <a:pt x="2517" y="11173"/>
                  <a:pt x="2438" y="11243"/>
                  <a:pt x="2356" y="11261"/>
                </a:cubicBezTo>
                <a:cubicBezTo>
                  <a:pt x="2302" y="11273"/>
                  <a:pt x="2180" y="11255"/>
                  <a:pt x="2133" y="11237"/>
                </a:cubicBezTo>
                <a:cubicBezTo>
                  <a:pt x="2086" y="11219"/>
                  <a:pt x="2089" y="11174"/>
                  <a:pt x="2084" y="11137"/>
                </a:cubicBezTo>
              </a:path>
              <a:path w="1688" h="1812">
                <a:moveTo>
                  <a:pt x="2729" y="10889"/>
                </a:moveTo>
                <a:cubicBezTo>
                  <a:pt x="2729" y="11008"/>
                  <a:pt x="2728" y="11102"/>
                  <a:pt x="2679" y="11212"/>
                </a:cubicBezTo>
                <a:cubicBezTo>
                  <a:pt x="2679" y="11204"/>
                  <a:pt x="2679" y="11195"/>
                  <a:pt x="2679" y="11187"/>
                </a:cubicBezTo>
              </a:path>
              <a:path w="1688" h="1812">
                <a:moveTo>
                  <a:pt x="2828" y="10592"/>
                </a:moveTo>
                <a:cubicBezTo>
                  <a:pt x="2844" y="10600"/>
                  <a:pt x="2861" y="10608"/>
                  <a:pt x="2877" y="10616"/>
                </a:cubicBezTo>
              </a:path>
              <a:path w="1688" h="1812">
                <a:moveTo>
                  <a:pt x="2902" y="11137"/>
                </a:moveTo>
                <a:cubicBezTo>
                  <a:pt x="2902" y="11162"/>
                  <a:pt x="2902" y="11187"/>
                  <a:pt x="2902" y="11212"/>
                </a:cubicBezTo>
                <a:cubicBezTo>
                  <a:pt x="2902" y="11122"/>
                  <a:pt x="2925" y="11040"/>
                  <a:pt x="2977" y="10964"/>
                </a:cubicBezTo>
                <a:cubicBezTo>
                  <a:pt x="3005" y="10923"/>
                  <a:pt x="3079" y="10828"/>
                  <a:pt x="3125" y="10815"/>
                </a:cubicBezTo>
                <a:cubicBezTo>
                  <a:pt x="3171" y="10801"/>
                  <a:pt x="3254" y="10810"/>
                  <a:pt x="3274" y="10864"/>
                </a:cubicBezTo>
                <a:cubicBezTo>
                  <a:pt x="3308" y="10954"/>
                  <a:pt x="3299" y="11044"/>
                  <a:pt x="3299" y="11137"/>
                </a:cubicBezTo>
                <a:cubicBezTo>
                  <a:pt x="3299" y="11154"/>
                  <a:pt x="3299" y="11329"/>
                  <a:pt x="3299" y="11261"/>
                </a:cubicBezTo>
              </a:path>
              <a:path w="1688" h="1812">
                <a:moveTo>
                  <a:pt x="3423" y="10468"/>
                </a:moveTo>
                <a:cubicBezTo>
                  <a:pt x="3527" y="10442"/>
                  <a:pt x="3555" y="10489"/>
                  <a:pt x="3497" y="10592"/>
                </a:cubicBezTo>
                <a:cubicBezTo>
                  <a:pt x="3471" y="10638"/>
                  <a:pt x="3444" y="10678"/>
                  <a:pt x="3473" y="10716"/>
                </a:cubicBezTo>
                <a:cubicBezTo>
                  <a:pt x="3536" y="10797"/>
                  <a:pt x="3643" y="10763"/>
                  <a:pt x="3721" y="107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Ink 10"/>
          <p:cNvSpPr/>
          <p:nvPr/>
        </p:nvSpPr>
        <p:spPr>
          <a:xfrm>
            <a:off x="1581120" y="3490920"/>
            <a:ext cx="1044720" cy="696960"/>
          </a:xfrm>
          <a:custGeom>
            <a:avLst/>
            <a:gdLst/>
            <a:ahLst/>
            <a:rect l="l" t="t" r="r" b="b"/>
            <a:pathLst>
              <a:path w="2904" h="1935">
                <a:moveTo>
                  <a:pt x="4614" y="10071"/>
                </a:moveTo>
                <a:lnTo>
                  <a:pt x="4614" y="10071"/>
                </a:lnTo>
              </a:path>
              <a:path w="2904" h="1935">
                <a:moveTo>
                  <a:pt x="4539" y="10592"/>
                </a:moveTo>
                <a:cubicBezTo>
                  <a:pt x="4539" y="10633"/>
                  <a:pt x="4539" y="10707"/>
                  <a:pt x="4539" y="10666"/>
                </a:cubicBezTo>
              </a:path>
              <a:path w="2904" h="1935">
                <a:moveTo>
                  <a:pt x="4390" y="10294"/>
                </a:moveTo>
                <a:cubicBezTo>
                  <a:pt x="4514" y="10294"/>
                  <a:pt x="4638" y="10294"/>
                  <a:pt x="4762" y="10294"/>
                </a:cubicBezTo>
              </a:path>
              <a:path w="2904" h="1935">
                <a:moveTo>
                  <a:pt x="5606" y="9872"/>
                </a:moveTo>
                <a:cubicBezTo>
                  <a:pt x="5599" y="9820"/>
                  <a:pt x="5591" y="9720"/>
                  <a:pt x="5507" y="9748"/>
                </a:cubicBezTo>
                <a:cubicBezTo>
                  <a:pt x="5414" y="9779"/>
                  <a:pt x="5388" y="9852"/>
                  <a:pt x="5333" y="9922"/>
                </a:cubicBezTo>
                <a:cubicBezTo>
                  <a:pt x="5288" y="9979"/>
                  <a:pt x="5227" y="10035"/>
                  <a:pt x="5259" y="10120"/>
                </a:cubicBezTo>
                <a:cubicBezTo>
                  <a:pt x="5276" y="10164"/>
                  <a:pt x="5389" y="10280"/>
                  <a:pt x="5432" y="10294"/>
                </a:cubicBezTo>
                <a:cubicBezTo>
                  <a:pt x="5500" y="10294"/>
                  <a:pt x="5519" y="10291"/>
                  <a:pt x="5556" y="10319"/>
                </a:cubicBezTo>
              </a:path>
              <a:path w="2904" h="1935">
                <a:moveTo>
                  <a:pt x="5953" y="9897"/>
                </a:moveTo>
                <a:cubicBezTo>
                  <a:pt x="5897" y="9953"/>
                  <a:pt x="5843" y="10015"/>
                  <a:pt x="5829" y="10096"/>
                </a:cubicBezTo>
                <a:cubicBezTo>
                  <a:pt x="5813" y="10191"/>
                  <a:pt x="5880" y="10230"/>
                  <a:pt x="5953" y="10269"/>
                </a:cubicBezTo>
                <a:cubicBezTo>
                  <a:pt x="6008" y="10298"/>
                  <a:pt x="6123" y="10321"/>
                  <a:pt x="6176" y="10269"/>
                </a:cubicBezTo>
                <a:cubicBezTo>
                  <a:pt x="6215" y="10230"/>
                  <a:pt x="6281" y="10103"/>
                  <a:pt x="6276" y="10046"/>
                </a:cubicBezTo>
                <a:cubicBezTo>
                  <a:pt x="6266" y="9933"/>
                  <a:pt x="6119" y="9880"/>
                  <a:pt x="6028" y="9847"/>
                </a:cubicBezTo>
                <a:cubicBezTo>
                  <a:pt x="5969" y="9825"/>
                  <a:pt x="5938" y="9823"/>
                  <a:pt x="5879" y="9823"/>
                </a:cubicBezTo>
              </a:path>
              <a:path w="2904" h="1935">
                <a:moveTo>
                  <a:pt x="6548" y="9699"/>
                </a:moveTo>
                <a:cubicBezTo>
                  <a:pt x="6490" y="9707"/>
                  <a:pt x="6435" y="9720"/>
                  <a:pt x="6449" y="9798"/>
                </a:cubicBezTo>
                <a:cubicBezTo>
                  <a:pt x="6464" y="9881"/>
                  <a:pt x="6533" y="10030"/>
                  <a:pt x="6573" y="10096"/>
                </a:cubicBezTo>
                <a:cubicBezTo>
                  <a:pt x="6602" y="10144"/>
                  <a:pt x="6711" y="10255"/>
                  <a:pt x="6623" y="10319"/>
                </a:cubicBezTo>
                <a:cubicBezTo>
                  <a:pt x="6554" y="10369"/>
                  <a:pt x="6447" y="10321"/>
                  <a:pt x="6424" y="10244"/>
                </a:cubicBezTo>
                <a:cubicBezTo>
                  <a:pt x="6424" y="10228"/>
                  <a:pt x="6424" y="10211"/>
                  <a:pt x="6424" y="10195"/>
                </a:cubicBezTo>
              </a:path>
              <a:path w="2904" h="1935">
                <a:moveTo>
                  <a:pt x="6796" y="9773"/>
                </a:moveTo>
                <a:cubicBezTo>
                  <a:pt x="6823" y="9871"/>
                  <a:pt x="6834" y="9958"/>
                  <a:pt x="6896" y="10046"/>
                </a:cubicBezTo>
                <a:cubicBezTo>
                  <a:pt x="6959" y="10135"/>
                  <a:pt x="7097" y="10225"/>
                  <a:pt x="7193" y="10269"/>
                </a:cubicBezTo>
                <a:cubicBezTo>
                  <a:pt x="7218" y="10277"/>
                  <a:pt x="7243" y="10286"/>
                  <a:pt x="7268" y="10294"/>
                </a:cubicBezTo>
              </a:path>
              <a:path w="2904" h="1935">
                <a:moveTo>
                  <a:pt x="7293" y="9823"/>
                </a:moveTo>
                <a:cubicBezTo>
                  <a:pt x="7101" y="9906"/>
                  <a:pt x="7020" y="9962"/>
                  <a:pt x="6846" y="10096"/>
                </a:cubicBezTo>
                <a:cubicBezTo>
                  <a:pt x="6767" y="10148"/>
                  <a:pt x="6738" y="10169"/>
                  <a:pt x="6697" y="10220"/>
                </a:cubicBezTo>
              </a:path>
              <a:path w="2904" h="1935">
                <a:moveTo>
                  <a:pt x="5457" y="10542"/>
                </a:moveTo>
                <a:cubicBezTo>
                  <a:pt x="5600" y="10542"/>
                  <a:pt x="5735" y="10565"/>
                  <a:pt x="5879" y="10567"/>
                </a:cubicBezTo>
                <a:cubicBezTo>
                  <a:pt x="6112" y="10571"/>
                  <a:pt x="6341" y="10588"/>
                  <a:pt x="6573" y="10592"/>
                </a:cubicBezTo>
                <a:cubicBezTo>
                  <a:pt x="6767" y="10595"/>
                  <a:pt x="6933" y="10573"/>
                  <a:pt x="7119" y="10542"/>
                </a:cubicBezTo>
                <a:cubicBezTo>
                  <a:pt x="7136" y="10542"/>
                  <a:pt x="7152" y="10542"/>
                  <a:pt x="7169" y="10542"/>
                </a:cubicBezTo>
              </a:path>
              <a:path w="2904" h="1935">
                <a:moveTo>
                  <a:pt x="6201" y="10691"/>
                </a:moveTo>
                <a:cubicBezTo>
                  <a:pt x="6107" y="10712"/>
                  <a:pt x="5935" y="10720"/>
                  <a:pt x="5904" y="10840"/>
                </a:cubicBezTo>
                <a:cubicBezTo>
                  <a:pt x="5860" y="11009"/>
                  <a:pt x="5990" y="11021"/>
                  <a:pt x="6077" y="11112"/>
                </a:cubicBezTo>
                <a:cubicBezTo>
                  <a:pt x="6128" y="11166"/>
                  <a:pt x="6246" y="11248"/>
                  <a:pt x="6226" y="11336"/>
                </a:cubicBezTo>
                <a:cubicBezTo>
                  <a:pt x="6211" y="11402"/>
                  <a:pt x="6142" y="11446"/>
                  <a:pt x="6077" y="11435"/>
                </a:cubicBezTo>
                <a:cubicBezTo>
                  <a:pt x="6021" y="11425"/>
                  <a:pt x="5886" y="11422"/>
                  <a:pt x="5854" y="11361"/>
                </a:cubicBezTo>
                <a:cubicBezTo>
                  <a:pt x="5832" y="11294"/>
                  <a:pt x="5820" y="11276"/>
                  <a:pt x="5854" y="11237"/>
                </a:cubicBezTo>
              </a:path>
              <a:path w="2904" h="1935">
                <a:moveTo>
                  <a:pt x="6499" y="11212"/>
                </a:moveTo>
                <a:cubicBezTo>
                  <a:pt x="6472" y="11326"/>
                  <a:pt x="6475" y="11452"/>
                  <a:pt x="6424" y="11435"/>
                </a:cubicBezTo>
              </a:path>
              <a:path w="2904" h="1935">
                <a:moveTo>
                  <a:pt x="6648" y="10840"/>
                </a:moveTo>
                <a:cubicBezTo>
                  <a:pt x="6672" y="10864"/>
                  <a:pt x="6681" y="10873"/>
                  <a:pt x="6697" y="10889"/>
                </a:cubicBezTo>
              </a:path>
              <a:path w="2904" h="1935">
                <a:moveTo>
                  <a:pt x="6772" y="11410"/>
                </a:moveTo>
                <a:cubicBezTo>
                  <a:pt x="6797" y="11410"/>
                  <a:pt x="6821" y="11410"/>
                  <a:pt x="6846" y="11410"/>
                </a:cubicBezTo>
                <a:cubicBezTo>
                  <a:pt x="6854" y="11336"/>
                  <a:pt x="6856" y="11257"/>
                  <a:pt x="6945" y="11237"/>
                </a:cubicBezTo>
                <a:cubicBezTo>
                  <a:pt x="7031" y="11217"/>
                  <a:pt x="7044" y="11304"/>
                  <a:pt x="7069" y="11361"/>
                </a:cubicBezTo>
                <a:cubicBezTo>
                  <a:pt x="7102" y="11435"/>
                  <a:pt x="7139" y="11523"/>
                  <a:pt x="7193" y="11584"/>
                </a:cubicBezTo>
                <a:cubicBezTo>
                  <a:pt x="7220" y="11614"/>
                  <a:pt x="7232" y="11624"/>
                  <a:pt x="7268" y="116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Ink 11"/>
          <p:cNvSpPr/>
          <p:nvPr/>
        </p:nvSpPr>
        <p:spPr>
          <a:xfrm>
            <a:off x="2938320" y="3759120"/>
            <a:ext cx="142920" cy="90720"/>
          </a:xfrm>
          <a:custGeom>
            <a:avLst/>
            <a:gdLst/>
            <a:ahLst/>
            <a:rect l="l" t="t" r="r" b="b"/>
            <a:pathLst>
              <a:path w="398" h="249">
                <a:moveTo>
                  <a:pt x="8161" y="10468"/>
                </a:moveTo>
                <a:cubicBezTo>
                  <a:pt x="8251" y="10463"/>
                  <a:pt x="8301" y="10457"/>
                  <a:pt x="8384" y="10443"/>
                </a:cubicBezTo>
              </a:path>
              <a:path w="398" h="249">
                <a:moveTo>
                  <a:pt x="8210" y="10592"/>
                </a:moveTo>
                <a:cubicBezTo>
                  <a:pt x="8285" y="10635"/>
                  <a:pt x="8373" y="10682"/>
                  <a:pt x="8458" y="10691"/>
                </a:cubicBezTo>
                <a:cubicBezTo>
                  <a:pt x="8491" y="10691"/>
                  <a:pt x="8525" y="10691"/>
                  <a:pt x="8558" y="106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Ink 12"/>
          <p:cNvSpPr/>
          <p:nvPr/>
        </p:nvSpPr>
        <p:spPr>
          <a:xfrm>
            <a:off x="3510000" y="3510000"/>
            <a:ext cx="615960" cy="687240"/>
          </a:xfrm>
          <a:custGeom>
            <a:avLst/>
            <a:gdLst/>
            <a:ahLst/>
            <a:rect l="l" t="t" r="r" b="b"/>
            <a:pathLst>
              <a:path w="1713" h="1911">
                <a:moveTo>
                  <a:pt x="10220" y="9748"/>
                </a:moveTo>
                <a:cubicBezTo>
                  <a:pt x="10220" y="9854"/>
                  <a:pt x="10185" y="9969"/>
                  <a:pt x="10195" y="10071"/>
                </a:cubicBezTo>
                <a:cubicBezTo>
                  <a:pt x="10208" y="10204"/>
                  <a:pt x="10244" y="10309"/>
                  <a:pt x="10244" y="10443"/>
                </a:cubicBezTo>
              </a:path>
              <a:path w="1713" h="1911">
                <a:moveTo>
                  <a:pt x="9798" y="10592"/>
                </a:moveTo>
                <a:cubicBezTo>
                  <a:pt x="9963" y="10575"/>
                  <a:pt x="10125" y="10592"/>
                  <a:pt x="10294" y="10592"/>
                </a:cubicBezTo>
                <a:cubicBezTo>
                  <a:pt x="10368" y="10592"/>
                  <a:pt x="10393" y="10592"/>
                  <a:pt x="10443" y="10592"/>
                </a:cubicBezTo>
              </a:path>
              <a:path w="1713" h="1911">
                <a:moveTo>
                  <a:pt x="9847" y="10840"/>
                </a:moveTo>
                <a:cubicBezTo>
                  <a:pt x="9749" y="10880"/>
                  <a:pt x="9688" y="10927"/>
                  <a:pt x="9798" y="11038"/>
                </a:cubicBezTo>
                <a:cubicBezTo>
                  <a:pt x="9895" y="11136"/>
                  <a:pt x="10007" y="11213"/>
                  <a:pt x="10071" y="11336"/>
                </a:cubicBezTo>
                <a:cubicBezTo>
                  <a:pt x="10109" y="11409"/>
                  <a:pt x="10111" y="11514"/>
                  <a:pt x="10071" y="11584"/>
                </a:cubicBezTo>
                <a:cubicBezTo>
                  <a:pt x="10037" y="11643"/>
                  <a:pt x="9893" y="11608"/>
                  <a:pt x="9847" y="11584"/>
                </a:cubicBezTo>
                <a:cubicBezTo>
                  <a:pt x="9791" y="11555"/>
                  <a:pt x="9768" y="11510"/>
                  <a:pt x="9798" y="11460"/>
                </a:cubicBezTo>
                <a:cubicBezTo>
                  <a:pt x="9806" y="11452"/>
                  <a:pt x="9815" y="11443"/>
                  <a:pt x="9823" y="11435"/>
                </a:cubicBezTo>
              </a:path>
              <a:path w="1713" h="1911">
                <a:moveTo>
                  <a:pt x="10294" y="11311"/>
                </a:moveTo>
                <a:cubicBezTo>
                  <a:pt x="10302" y="11418"/>
                  <a:pt x="10311" y="11526"/>
                  <a:pt x="10319" y="11633"/>
                </a:cubicBezTo>
              </a:path>
              <a:path w="1713" h="1911">
                <a:moveTo>
                  <a:pt x="10319" y="10964"/>
                </a:moveTo>
                <a:cubicBezTo>
                  <a:pt x="10377" y="10929"/>
                  <a:pt x="10377" y="10939"/>
                  <a:pt x="10443" y="10964"/>
                </a:cubicBezTo>
              </a:path>
              <a:path w="1713" h="1911">
                <a:moveTo>
                  <a:pt x="10492" y="11460"/>
                </a:moveTo>
                <a:cubicBezTo>
                  <a:pt x="10509" y="11510"/>
                  <a:pt x="10525" y="11559"/>
                  <a:pt x="10542" y="11609"/>
                </a:cubicBezTo>
                <a:cubicBezTo>
                  <a:pt x="10620" y="11542"/>
                  <a:pt x="10610" y="11485"/>
                  <a:pt x="10641" y="11385"/>
                </a:cubicBezTo>
                <a:cubicBezTo>
                  <a:pt x="10660" y="11323"/>
                  <a:pt x="10676" y="11285"/>
                  <a:pt x="10716" y="11237"/>
                </a:cubicBezTo>
                <a:cubicBezTo>
                  <a:pt x="10811" y="11313"/>
                  <a:pt x="10806" y="11357"/>
                  <a:pt x="10864" y="11460"/>
                </a:cubicBezTo>
                <a:cubicBezTo>
                  <a:pt x="10918" y="11557"/>
                  <a:pt x="10954" y="11636"/>
                  <a:pt x="11063" y="11658"/>
                </a:cubicBezTo>
              </a:path>
              <a:path w="1713" h="1911">
                <a:moveTo>
                  <a:pt x="11460" y="10592"/>
                </a:moveTo>
                <a:cubicBezTo>
                  <a:pt x="11460" y="10600"/>
                  <a:pt x="11460" y="10608"/>
                  <a:pt x="11460" y="106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Ink 13"/>
          <p:cNvSpPr/>
          <p:nvPr/>
        </p:nvSpPr>
        <p:spPr>
          <a:xfrm>
            <a:off x="4384800" y="3571920"/>
            <a:ext cx="384120" cy="660240"/>
          </a:xfrm>
          <a:custGeom>
            <a:avLst/>
            <a:gdLst/>
            <a:ahLst/>
            <a:rect l="l" t="t" r="r" b="b"/>
            <a:pathLst>
              <a:path w="1068" h="1836">
                <a:moveTo>
                  <a:pt x="12378" y="9922"/>
                </a:moveTo>
                <a:cubicBezTo>
                  <a:pt x="12370" y="10035"/>
                  <a:pt x="12369" y="10156"/>
                  <a:pt x="12353" y="10269"/>
                </a:cubicBezTo>
                <a:cubicBezTo>
                  <a:pt x="12338" y="10373"/>
                  <a:pt x="12328" y="10460"/>
                  <a:pt x="12328" y="10567"/>
                </a:cubicBezTo>
              </a:path>
              <a:path w="1068" h="1836">
                <a:moveTo>
                  <a:pt x="12179" y="10666"/>
                </a:moveTo>
                <a:cubicBezTo>
                  <a:pt x="12377" y="10666"/>
                  <a:pt x="12576" y="10666"/>
                  <a:pt x="12774" y="10666"/>
                </a:cubicBezTo>
              </a:path>
              <a:path w="1068" h="1836">
                <a:moveTo>
                  <a:pt x="12576" y="11063"/>
                </a:moveTo>
                <a:cubicBezTo>
                  <a:pt x="12576" y="10999"/>
                  <a:pt x="12573" y="10973"/>
                  <a:pt x="12551" y="10914"/>
                </a:cubicBezTo>
                <a:cubicBezTo>
                  <a:pt x="12470" y="10948"/>
                  <a:pt x="12372" y="10981"/>
                  <a:pt x="12303" y="11038"/>
                </a:cubicBezTo>
                <a:cubicBezTo>
                  <a:pt x="12241" y="11090"/>
                  <a:pt x="12192" y="11151"/>
                  <a:pt x="12204" y="11237"/>
                </a:cubicBezTo>
                <a:cubicBezTo>
                  <a:pt x="12217" y="11328"/>
                  <a:pt x="12267" y="11438"/>
                  <a:pt x="12353" y="11485"/>
                </a:cubicBezTo>
                <a:cubicBezTo>
                  <a:pt x="12394" y="11501"/>
                  <a:pt x="12436" y="11518"/>
                  <a:pt x="12477" y="11534"/>
                </a:cubicBezTo>
              </a:path>
              <a:path w="1068" h="1836">
                <a:moveTo>
                  <a:pt x="12774" y="11088"/>
                </a:moveTo>
                <a:cubicBezTo>
                  <a:pt x="12720" y="11142"/>
                  <a:pt x="12640" y="11205"/>
                  <a:pt x="12626" y="11286"/>
                </a:cubicBezTo>
                <a:cubicBezTo>
                  <a:pt x="12611" y="11376"/>
                  <a:pt x="12672" y="11445"/>
                  <a:pt x="12725" y="11509"/>
                </a:cubicBezTo>
                <a:cubicBezTo>
                  <a:pt x="12788" y="11585"/>
                  <a:pt x="12876" y="11584"/>
                  <a:pt x="12923" y="11509"/>
                </a:cubicBezTo>
                <a:cubicBezTo>
                  <a:pt x="12981" y="11417"/>
                  <a:pt x="12983" y="11385"/>
                  <a:pt x="12973" y="11286"/>
                </a:cubicBezTo>
                <a:cubicBezTo>
                  <a:pt x="12966" y="11214"/>
                  <a:pt x="12923" y="11188"/>
                  <a:pt x="12874" y="11137"/>
                </a:cubicBezTo>
              </a:path>
              <a:path w="1068" h="1836">
                <a:moveTo>
                  <a:pt x="13171" y="11162"/>
                </a:moveTo>
                <a:cubicBezTo>
                  <a:pt x="13203" y="11289"/>
                  <a:pt x="13242" y="11404"/>
                  <a:pt x="13246" y="11534"/>
                </a:cubicBezTo>
                <a:cubicBezTo>
                  <a:pt x="13247" y="11583"/>
                  <a:pt x="13210" y="11734"/>
                  <a:pt x="13146" y="11757"/>
                </a:cubicBezTo>
                <a:cubicBezTo>
                  <a:pt x="13058" y="11789"/>
                  <a:pt x="12975" y="11738"/>
                  <a:pt x="12898" y="11708"/>
                </a:cubicBezTo>
                <a:cubicBezTo>
                  <a:pt x="12831" y="11685"/>
                  <a:pt x="12813" y="11680"/>
                  <a:pt x="12774" y="116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Ink 14"/>
          <p:cNvSpPr/>
          <p:nvPr/>
        </p:nvSpPr>
        <p:spPr>
          <a:xfrm>
            <a:off x="1081080" y="4357800"/>
            <a:ext cx="2170080" cy="777600"/>
          </a:xfrm>
          <a:custGeom>
            <a:avLst/>
            <a:gdLst/>
            <a:ahLst/>
            <a:rect l="l" t="t" r="r" b="b"/>
            <a:pathLst>
              <a:path w="6029" h="2159">
                <a:moveTo>
                  <a:pt x="3621" y="12105"/>
                </a:moveTo>
                <a:cubicBezTo>
                  <a:pt x="3621" y="12211"/>
                  <a:pt x="3617" y="12303"/>
                  <a:pt x="3597" y="12402"/>
                </a:cubicBezTo>
                <a:cubicBezTo>
                  <a:pt x="3575" y="12511"/>
                  <a:pt x="3600" y="12646"/>
                  <a:pt x="3572" y="12750"/>
                </a:cubicBezTo>
                <a:cubicBezTo>
                  <a:pt x="3564" y="12766"/>
                  <a:pt x="3555" y="12783"/>
                  <a:pt x="3547" y="12799"/>
                </a:cubicBezTo>
              </a:path>
              <a:path w="6029" h="2159">
                <a:moveTo>
                  <a:pt x="3001" y="12849"/>
                </a:moveTo>
                <a:cubicBezTo>
                  <a:pt x="3199" y="12886"/>
                  <a:pt x="3394" y="12895"/>
                  <a:pt x="3597" y="12923"/>
                </a:cubicBezTo>
                <a:cubicBezTo>
                  <a:pt x="3789" y="12950"/>
                  <a:pt x="3997" y="13008"/>
                  <a:pt x="4192" y="12998"/>
                </a:cubicBezTo>
                <a:cubicBezTo>
                  <a:pt x="4263" y="12994"/>
                  <a:pt x="4300" y="12965"/>
                  <a:pt x="4341" y="12923"/>
                </a:cubicBezTo>
              </a:path>
              <a:path w="6029" h="2159">
                <a:moveTo>
                  <a:pt x="3373" y="13221"/>
                </a:moveTo>
                <a:cubicBezTo>
                  <a:pt x="3278" y="13221"/>
                  <a:pt x="3187" y="13207"/>
                  <a:pt x="3101" y="13246"/>
                </a:cubicBezTo>
                <a:cubicBezTo>
                  <a:pt x="3057" y="13268"/>
                  <a:pt x="3046" y="13271"/>
                  <a:pt x="3026" y="13295"/>
                </a:cubicBezTo>
                <a:cubicBezTo>
                  <a:pt x="3075" y="13393"/>
                  <a:pt x="3135" y="13439"/>
                  <a:pt x="3200" y="13519"/>
                </a:cubicBezTo>
                <a:cubicBezTo>
                  <a:pt x="3248" y="13577"/>
                  <a:pt x="3431" y="13779"/>
                  <a:pt x="3398" y="13891"/>
                </a:cubicBezTo>
                <a:cubicBezTo>
                  <a:pt x="3382" y="13946"/>
                  <a:pt x="3292" y="13952"/>
                  <a:pt x="3249" y="13940"/>
                </a:cubicBezTo>
                <a:cubicBezTo>
                  <a:pt x="3158" y="13914"/>
                  <a:pt x="3084" y="13879"/>
                  <a:pt x="3026" y="13816"/>
                </a:cubicBezTo>
                <a:cubicBezTo>
                  <a:pt x="2990" y="13777"/>
                  <a:pt x="3001" y="13745"/>
                  <a:pt x="3001" y="13692"/>
                </a:cubicBezTo>
              </a:path>
              <a:path w="6029" h="2159">
                <a:moveTo>
                  <a:pt x="3671" y="13767"/>
                </a:moveTo>
                <a:cubicBezTo>
                  <a:pt x="3659" y="13819"/>
                  <a:pt x="3653" y="13949"/>
                  <a:pt x="3621" y="13915"/>
                </a:cubicBezTo>
              </a:path>
              <a:path w="6029" h="2159">
                <a:moveTo>
                  <a:pt x="3770" y="13221"/>
                </a:moveTo>
                <a:cubicBezTo>
                  <a:pt x="3812" y="13263"/>
                  <a:pt x="3834" y="13294"/>
                  <a:pt x="3870" y="13345"/>
                </a:cubicBezTo>
              </a:path>
              <a:path w="6029" h="2159">
                <a:moveTo>
                  <a:pt x="3845" y="13767"/>
                </a:moveTo>
                <a:cubicBezTo>
                  <a:pt x="3837" y="13783"/>
                  <a:pt x="3828" y="13800"/>
                  <a:pt x="3820" y="13816"/>
                </a:cubicBezTo>
                <a:cubicBezTo>
                  <a:pt x="3856" y="13718"/>
                  <a:pt x="3894" y="13634"/>
                  <a:pt x="3944" y="13543"/>
                </a:cubicBezTo>
                <a:cubicBezTo>
                  <a:pt x="3969" y="13498"/>
                  <a:pt x="4002" y="13422"/>
                  <a:pt x="4068" y="13444"/>
                </a:cubicBezTo>
                <a:cubicBezTo>
                  <a:pt x="4141" y="13468"/>
                  <a:pt x="4157" y="13547"/>
                  <a:pt x="4167" y="13618"/>
                </a:cubicBezTo>
                <a:cubicBezTo>
                  <a:pt x="4179" y="13698"/>
                  <a:pt x="4188" y="13785"/>
                  <a:pt x="4192" y="13866"/>
                </a:cubicBezTo>
                <a:cubicBezTo>
                  <a:pt x="4192" y="13910"/>
                  <a:pt x="4189" y="13924"/>
                  <a:pt x="4217" y="13940"/>
                </a:cubicBezTo>
              </a:path>
              <a:path w="6029" h="2159">
                <a:moveTo>
                  <a:pt x="4366" y="13271"/>
                </a:moveTo>
                <a:cubicBezTo>
                  <a:pt x="4464" y="13259"/>
                  <a:pt x="4588" y="13219"/>
                  <a:pt x="4564" y="13370"/>
                </a:cubicBezTo>
                <a:cubicBezTo>
                  <a:pt x="4554" y="13430"/>
                  <a:pt x="4437" y="13481"/>
                  <a:pt x="4440" y="13519"/>
                </a:cubicBezTo>
                <a:cubicBezTo>
                  <a:pt x="4449" y="13646"/>
                  <a:pt x="4605" y="13563"/>
                  <a:pt x="4663" y="13543"/>
                </a:cubicBezTo>
              </a:path>
              <a:path w="6029" h="2159">
                <a:moveTo>
                  <a:pt x="5060" y="13047"/>
                </a:moveTo>
                <a:cubicBezTo>
                  <a:pt x="5060" y="13092"/>
                  <a:pt x="5057" y="13112"/>
                  <a:pt x="5085" y="13072"/>
                </a:cubicBezTo>
              </a:path>
              <a:path w="6029" h="2159">
                <a:moveTo>
                  <a:pt x="5904" y="12328"/>
                </a:moveTo>
                <a:cubicBezTo>
                  <a:pt x="5940" y="12266"/>
                  <a:pt x="5929" y="12254"/>
                  <a:pt x="5879" y="12204"/>
                </a:cubicBezTo>
                <a:cubicBezTo>
                  <a:pt x="5824" y="12149"/>
                  <a:pt x="5766" y="12131"/>
                  <a:pt x="5680" y="12154"/>
                </a:cubicBezTo>
                <a:cubicBezTo>
                  <a:pt x="5672" y="12162"/>
                  <a:pt x="5663" y="12171"/>
                  <a:pt x="5655" y="12179"/>
                </a:cubicBezTo>
                <a:cubicBezTo>
                  <a:pt x="5671" y="12278"/>
                  <a:pt x="5709" y="12370"/>
                  <a:pt x="5779" y="12452"/>
                </a:cubicBezTo>
                <a:cubicBezTo>
                  <a:pt x="5856" y="12542"/>
                  <a:pt x="5952" y="12616"/>
                  <a:pt x="5928" y="12750"/>
                </a:cubicBezTo>
                <a:cubicBezTo>
                  <a:pt x="5914" y="12831"/>
                  <a:pt x="5822" y="12845"/>
                  <a:pt x="5755" y="12824"/>
                </a:cubicBezTo>
                <a:cubicBezTo>
                  <a:pt x="5739" y="12819"/>
                  <a:pt x="5630" y="12750"/>
                  <a:pt x="5631" y="12725"/>
                </a:cubicBezTo>
                <a:cubicBezTo>
                  <a:pt x="5650" y="12648"/>
                  <a:pt x="5642" y="12630"/>
                  <a:pt x="5680" y="12601"/>
                </a:cubicBezTo>
              </a:path>
              <a:path w="6029" h="2159">
                <a:moveTo>
                  <a:pt x="6226" y="12378"/>
                </a:moveTo>
                <a:cubicBezTo>
                  <a:pt x="6249" y="12483"/>
                  <a:pt x="6251" y="12568"/>
                  <a:pt x="6251" y="12675"/>
                </a:cubicBezTo>
                <a:cubicBezTo>
                  <a:pt x="6251" y="12715"/>
                  <a:pt x="6251" y="12968"/>
                  <a:pt x="6251" y="12725"/>
                </a:cubicBezTo>
              </a:path>
              <a:path w="6029" h="2159">
                <a:moveTo>
                  <a:pt x="6350" y="12129"/>
                </a:moveTo>
                <a:cubicBezTo>
                  <a:pt x="6422" y="12187"/>
                  <a:pt x="6437" y="12187"/>
                  <a:pt x="6474" y="12278"/>
                </a:cubicBezTo>
              </a:path>
              <a:path w="6029" h="2159">
                <a:moveTo>
                  <a:pt x="6474" y="12799"/>
                </a:moveTo>
                <a:cubicBezTo>
                  <a:pt x="6474" y="12832"/>
                  <a:pt x="6474" y="12865"/>
                  <a:pt x="6474" y="12898"/>
                </a:cubicBezTo>
                <a:cubicBezTo>
                  <a:pt x="6474" y="12816"/>
                  <a:pt x="6490" y="12753"/>
                  <a:pt x="6499" y="12675"/>
                </a:cubicBezTo>
                <a:cubicBezTo>
                  <a:pt x="6510" y="12583"/>
                  <a:pt x="6525" y="12486"/>
                  <a:pt x="6573" y="12402"/>
                </a:cubicBezTo>
                <a:cubicBezTo>
                  <a:pt x="6598" y="12378"/>
                  <a:pt x="6607" y="12370"/>
                  <a:pt x="6623" y="12353"/>
                </a:cubicBezTo>
                <a:cubicBezTo>
                  <a:pt x="6714" y="12419"/>
                  <a:pt x="6674" y="12455"/>
                  <a:pt x="6722" y="12551"/>
                </a:cubicBezTo>
                <a:cubicBezTo>
                  <a:pt x="6770" y="12646"/>
                  <a:pt x="6808" y="12741"/>
                  <a:pt x="6871" y="12824"/>
                </a:cubicBezTo>
                <a:cubicBezTo>
                  <a:pt x="6945" y="12922"/>
                  <a:pt x="6934" y="12950"/>
                  <a:pt x="7020" y="12898"/>
                </a:cubicBezTo>
              </a:path>
              <a:path w="6029" h="2159">
                <a:moveTo>
                  <a:pt x="7094" y="12353"/>
                </a:moveTo>
                <a:cubicBezTo>
                  <a:pt x="7146" y="12488"/>
                  <a:pt x="7199" y="12635"/>
                  <a:pt x="7293" y="12750"/>
                </a:cubicBezTo>
                <a:cubicBezTo>
                  <a:pt x="7355" y="12826"/>
                  <a:pt x="7423" y="12910"/>
                  <a:pt x="7516" y="12923"/>
                </a:cubicBezTo>
              </a:path>
              <a:path w="6029" h="2159">
                <a:moveTo>
                  <a:pt x="7367" y="12378"/>
                </a:moveTo>
                <a:cubicBezTo>
                  <a:pt x="7150" y="12539"/>
                  <a:pt x="7046" y="12636"/>
                  <a:pt x="6871" y="12824"/>
                </a:cubicBezTo>
                <a:cubicBezTo>
                  <a:pt x="6854" y="12841"/>
                  <a:pt x="6838" y="12857"/>
                  <a:pt x="6821" y="12874"/>
                </a:cubicBezTo>
              </a:path>
              <a:path w="6029" h="2159">
                <a:moveTo>
                  <a:pt x="5730" y="13022"/>
                </a:moveTo>
                <a:cubicBezTo>
                  <a:pt x="5987" y="13022"/>
                  <a:pt x="6244" y="13022"/>
                  <a:pt x="6499" y="13047"/>
                </a:cubicBezTo>
                <a:cubicBezTo>
                  <a:pt x="6691" y="13066"/>
                  <a:pt x="6875" y="13072"/>
                  <a:pt x="7069" y="13072"/>
                </a:cubicBezTo>
                <a:cubicBezTo>
                  <a:pt x="7135" y="13072"/>
                  <a:pt x="7202" y="13072"/>
                  <a:pt x="7268" y="13072"/>
                </a:cubicBezTo>
              </a:path>
              <a:path w="6029" h="2159">
                <a:moveTo>
                  <a:pt x="6573" y="13494"/>
                </a:moveTo>
                <a:cubicBezTo>
                  <a:pt x="6561" y="13551"/>
                  <a:pt x="6471" y="13491"/>
                  <a:pt x="6350" y="13519"/>
                </a:cubicBezTo>
                <a:cubicBezTo>
                  <a:pt x="6287" y="13533"/>
                  <a:pt x="6211" y="13590"/>
                  <a:pt x="6176" y="13643"/>
                </a:cubicBezTo>
                <a:cubicBezTo>
                  <a:pt x="6115" y="13735"/>
                  <a:pt x="6140" y="13770"/>
                  <a:pt x="6176" y="13866"/>
                </a:cubicBezTo>
                <a:cubicBezTo>
                  <a:pt x="6213" y="13964"/>
                  <a:pt x="6279" y="14064"/>
                  <a:pt x="6400" y="14064"/>
                </a:cubicBezTo>
                <a:cubicBezTo>
                  <a:pt x="6441" y="14056"/>
                  <a:pt x="6483" y="14047"/>
                  <a:pt x="6524" y="14039"/>
                </a:cubicBezTo>
              </a:path>
              <a:path w="6029" h="2159">
                <a:moveTo>
                  <a:pt x="6846" y="13494"/>
                </a:moveTo>
                <a:cubicBezTo>
                  <a:pt x="6776" y="13563"/>
                  <a:pt x="6706" y="13616"/>
                  <a:pt x="6697" y="13717"/>
                </a:cubicBezTo>
                <a:cubicBezTo>
                  <a:pt x="6689" y="13810"/>
                  <a:pt x="6693" y="13880"/>
                  <a:pt x="6772" y="13940"/>
                </a:cubicBezTo>
                <a:cubicBezTo>
                  <a:pt x="6864" y="14011"/>
                  <a:pt x="6904" y="13985"/>
                  <a:pt x="6970" y="13891"/>
                </a:cubicBezTo>
                <a:cubicBezTo>
                  <a:pt x="7013" y="13829"/>
                  <a:pt x="7040" y="13742"/>
                  <a:pt x="7020" y="13667"/>
                </a:cubicBezTo>
                <a:cubicBezTo>
                  <a:pt x="6998" y="13585"/>
                  <a:pt x="6920" y="13527"/>
                  <a:pt x="6871" y="13469"/>
                </a:cubicBezTo>
                <a:cubicBezTo>
                  <a:pt x="6863" y="13461"/>
                  <a:pt x="6854" y="13452"/>
                  <a:pt x="6846" y="13444"/>
                </a:cubicBezTo>
              </a:path>
              <a:path w="6029" h="2159">
                <a:moveTo>
                  <a:pt x="7243" y="13519"/>
                </a:moveTo>
                <a:cubicBezTo>
                  <a:pt x="7161" y="13668"/>
                  <a:pt x="7212" y="13713"/>
                  <a:pt x="7243" y="13866"/>
                </a:cubicBezTo>
                <a:cubicBezTo>
                  <a:pt x="7257" y="13934"/>
                  <a:pt x="7293" y="14070"/>
                  <a:pt x="7268" y="14139"/>
                </a:cubicBezTo>
                <a:cubicBezTo>
                  <a:pt x="7260" y="14147"/>
                  <a:pt x="7251" y="14155"/>
                  <a:pt x="7243" y="14163"/>
                </a:cubicBezTo>
                <a:cubicBezTo>
                  <a:pt x="7129" y="14108"/>
                  <a:pt x="7124" y="14098"/>
                  <a:pt x="7119" y="13965"/>
                </a:cubicBezTo>
                <a:cubicBezTo>
                  <a:pt x="7119" y="13891"/>
                  <a:pt x="7119" y="13866"/>
                  <a:pt x="7119" y="13816"/>
                </a:cubicBezTo>
              </a:path>
              <a:path w="6029" h="2159">
                <a:moveTo>
                  <a:pt x="7441" y="13543"/>
                </a:moveTo>
                <a:cubicBezTo>
                  <a:pt x="7499" y="13740"/>
                  <a:pt x="7550" y="13918"/>
                  <a:pt x="7665" y="14089"/>
                </a:cubicBezTo>
                <a:cubicBezTo>
                  <a:pt x="7725" y="14177"/>
                  <a:pt x="7754" y="14231"/>
                  <a:pt x="7838" y="14263"/>
                </a:cubicBezTo>
              </a:path>
              <a:path w="6029" h="2159">
                <a:moveTo>
                  <a:pt x="7938" y="13643"/>
                </a:moveTo>
                <a:cubicBezTo>
                  <a:pt x="7784" y="13729"/>
                  <a:pt x="7640" y="13790"/>
                  <a:pt x="7541" y="13940"/>
                </a:cubicBezTo>
                <a:cubicBezTo>
                  <a:pt x="7521" y="13970"/>
                  <a:pt x="7370" y="14151"/>
                  <a:pt x="7392" y="14188"/>
                </a:cubicBezTo>
                <a:cubicBezTo>
                  <a:pt x="7408" y="14196"/>
                  <a:pt x="7425" y="14205"/>
                  <a:pt x="7441" y="14213"/>
                </a:cubicBezTo>
              </a:path>
              <a:path w="6029" h="2159">
                <a:moveTo>
                  <a:pt x="8607" y="13146"/>
                </a:moveTo>
                <a:cubicBezTo>
                  <a:pt x="8762" y="13146"/>
                  <a:pt x="8863" y="13147"/>
                  <a:pt x="9004" y="13171"/>
                </a:cubicBezTo>
              </a:path>
              <a:path w="6029" h="2159">
                <a:moveTo>
                  <a:pt x="8756" y="13370"/>
                </a:moveTo>
                <a:cubicBezTo>
                  <a:pt x="8892" y="13461"/>
                  <a:pt x="8928" y="13488"/>
                  <a:pt x="9029" y="13519"/>
                </a:cubicBezTo>
              </a:path>
              <a:path w="6029" h="2159">
                <a:moveTo>
                  <a:pt x="5680" y="12551"/>
                </a:moveTo>
                <a:cubicBezTo>
                  <a:pt x="5744" y="12500"/>
                  <a:pt x="5823" y="12472"/>
                  <a:pt x="5904" y="12452"/>
                </a:cubicBezTo>
                <a:cubicBezTo>
                  <a:pt x="6116" y="12400"/>
                  <a:pt x="6330" y="12357"/>
                  <a:pt x="6548" y="12353"/>
                </a:cubicBezTo>
                <a:cubicBezTo>
                  <a:pt x="6703" y="12350"/>
                  <a:pt x="6874" y="12377"/>
                  <a:pt x="7020" y="12328"/>
                </a:cubicBezTo>
              </a:path>
              <a:path w="6029" h="2159">
                <a:moveTo>
                  <a:pt x="3076" y="13841"/>
                </a:moveTo>
                <a:cubicBezTo>
                  <a:pt x="3249" y="13780"/>
                  <a:pt x="3423" y="13744"/>
                  <a:pt x="3597" y="13692"/>
                </a:cubicBezTo>
                <a:cubicBezTo>
                  <a:pt x="3928" y="13592"/>
                  <a:pt x="4228" y="13497"/>
                  <a:pt x="4564" y="13419"/>
                </a:cubicBezTo>
                <a:cubicBezTo>
                  <a:pt x="4626" y="13405"/>
                  <a:pt x="4751" y="13411"/>
                  <a:pt x="4787" y="13345"/>
                </a:cubicBezTo>
                <a:cubicBezTo>
                  <a:pt x="4787" y="13337"/>
                  <a:pt x="4787" y="13328"/>
                  <a:pt x="4787" y="133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Ink 15"/>
          <p:cNvSpPr/>
          <p:nvPr/>
        </p:nvSpPr>
        <p:spPr>
          <a:xfrm>
            <a:off x="3786120" y="4348080"/>
            <a:ext cx="374760" cy="696960"/>
          </a:xfrm>
          <a:custGeom>
            <a:avLst/>
            <a:gdLst/>
            <a:ahLst/>
            <a:rect l="l" t="t" r="r" b="b"/>
            <a:pathLst>
              <a:path w="1043" h="1936">
                <a:moveTo>
                  <a:pt x="10765" y="12080"/>
                </a:moveTo>
                <a:cubicBezTo>
                  <a:pt x="10765" y="12193"/>
                  <a:pt x="10774" y="12291"/>
                  <a:pt x="10790" y="12402"/>
                </a:cubicBezTo>
                <a:cubicBezTo>
                  <a:pt x="10816" y="12584"/>
                  <a:pt x="10841" y="12767"/>
                  <a:pt x="10864" y="12948"/>
                </a:cubicBezTo>
                <a:cubicBezTo>
                  <a:pt x="10886" y="13122"/>
                  <a:pt x="10928" y="13298"/>
                  <a:pt x="10964" y="13469"/>
                </a:cubicBezTo>
                <a:cubicBezTo>
                  <a:pt x="10988" y="13582"/>
                  <a:pt x="11013" y="13675"/>
                  <a:pt x="11013" y="13791"/>
                </a:cubicBezTo>
                <a:cubicBezTo>
                  <a:pt x="11013" y="13833"/>
                  <a:pt x="11013" y="13841"/>
                  <a:pt x="11013" y="13866"/>
                </a:cubicBezTo>
              </a:path>
              <a:path w="1043" h="1936">
                <a:moveTo>
                  <a:pt x="10517" y="13295"/>
                </a:moveTo>
                <a:cubicBezTo>
                  <a:pt x="10552" y="13399"/>
                  <a:pt x="10595" y="13495"/>
                  <a:pt x="10641" y="13593"/>
                </a:cubicBezTo>
                <a:cubicBezTo>
                  <a:pt x="10692" y="13702"/>
                  <a:pt x="10763" y="13803"/>
                  <a:pt x="10840" y="13891"/>
                </a:cubicBezTo>
                <a:cubicBezTo>
                  <a:pt x="10880" y="13937"/>
                  <a:pt x="10960" y="14039"/>
                  <a:pt x="11038" y="14015"/>
                </a:cubicBezTo>
                <a:cubicBezTo>
                  <a:pt x="11091" y="13999"/>
                  <a:pt x="11163" y="13899"/>
                  <a:pt x="11212" y="13866"/>
                </a:cubicBezTo>
                <a:cubicBezTo>
                  <a:pt x="11329" y="13788"/>
                  <a:pt x="11429" y="13703"/>
                  <a:pt x="11559" y="136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Ink 16"/>
          <p:cNvSpPr/>
          <p:nvPr/>
        </p:nvSpPr>
        <p:spPr>
          <a:xfrm>
            <a:off x="1241280" y="5106960"/>
            <a:ext cx="608040" cy="1028880"/>
          </a:xfrm>
          <a:custGeom>
            <a:avLst/>
            <a:gdLst/>
            <a:ahLst/>
            <a:rect l="l" t="t" r="r" b="b"/>
            <a:pathLst>
              <a:path w="1688" h="2854">
                <a:moveTo>
                  <a:pt x="3646" y="14238"/>
                </a:moveTo>
                <a:cubicBezTo>
                  <a:pt x="3563" y="14238"/>
                  <a:pt x="3547" y="14238"/>
                  <a:pt x="3497" y="14238"/>
                </a:cubicBezTo>
                <a:cubicBezTo>
                  <a:pt x="3530" y="14326"/>
                  <a:pt x="3588" y="14407"/>
                  <a:pt x="3621" y="14486"/>
                </a:cubicBezTo>
                <a:cubicBezTo>
                  <a:pt x="3643" y="14540"/>
                  <a:pt x="3713" y="14698"/>
                  <a:pt x="3696" y="14759"/>
                </a:cubicBezTo>
                <a:cubicBezTo>
                  <a:pt x="3669" y="14853"/>
                  <a:pt x="3540" y="14800"/>
                  <a:pt x="3497" y="14759"/>
                </a:cubicBezTo>
                <a:cubicBezTo>
                  <a:pt x="3435" y="14700"/>
                  <a:pt x="3448" y="14627"/>
                  <a:pt x="3473" y="14560"/>
                </a:cubicBezTo>
              </a:path>
              <a:path w="1688" h="2854">
                <a:moveTo>
                  <a:pt x="3969" y="14536"/>
                </a:moveTo>
                <a:cubicBezTo>
                  <a:pt x="3969" y="14663"/>
                  <a:pt x="3960" y="14885"/>
                  <a:pt x="3944" y="14759"/>
                </a:cubicBezTo>
              </a:path>
              <a:path w="1688" h="2854">
                <a:moveTo>
                  <a:pt x="4118" y="14188"/>
                </a:moveTo>
                <a:cubicBezTo>
                  <a:pt x="4174" y="14188"/>
                  <a:pt x="4196" y="14193"/>
                  <a:pt x="4217" y="14238"/>
                </a:cubicBezTo>
              </a:path>
              <a:path w="1688" h="2854">
                <a:moveTo>
                  <a:pt x="4167" y="14610"/>
                </a:moveTo>
                <a:cubicBezTo>
                  <a:pt x="4167" y="14726"/>
                  <a:pt x="4167" y="14742"/>
                  <a:pt x="4167" y="14808"/>
                </a:cubicBezTo>
                <a:cubicBezTo>
                  <a:pt x="4209" y="14735"/>
                  <a:pt x="4256" y="14643"/>
                  <a:pt x="4291" y="14560"/>
                </a:cubicBezTo>
                <a:cubicBezTo>
                  <a:pt x="4311" y="14500"/>
                  <a:pt x="4310" y="14485"/>
                  <a:pt x="4341" y="14461"/>
                </a:cubicBezTo>
                <a:cubicBezTo>
                  <a:pt x="4404" y="14541"/>
                  <a:pt x="4436" y="14645"/>
                  <a:pt x="4490" y="14734"/>
                </a:cubicBezTo>
                <a:cubicBezTo>
                  <a:pt x="4526" y="14793"/>
                  <a:pt x="4558" y="14847"/>
                  <a:pt x="4589" y="14908"/>
                </a:cubicBezTo>
              </a:path>
              <a:path w="1688" h="2854">
                <a:moveTo>
                  <a:pt x="4341" y="15354"/>
                </a:moveTo>
                <a:cubicBezTo>
                  <a:pt x="4341" y="15458"/>
                  <a:pt x="4363" y="15550"/>
                  <a:pt x="4366" y="15652"/>
                </a:cubicBezTo>
                <a:cubicBezTo>
                  <a:pt x="4371" y="15800"/>
                  <a:pt x="4366" y="15950"/>
                  <a:pt x="4366" y="16098"/>
                </a:cubicBezTo>
              </a:path>
              <a:path w="1688" h="2854">
                <a:moveTo>
                  <a:pt x="4787" y="15974"/>
                </a:moveTo>
                <a:cubicBezTo>
                  <a:pt x="4633" y="16012"/>
                  <a:pt x="4493" y="16056"/>
                  <a:pt x="4341" y="16098"/>
                </a:cubicBezTo>
                <a:cubicBezTo>
                  <a:pt x="4213" y="16133"/>
                  <a:pt x="4092" y="16149"/>
                  <a:pt x="3969" y="16197"/>
                </a:cubicBezTo>
                <a:cubicBezTo>
                  <a:pt x="3925" y="16219"/>
                  <a:pt x="3913" y="16222"/>
                  <a:pt x="3894" y="16247"/>
                </a:cubicBezTo>
              </a:path>
              <a:path w="1688" h="2854">
                <a:moveTo>
                  <a:pt x="4465" y="16346"/>
                </a:moveTo>
                <a:cubicBezTo>
                  <a:pt x="4331" y="16309"/>
                  <a:pt x="4304" y="16299"/>
                  <a:pt x="4291" y="16446"/>
                </a:cubicBezTo>
                <a:cubicBezTo>
                  <a:pt x="4283" y="16540"/>
                  <a:pt x="4349" y="16606"/>
                  <a:pt x="4366" y="16694"/>
                </a:cubicBezTo>
                <a:cubicBezTo>
                  <a:pt x="4375" y="16739"/>
                  <a:pt x="4374" y="16826"/>
                  <a:pt x="4316" y="16842"/>
                </a:cubicBezTo>
                <a:cubicBezTo>
                  <a:pt x="4276" y="16853"/>
                  <a:pt x="4177" y="16816"/>
                  <a:pt x="4167" y="16768"/>
                </a:cubicBezTo>
                <a:cubicBezTo>
                  <a:pt x="4149" y="16681"/>
                  <a:pt x="4209" y="16670"/>
                  <a:pt x="4266" y="16619"/>
                </a:cubicBezTo>
              </a:path>
              <a:path w="1688" h="2854">
                <a:moveTo>
                  <a:pt x="4614" y="16669"/>
                </a:moveTo>
                <a:cubicBezTo>
                  <a:pt x="4590" y="16784"/>
                  <a:pt x="4564" y="17084"/>
                  <a:pt x="4564" y="16966"/>
                </a:cubicBezTo>
              </a:path>
              <a:path w="1688" h="2854">
                <a:moveTo>
                  <a:pt x="4738" y="16247"/>
                </a:moveTo>
                <a:cubicBezTo>
                  <a:pt x="4766" y="16218"/>
                  <a:pt x="4779" y="16210"/>
                  <a:pt x="4812" y="16222"/>
                </a:cubicBezTo>
              </a:path>
              <a:path w="1688" h="2854">
                <a:moveTo>
                  <a:pt x="4787" y="16842"/>
                </a:moveTo>
                <a:cubicBezTo>
                  <a:pt x="4811" y="16915"/>
                  <a:pt x="4847" y="16791"/>
                  <a:pt x="4887" y="16718"/>
                </a:cubicBezTo>
                <a:cubicBezTo>
                  <a:pt x="4931" y="16638"/>
                  <a:pt x="4929" y="16593"/>
                  <a:pt x="5011" y="16570"/>
                </a:cubicBezTo>
                <a:cubicBezTo>
                  <a:pt x="5064" y="16637"/>
                  <a:pt x="5082" y="16682"/>
                  <a:pt x="5085" y="16768"/>
                </a:cubicBezTo>
                <a:cubicBezTo>
                  <a:pt x="5088" y="16839"/>
                  <a:pt x="5066" y="16982"/>
                  <a:pt x="5110" y="17041"/>
                </a:cubicBezTo>
                <a:cubicBezTo>
                  <a:pt x="5118" y="17041"/>
                  <a:pt x="5127" y="17041"/>
                  <a:pt x="5135" y="170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Ink 17"/>
          <p:cNvSpPr/>
          <p:nvPr/>
        </p:nvSpPr>
        <p:spPr>
          <a:xfrm>
            <a:off x="2044800" y="5803920"/>
            <a:ext cx="9360" cy="19080"/>
          </a:xfrm>
          <a:custGeom>
            <a:avLst/>
            <a:gdLst/>
            <a:ahLst/>
            <a:rect l="l" t="t" r="r" b="b"/>
            <a:pathLst>
              <a:path w="26" h="51">
                <a:moveTo>
                  <a:pt x="5680" y="16123"/>
                </a:moveTo>
                <a:cubicBezTo>
                  <a:pt x="5680" y="16165"/>
                  <a:pt x="5672" y="16181"/>
                  <a:pt x="5705" y="161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Ink 18"/>
          <p:cNvSpPr/>
          <p:nvPr/>
        </p:nvSpPr>
        <p:spPr>
          <a:xfrm>
            <a:off x="2320920" y="5456160"/>
            <a:ext cx="295200" cy="635040"/>
          </a:xfrm>
          <a:custGeom>
            <a:avLst/>
            <a:gdLst/>
            <a:ahLst/>
            <a:rect l="l" t="t" r="r" b="b"/>
            <a:pathLst>
              <a:path w="820" h="1762">
                <a:moveTo>
                  <a:pt x="6821" y="15156"/>
                </a:moveTo>
                <a:cubicBezTo>
                  <a:pt x="6829" y="15372"/>
                  <a:pt x="6846" y="15585"/>
                  <a:pt x="6846" y="15801"/>
                </a:cubicBezTo>
                <a:cubicBezTo>
                  <a:pt x="6846" y="15885"/>
                  <a:pt x="6853" y="15905"/>
                  <a:pt x="6821" y="15949"/>
                </a:cubicBezTo>
              </a:path>
              <a:path w="820" h="1762">
                <a:moveTo>
                  <a:pt x="6449" y="15974"/>
                </a:moveTo>
                <a:cubicBezTo>
                  <a:pt x="6504" y="16007"/>
                  <a:pt x="6604" y="16016"/>
                  <a:pt x="6672" y="16024"/>
                </a:cubicBezTo>
                <a:cubicBezTo>
                  <a:pt x="6773" y="16035"/>
                  <a:pt x="6868" y="16049"/>
                  <a:pt x="6970" y="16049"/>
                </a:cubicBezTo>
                <a:cubicBezTo>
                  <a:pt x="7054" y="16049"/>
                  <a:pt x="7088" y="16047"/>
                  <a:pt x="7144" y="16024"/>
                </a:cubicBezTo>
              </a:path>
              <a:path w="820" h="1762">
                <a:moveTo>
                  <a:pt x="6672" y="16346"/>
                </a:moveTo>
                <a:cubicBezTo>
                  <a:pt x="6644" y="16248"/>
                  <a:pt x="6625" y="16281"/>
                  <a:pt x="6548" y="16297"/>
                </a:cubicBezTo>
                <a:cubicBezTo>
                  <a:pt x="6440" y="16319"/>
                  <a:pt x="6454" y="16386"/>
                  <a:pt x="6449" y="16495"/>
                </a:cubicBezTo>
                <a:cubicBezTo>
                  <a:pt x="6446" y="16561"/>
                  <a:pt x="6475" y="16694"/>
                  <a:pt x="6524" y="16743"/>
                </a:cubicBezTo>
                <a:cubicBezTo>
                  <a:pt x="6573" y="16768"/>
                  <a:pt x="6590" y="16777"/>
                  <a:pt x="6623" y="16793"/>
                </a:cubicBezTo>
              </a:path>
              <a:path w="820" h="1762">
                <a:moveTo>
                  <a:pt x="6945" y="16371"/>
                </a:moveTo>
                <a:cubicBezTo>
                  <a:pt x="6858" y="16422"/>
                  <a:pt x="6871" y="16445"/>
                  <a:pt x="6871" y="16545"/>
                </a:cubicBezTo>
                <a:cubicBezTo>
                  <a:pt x="6871" y="16652"/>
                  <a:pt x="6881" y="16702"/>
                  <a:pt x="6945" y="16793"/>
                </a:cubicBezTo>
                <a:cubicBezTo>
                  <a:pt x="6989" y="16768"/>
                  <a:pt x="7040" y="16739"/>
                  <a:pt x="7069" y="16694"/>
                </a:cubicBezTo>
                <a:cubicBezTo>
                  <a:pt x="7125" y="16606"/>
                  <a:pt x="7066" y="16536"/>
                  <a:pt x="7045" y="16446"/>
                </a:cubicBezTo>
                <a:cubicBezTo>
                  <a:pt x="7045" y="16438"/>
                  <a:pt x="7045" y="16429"/>
                  <a:pt x="7045" y="16421"/>
                </a:cubicBezTo>
              </a:path>
              <a:path w="820" h="1762">
                <a:moveTo>
                  <a:pt x="7268" y="16346"/>
                </a:moveTo>
                <a:cubicBezTo>
                  <a:pt x="7268" y="16454"/>
                  <a:pt x="7261" y="16539"/>
                  <a:pt x="7268" y="16644"/>
                </a:cubicBezTo>
                <a:cubicBezTo>
                  <a:pt x="7274" y="16735"/>
                  <a:pt x="7277" y="16820"/>
                  <a:pt x="7218" y="16892"/>
                </a:cubicBezTo>
                <a:cubicBezTo>
                  <a:pt x="7177" y="16942"/>
                  <a:pt x="7087" y="16926"/>
                  <a:pt x="7045" y="16892"/>
                </a:cubicBezTo>
                <a:cubicBezTo>
                  <a:pt x="6986" y="16844"/>
                  <a:pt x="6977" y="16754"/>
                  <a:pt x="7020" y="16694"/>
                </a:cubicBezTo>
                <a:cubicBezTo>
                  <a:pt x="7036" y="16677"/>
                  <a:pt x="7053" y="16661"/>
                  <a:pt x="7069" y="166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Ink 19"/>
          <p:cNvSpPr/>
          <p:nvPr/>
        </p:nvSpPr>
        <p:spPr>
          <a:xfrm>
            <a:off x="2857680" y="5759280"/>
            <a:ext cx="90360" cy="135000"/>
          </a:xfrm>
          <a:custGeom>
            <a:avLst/>
            <a:gdLst/>
            <a:ahLst/>
            <a:rect l="l" t="t" r="r" b="b"/>
            <a:pathLst>
              <a:path w="249" h="373">
                <a:moveTo>
                  <a:pt x="7962" y="15999"/>
                </a:moveTo>
                <a:cubicBezTo>
                  <a:pt x="8023" y="16032"/>
                  <a:pt x="8060" y="16043"/>
                  <a:pt x="8111" y="16073"/>
                </a:cubicBezTo>
              </a:path>
              <a:path w="249" h="373">
                <a:moveTo>
                  <a:pt x="7938" y="16197"/>
                </a:moveTo>
                <a:cubicBezTo>
                  <a:pt x="7993" y="16301"/>
                  <a:pt x="8013" y="16348"/>
                  <a:pt x="8136" y="16371"/>
                </a:cubicBezTo>
                <a:cubicBezTo>
                  <a:pt x="8153" y="16371"/>
                  <a:pt x="8169" y="16371"/>
                  <a:pt x="8186" y="163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Ink 20"/>
          <p:cNvSpPr/>
          <p:nvPr/>
        </p:nvSpPr>
        <p:spPr>
          <a:xfrm>
            <a:off x="3786120" y="4643280"/>
            <a:ext cx="285840" cy="1251000"/>
          </a:xfrm>
          <a:custGeom>
            <a:avLst/>
            <a:gdLst/>
            <a:ahLst/>
            <a:rect l="l" t="t" r="r" b="b"/>
            <a:pathLst>
              <a:path w="795" h="3474">
                <a:moveTo>
                  <a:pt x="10815" y="12898"/>
                </a:moveTo>
                <a:cubicBezTo>
                  <a:pt x="10839" y="13038"/>
                  <a:pt x="10861" y="13177"/>
                  <a:pt x="10864" y="13320"/>
                </a:cubicBezTo>
                <a:cubicBezTo>
                  <a:pt x="10870" y="13610"/>
                  <a:pt x="10927" y="13899"/>
                  <a:pt x="10964" y="14188"/>
                </a:cubicBezTo>
                <a:cubicBezTo>
                  <a:pt x="11003" y="14492"/>
                  <a:pt x="11047" y="14800"/>
                  <a:pt x="11063" y="15106"/>
                </a:cubicBezTo>
                <a:cubicBezTo>
                  <a:pt x="11073" y="15288"/>
                  <a:pt x="11058" y="15500"/>
                  <a:pt x="11013" y="15677"/>
                </a:cubicBezTo>
                <a:cubicBezTo>
                  <a:pt x="10997" y="15742"/>
                  <a:pt x="10969" y="15773"/>
                  <a:pt x="10939" y="15825"/>
                </a:cubicBezTo>
              </a:path>
              <a:path w="795" h="3474">
                <a:moveTo>
                  <a:pt x="10517" y="15379"/>
                </a:moveTo>
                <a:cubicBezTo>
                  <a:pt x="10524" y="15572"/>
                  <a:pt x="10552" y="15736"/>
                  <a:pt x="10592" y="15925"/>
                </a:cubicBezTo>
                <a:cubicBezTo>
                  <a:pt x="10618" y="16047"/>
                  <a:pt x="10648" y="16180"/>
                  <a:pt x="10691" y="16297"/>
                </a:cubicBezTo>
                <a:cubicBezTo>
                  <a:pt x="10713" y="16340"/>
                  <a:pt x="10717" y="16351"/>
                  <a:pt x="10740" y="16371"/>
                </a:cubicBezTo>
                <a:cubicBezTo>
                  <a:pt x="10849" y="16313"/>
                  <a:pt x="10900" y="16261"/>
                  <a:pt x="10988" y="16173"/>
                </a:cubicBezTo>
                <a:cubicBezTo>
                  <a:pt x="11057" y="16104"/>
                  <a:pt x="11183" y="16022"/>
                  <a:pt x="11237" y="15949"/>
                </a:cubicBezTo>
                <a:cubicBezTo>
                  <a:pt x="11270" y="15904"/>
                  <a:pt x="11273" y="15847"/>
                  <a:pt x="11311" y="158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Ink 4"/>
          <p:cNvSpPr/>
          <p:nvPr/>
        </p:nvSpPr>
        <p:spPr>
          <a:xfrm>
            <a:off x="741240" y="1231920"/>
            <a:ext cx="366840" cy="581040"/>
          </a:xfrm>
          <a:custGeom>
            <a:avLst/>
            <a:gdLst/>
            <a:ahLst/>
            <a:rect l="l" t="t" r="r" b="b"/>
            <a:pathLst>
              <a:path w="1018" h="1613">
                <a:moveTo>
                  <a:pt x="2059" y="3969"/>
                </a:moveTo>
                <a:cubicBezTo>
                  <a:pt x="2127" y="3935"/>
                  <a:pt x="2182" y="3937"/>
                  <a:pt x="2257" y="3919"/>
                </a:cubicBezTo>
                <a:cubicBezTo>
                  <a:pt x="2346" y="3897"/>
                  <a:pt x="2445" y="3892"/>
                  <a:pt x="2530" y="3870"/>
                </a:cubicBezTo>
                <a:cubicBezTo>
                  <a:pt x="2608" y="3850"/>
                  <a:pt x="2668" y="3845"/>
                  <a:pt x="2753" y="3845"/>
                </a:cubicBezTo>
                <a:cubicBezTo>
                  <a:pt x="2770" y="3845"/>
                  <a:pt x="2786" y="3845"/>
                  <a:pt x="2803" y="3845"/>
                </a:cubicBezTo>
                <a:cubicBezTo>
                  <a:pt x="2749" y="3898"/>
                  <a:pt x="2744" y="3955"/>
                  <a:pt x="2704" y="4018"/>
                </a:cubicBezTo>
                <a:cubicBezTo>
                  <a:pt x="2669" y="4073"/>
                  <a:pt x="2641" y="4138"/>
                  <a:pt x="2604" y="4192"/>
                </a:cubicBezTo>
                <a:cubicBezTo>
                  <a:pt x="2565" y="4249"/>
                  <a:pt x="2577" y="4324"/>
                  <a:pt x="2555" y="4390"/>
                </a:cubicBezTo>
                <a:cubicBezTo>
                  <a:pt x="2527" y="4472"/>
                  <a:pt x="2511" y="4554"/>
                  <a:pt x="2480" y="4638"/>
                </a:cubicBezTo>
                <a:cubicBezTo>
                  <a:pt x="2436" y="4757"/>
                  <a:pt x="2456" y="4632"/>
                  <a:pt x="2456" y="4589"/>
                </a:cubicBezTo>
              </a:path>
              <a:path w="1018" h="1613">
                <a:moveTo>
                  <a:pt x="2580" y="3423"/>
                </a:moveTo>
                <a:cubicBezTo>
                  <a:pt x="2658" y="3463"/>
                  <a:pt x="2704" y="3498"/>
                  <a:pt x="2753" y="3572"/>
                </a:cubicBezTo>
                <a:cubicBezTo>
                  <a:pt x="2809" y="3655"/>
                  <a:pt x="2875" y="3732"/>
                  <a:pt x="2927" y="3820"/>
                </a:cubicBezTo>
                <a:cubicBezTo>
                  <a:pt x="2979" y="3907"/>
                  <a:pt x="3053" y="4044"/>
                  <a:pt x="3076" y="4142"/>
                </a:cubicBezTo>
                <a:cubicBezTo>
                  <a:pt x="3102" y="4252"/>
                  <a:pt x="3080" y="4406"/>
                  <a:pt x="3051" y="4514"/>
                </a:cubicBezTo>
                <a:cubicBezTo>
                  <a:pt x="3016" y="4646"/>
                  <a:pt x="2937" y="4806"/>
                  <a:pt x="2853" y="4911"/>
                </a:cubicBezTo>
                <a:cubicBezTo>
                  <a:pt x="2821" y="4951"/>
                  <a:pt x="2739" y="5063"/>
                  <a:pt x="2753" y="5011"/>
                </a:cubicBezTo>
                <a:cubicBezTo>
                  <a:pt x="2753" y="5003"/>
                  <a:pt x="2753" y="4994"/>
                  <a:pt x="2753" y="49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Ink 5"/>
          <p:cNvSpPr/>
          <p:nvPr/>
        </p:nvSpPr>
        <p:spPr>
          <a:xfrm>
            <a:off x="1571760" y="1204920"/>
            <a:ext cx="1098360" cy="482760"/>
          </a:xfrm>
          <a:custGeom>
            <a:avLst/>
            <a:gdLst/>
            <a:ahLst/>
            <a:rect l="l" t="t" r="r" b="b"/>
            <a:pathLst>
              <a:path w="3052" h="1340">
                <a:moveTo>
                  <a:pt x="4688" y="3473"/>
                </a:moveTo>
                <a:cubicBezTo>
                  <a:pt x="4756" y="3472"/>
                  <a:pt x="4738" y="3558"/>
                  <a:pt x="4738" y="3646"/>
                </a:cubicBezTo>
                <a:cubicBezTo>
                  <a:pt x="4738" y="3936"/>
                  <a:pt x="4768" y="4267"/>
                  <a:pt x="4713" y="4539"/>
                </a:cubicBezTo>
                <a:cubicBezTo>
                  <a:pt x="4705" y="4579"/>
                  <a:pt x="4713" y="4655"/>
                  <a:pt x="4713" y="4614"/>
                </a:cubicBezTo>
              </a:path>
              <a:path w="3052" h="1340">
                <a:moveTo>
                  <a:pt x="4366" y="4093"/>
                </a:moveTo>
                <a:cubicBezTo>
                  <a:pt x="4457" y="4068"/>
                  <a:pt x="4543" y="4047"/>
                  <a:pt x="4638" y="4043"/>
                </a:cubicBezTo>
                <a:cubicBezTo>
                  <a:pt x="4704" y="4043"/>
                  <a:pt x="4737" y="4043"/>
                  <a:pt x="4787" y="4043"/>
                </a:cubicBezTo>
              </a:path>
              <a:path w="3052" h="1340">
                <a:moveTo>
                  <a:pt x="5531" y="4142"/>
                </a:moveTo>
                <a:cubicBezTo>
                  <a:pt x="5490" y="4101"/>
                  <a:pt x="5459" y="4071"/>
                  <a:pt x="5407" y="4043"/>
                </a:cubicBezTo>
                <a:cubicBezTo>
                  <a:pt x="5343" y="4009"/>
                  <a:pt x="5273" y="4004"/>
                  <a:pt x="5209" y="4043"/>
                </a:cubicBezTo>
                <a:cubicBezTo>
                  <a:pt x="5180" y="4061"/>
                  <a:pt x="5105" y="4163"/>
                  <a:pt x="5085" y="4192"/>
                </a:cubicBezTo>
                <a:cubicBezTo>
                  <a:pt x="5016" y="4293"/>
                  <a:pt x="4992" y="4374"/>
                  <a:pt x="4986" y="4490"/>
                </a:cubicBezTo>
                <a:cubicBezTo>
                  <a:pt x="4984" y="4528"/>
                  <a:pt x="5016" y="4623"/>
                  <a:pt x="5060" y="4638"/>
                </a:cubicBezTo>
                <a:cubicBezTo>
                  <a:pt x="5133" y="4664"/>
                  <a:pt x="5159" y="4621"/>
                  <a:pt x="5209" y="4589"/>
                </a:cubicBezTo>
                <a:cubicBezTo>
                  <a:pt x="5291" y="4537"/>
                  <a:pt x="5313" y="4530"/>
                  <a:pt x="5358" y="4440"/>
                </a:cubicBezTo>
                <a:cubicBezTo>
                  <a:pt x="5406" y="4345"/>
                  <a:pt x="5424" y="4300"/>
                  <a:pt x="5432" y="4192"/>
                </a:cubicBezTo>
                <a:cubicBezTo>
                  <a:pt x="5432" y="4286"/>
                  <a:pt x="5419" y="4380"/>
                  <a:pt x="5457" y="4465"/>
                </a:cubicBezTo>
                <a:cubicBezTo>
                  <a:pt x="5481" y="4517"/>
                  <a:pt x="5516" y="4549"/>
                  <a:pt x="5556" y="4589"/>
                </a:cubicBezTo>
                <a:cubicBezTo>
                  <a:pt x="5605" y="4638"/>
                  <a:pt x="5665" y="4614"/>
                  <a:pt x="5730" y="4614"/>
                </a:cubicBezTo>
              </a:path>
              <a:path w="3052" h="1340">
                <a:moveTo>
                  <a:pt x="5779" y="4142"/>
                </a:moveTo>
                <a:cubicBezTo>
                  <a:pt x="5779" y="4288"/>
                  <a:pt x="5781" y="4426"/>
                  <a:pt x="5804" y="4564"/>
                </a:cubicBezTo>
                <a:cubicBezTo>
                  <a:pt x="5804" y="4609"/>
                  <a:pt x="5800" y="4622"/>
                  <a:pt x="5829" y="4638"/>
                </a:cubicBezTo>
                <a:cubicBezTo>
                  <a:pt x="5829" y="4509"/>
                  <a:pt x="5838" y="4388"/>
                  <a:pt x="5854" y="4266"/>
                </a:cubicBezTo>
                <a:cubicBezTo>
                  <a:pt x="5866" y="4173"/>
                  <a:pt x="5886" y="4148"/>
                  <a:pt x="5928" y="4068"/>
                </a:cubicBezTo>
                <a:cubicBezTo>
                  <a:pt x="5979" y="3971"/>
                  <a:pt x="6009" y="3979"/>
                  <a:pt x="6102" y="4043"/>
                </a:cubicBezTo>
                <a:cubicBezTo>
                  <a:pt x="6147" y="4074"/>
                  <a:pt x="6170" y="4168"/>
                  <a:pt x="6176" y="4217"/>
                </a:cubicBezTo>
                <a:cubicBezTo>
                  <a:pt x="6187" y="4304"/>
                  <a:pt x="6213" y="4378"/>
                  <a:pt x="6226" y="4465"/>
                </a:cubicBezTo>
                <a:cubicBezTo>
                  <a:pt x="6237" y="4541"/>
                  <a:pt x="6251" y="4764"/>
                  <a:pt x="6251" y="4688"/>
                </a:cubicBezTo>
                <a:cubicBezTo>
                  <a:pt x="6251" y="4671"/>
                  <a:pt x="6251" y="4655"/>
                  <a:pt x="6251" y="4638"/>
                </a:cubicBezTo>
              </a:path>
              <a:path w="3052" h="1340">
                <a:moveTo>
                  <a:pt x="6325" y="3423"/>
                </a:moveTo>
                <a:cubicBezTo>
                  <a:pt x="6396" y="3382"/>
                  <a:pt x="6418" y="3342"/>
                  <a:pt x="6499" y="3373"/>
                </a:cubicBezTo>
                <a:cubicBezTo>
                  <a:pt x="6591" y="3409"/>
                  <a:pt x="6580" y="3521"/>
                  <a:pt x="6548" y="3597"/>
                </a:cubicBezTo>
                <a:cubicBezTo>
                  <a:pt x="6525" y="3651"/>
                  <a:pt x="6466" y="3704"/>
                  <a:pt x="6424" y="3746"/>
                </a:cubicBezTo>
                <a:cubicBezTo>
                  <a:pt x="6399" y="3771"/>
                  <a:pt x="6375" y="3795"/>
                  <a:pt x="6350" y="3820"/>
                </a:cubicBezTo>
                <a:cubicBezTo>
                  <a:pt x="6482" y="3820"/>
                  <a:pt x="6615" y="3820"/>
                  <a:pt x="6747" y="3820"/>
                </a:cubicBezTo>
              </a:path>
              <a:path w="3052" h="1340">
                <a:moveTo>
                  <a:pt x="7317" y="3770"/>
                </a:moveTo>
                <a:cubicBezTo>
                  <a:pt x="7292" y="3840"/>
                  <a:pt x="7293" y="3894"/>
                  <a:pt x="7293" y="3969"/>
                </a:cubicBezTo>
                <a:cubicBezTo>
                  <a:pt x="7293" y="4081"/>
                  <a:pt x="7298" y="4193"/>
                  <a:pt x="7317" y="4291"/>
                </a:cubicBezTo>
                <a:cubicBezTo>
                  <a:pt x="7317" y="4332"/>
                  <a:pt x="7326" y="4349"/>
                  <a:pt x="7293" y="4341"/>
                </a:cubicBezTo>
              </a:path>
              <a:path w="3052" h="1340">
                <a:moveTo>
                  <a:pt x="6995" y="4142"/>
                </a:moveTo>
                <a:cubicBezTo>
                  <a:pt x="7116" y="4142"/>
                  <a:pt x="7225" y="4131"/>
                  <a:pt x="7342" y="4118"/>
                </a:cubicBezTo>
                <a:cubicBezTo>
                  <a:pt x="7367" y="4118"/>
                  <a:pt x="7392" y="4118"/>
                  <a:pt x="7417" y="41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Ink 6"/>
          <p:cNvSpPr/>
          <p:nvPr/>
        </p:nvSpPr>
        <p:spPr>
          <a:xfrm>
            <a:off x="2840040" y="1295280"/>
            <a:ext cx="177840" cy="374760"/>
          </a:xfrm>
          <a:custGeom>
            <a:avLst/>
            <a:gdLst/>
            <a:ahLst/>
            <a:rect l="l" t="t" r="r" b="b"/>
            <a:pathLst>
              <a:path w="497" h="1042">
                <a:moveTo>
                  <a:pt x="8037" y="3621"/>
                </a:moveTo>
                <a:cubicBezTo>
                  <a:pt x="8077" y="3603"/>
                  <a:pt x="8042" y="3733"/>
                  <a:pt x="8012" y="3795"/>
                </a:cubicBezTo>
                <a:cubicBezTo>
                  <a:pt x="7980" y="3863"/>
                  <a:pt x="7961" y="3961"/>
                  <a:pt x="7938" y="4043"/>
                </a:cubicBezTo>
                <a:cubicBezTo>
                  <a:pt x="7904" y="4165"/>
                  <a:pt x="7892" y="4289"/>
                  <a:pt x="7888" y="4415"/>
                </a:cubicBezTo>
                <a:cubicBezTo>
                  <a:pt x="7884" y="4539"/>
                  <a:pt x="7932" y="4543"/>
                  <a:pt x="8012" y="4614"/>
                </a:cubicBezTo>
                <a:cubicBezTo>
                  <a:pt x="8047" y="4645"/>
                  <a:pt x="8141" y="4617"/>
                  <a:pt x="8186" y="4589"/>
                </a:cubicBezTo>
                <a:cubicBezTo>
                  <a:pt x="8267" y="4538"/>
                  <a:pt x="8293" y="4500"/>
                  <a:pt x="8334" y="4415"/>
                </a:cubicBezTo>
                <a:cubicBezTo>
                  <a:pt x="8370" y="4339"/>
                  <a:pt x="8384" y="4301"/>
                  <a:pt x="8384" y="4217"/>
                </a:cubicBezTo>
                <a:cubicBezTo>
                  <a:pt x="8319" y="4189"/>
                  <a:pt x="8257" y="4168"/>
                  <a:pt x="8210" y="4242"/>
                </a:cubicBezTo>
                <a:cubicBezTo>
                  <a:pt x="8166" y="4310"/>
                  <a:pt x="8093" y="4428"/>
                  <a:pt x="8111" y="4514"/>
                </a:cubicBezTo>
                <a:cubicBezTo>
                  <a:pt x="8127" y="4588"/>
                  <a:pt x="8154" y="4598"/>
                  <a:pt x="8210" y="46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Ink 7"/>
          <p:cNvSpPr/>
          <p:nvPr/>
        </p:nvSpPr>
        <p:spPr>
          <a:xfrm>
            <a:off x="3241800" y="1438200"/>
            <a:ext cx="115920" cy="106560"/>
          </a:xfrm>
          <a:custGeom>
            <a:avLst/>
            <a:gdLst/>
            <a:ahLst/>
            <a:rect l="l" t="t" r="r" b="b"/>
            <a:pathLst>
              <a:path w="324" h="298">
                <a:moveTo>
                  <a:pt x="9054" y="4018"/>
                </a:moveTo>
                <a:cubicBezTo>
                  <a:pt x="9142" y="4009"/>
                  <a:pt x="9207" y="3994"/>
                  <a:pt x="9302" y="3994"/>
                </a:cubicBezTo>
                <a:cubicBezTo>
                  <a:pt x="9310" y="3994"/>
                  <a:pt x="9319" y="3994"/>
                  <a:pt x="9327" y="3994"/>
                </a:cubicBezTo>
              </a:path>
              <a:path w="324" h="298">
                <a:moveTo>
                  <a:pt x="9004" y="4242"/>
                </a:moveTo>
                <a:cubicBezTo>
                  <a:pt x="9096" y="4293"/>
                  <a:pt x="9082" y="4275"/>
                  <a:pt x="9178" y="4266"/>
                </a:cubicBezTo>
                <a:cubicBezTo>
                  <a:pt x="9219" y="4266"/>
                  <a:pt x="9261" y="4266"/>
                  <a:pt x="9302" y="426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Ink 8"/>
          <p:cNvSpPr/>
          <p:nvPr/>
        </p:nvSpPr>
        <p:spPr>
          <a:xfrm>
            <a:off x="3571920" y="1204920"/>
            <a:ext cx="1393920" cy="457200"/>
          </a:xfrm>
          <a:custGeom>
            <a:avLst/>
            <a:gdLst/>
            <a:ahLst/>
            <a:rect l="l" t="t" r="r" b="b"/>
            <a:pathLst>
              <a:path w="3870" h="1266">
                <a:moveTo>
                  <a:pt x="10418" y="3845"/>
                </a:moveTo>
                <a:cubicBezTo>
                  <a:pt x="10282" y="3854"/>
                  <a:pt x="10250" y="3873"/>
                  <a:pt x="10145" y="3944"/>
                </a:cubicBezTo>
                <a:cubicBezTo>
                  <a:pt x="10089" y="3982"/>
                  <a:pt x="10025" y="4047"/>
                  <a:pt x="10096" y="4118"/>
                </a:cubicBezTo>
                <a:cubicBezTo>
                  <a:pt x="10160" y="4182"/>
                  <a:pt x="10236" y="4200"/>
                  <a:pt x="10294" y="4266"/>
                </a:cubicBezTo>
                <a:cubicBezTo>
                  <a:pt x="10363" y="4344"/>
                  <a:pt x="10414" y="4376"/>
                  <a:pt x="10368" y="4490"/>
                </a:cubicBezTo>
                <a:cubicBezTo>
                  <a:pt x="10337" y="4567"/>
                  <a:pt x="10183" y="4562"/>
                  <a:pt x="10120" y="4564"/>
                </a:cubicBezTo>
                <a:cubicBezTo>
                  <a:pt x="10030" y="4567"/>
                  <a:pt x="9993" y="4557"/>
                  <a:pt x="9922" y="4539"/>
                </a:cubicBezTo>
              </a:path>
              <a:path w="3870" h="1266">
                <a:moveTo>
                  <a:pt x="10542" y="4192"/>
                </a:moveTo>
                <a:cubicBezTo>
                  <a:pt x="10623" y="4167"/>
                  <a:pt x="10727" y="4136"/>
                  <a:pt x="10790" y="4068"/>
                </a:cubicBezTo>
                <a:cubicBezTo>
                  <a:pt x="10825" y="4030"/>
                  <a:pt x="10892" y="3921"/>
                  <a:pt x="10889" y="3870"/>
                </a:cubicBezTo>
                <a:cubicBezTo>
                  <a:pt x="10881" y="3853"/>
                  <a:pt x="10872" y="3837"/>
                  <a:pt x="10864" y="3820"/>
                </a:cubicBezTo>
                <a:cubicBezTo>
                  <a:pt x="10806" y="3820"/>
                  <a:pt x="10735" y="3824"/>
                  <a:pt x="10691" y="3870"/>
                </a:cubicBezTo>
                <a:cubicBezTo>
                  <a:pt x="10620" y="3944"/>
                  <a:pt x="10560" y="4029"/>
                  <a:pt x="10517" y="4118"/>
                </a:cubicBezTo>
                <a:cubicBezTo>
                  <a:pt x="10493" y="4169"/>
                  <a:pt x="10437" y="4286"/>
                  <a:pt x="10443" y="4341"/>
                </a:cubicBezTo>
                <a:cubicBezTo>
                  <a:pt x="10453" y="4431"/>
                  <a:pt x="10504" y="4497"/>
                  <a:pt x="10592" y="4514"/>
                </a:cubicBezTo>
                <a:cubicBezTo>
                  <a:pt x="10648" y="4525"/>
                  <a:pt x="10693" y="4489"/>
                  <a:pt x="10740" y="4465"/>
                </a:cubicBezTo>
              </a:path>
              <a:path w="3870" h="1266">
                <a:moveTo>
                  <a:pt x="11311" y="3944"/>
                </a:moveTo>
                <a:cubicBezTo>
                  <a:pt x="11364" y="3997"/>
                  <a:pt x="11289" y="3881"/>
                  <a:pt x="11237" y="3894"/>
                </a:cubicBezTo>
                <a:cubicBezTo>
                  <a:pt x="11192" y="3905"/>
                  <a:pt x="11138" y="3989"/>
                  <a:pt x="11112" y="4018"/>
                </a:cubicBezTo>
                <a:cubicBezTo>
                  <a:pt x="11057" y="4081"/>
                  <a:pt x="11001" y="4179"/>
                  <a:pt x="10988" y="4266"/>
                </a:cubicBezTo>
                <a:cubicBezTo>
                  <a:pt x="10975" y="4349"/>
                  <a:pt x="10953" y="4411"/>
                  <a:pt x="10988" y="4490"/>
                </a:cubicBezTo>
                <a:cubicBezTo>
                  <a:pt x="11037" y="4600"/>
                  <a:pt x="11055" y="4600"/>
                  <a:pt x="11162" y="4589"/>
                </a:cubicBezTo>
                <a:cubicBezTo>
                  <a:pt x="11227" y="4582"/>
                  <a:pt x="11254" y="4550"/>
                  <a:pt x="11311" y="4514"/>
                </a:cubicBezTo>
              </a:path>
              <a:path w="3870" h="1266">
                <a:moveTo>
                  <a:pt x="11534" y="3473"/>
                </a:moveTo>
                <a:cubicBezTo>
                  <a:pt x="11610" y="3411"/>
                  <a:pt x="11702" y="3290"/>
                  <a:pt x="11807" y="3373"/>
                </a:cubicBezTo>
                <a:cubicBezTo>
                  <a:pt x="11851" y="3408"/>
                  <a:pt x="11818" y="3501"/>
                  <a:pt x="11807" y="3547"/>
                </a:cubicBezTo>
                <a:cubicBezTo>
                  <a:pt x="11788" y="3626"/>
                  <a:pt x="11744" y="3698"/>
                  <a:pt x="11708" y="3770"/>
                </a:cubicBezTo>
                <a:cubicBezTo>
                  <a:pt x="11700" y="3787"/>
                  <a:pt x="11691" y="3803"/>
                  <a:pt x="11683" y="3820"/>
                </a:cubicBezTo>
                <a:cubicBezTo>
                  <a:pt x="11757" y="3880"/>
                  <a:pt x="11793" y="3874"/>
                  <a:pt x="11881" y="3845"/>
                </a:cubicBezTo>
                <a:cubicBezTo>
                  <a:pt x="11906" y="3837"/>
                  <a:pt x="11931" y="3828"/>
                  <a:pt x="11956" y="3820"/>
                </a:cubicBezTo>
              </a:path>
              <a:path w="3870" h="1266">
                <a:moveTo>
                  <a:pt x="12402" y="3572"/>
                </a:moveTo>
                <a:cubicBezTo>
                  <a:pt x="12386" y="3688"/>
                  <a:pt x="12333" y="3868"/>
                  <a:pt x="12353" y="3994"/>
                </a:cubicBezTo>
                <a:cubicBezTo>
                  <a:pt x="12364" y="4064"/>
                  <a:pt x="12371" y="4159"/>
                  <a:pt x="12402" y="4217"/>
                </a:cubicBezTo>
                <a:cubicBezTo>
                  <a:pt x="12410" y="4233"/>
                  <a:pt x="12419" y="4250"/>
                  <a:pt x="12427" y="4266"/>
                </a:cubicBezTo>
              </a:path>
              <a:path w="3870" h="1266">
                <a:moveTo>
                  <a:pt x="12154" y="3994"/>
                </a:moveTo>
                <a:cubicBezTo>
                  <a:pt x="12298" y="3994"/>
                  <a:pt x="12434" y="3974"/>
                  <a:pt x="12576" y="3969"/>
                </a:cubicBezTo>
                <a:cubicBezTo>
                  <a:pt x="12652" y="3969"/>
                  <a:pt x="12678" y="3968"/>
                  <a:pt x="12725" y="3944"/>
                </a:cubicBezTo>
              </a:path>
              <a:path w="3870" h="1266">
                <a:moveTo>
                  <a:pt x="13221" y="3497"/>
                </a:moveTo>
                <a:cubicBezTo>
                  <a:pt x="13378" y="3497"/>
                  <a:pt x="13535" y="3497"/>
                  <a:pt x="13692" y="3497"/>
                </a:cubicBezTo>
              </a:path>
              <a:path w="3870" h="1266">
                <a:moveTo>
                  <a:pt x="13271" y="3547"/>
                </a:moveTo>
                <a:cubicBezTo>
                  <a:pt x="13208" y="3646"/>
                  <a:pt x="13089" y="3758"/>
                  <a:pt x="13122" y="3894"/>
                </a:cubicBezTo>
                <a:cubicBezTo>
                  <a:pt x="13137" y="3957"/>
                  <a:pt x="13251" y="3960"/>
                  <a:pt x="13295" y="3944"/>
                </a:cubicBezTo>
                <a:cubicBezTo>
                  <a:pt x="13348" y="3925"/>
                  <a:pt x="13377" y="3877"/>
                  <a:pt x="13444" y="3870"/>
                </a:cubicBezTo>
                <a:cubicBezTo>
                  <a:pt x="13546" y="3859"/>
                  <a:pt x="13652" y="3885"/>
                  <a:pt x="13717" y="3969"/>
                </a:cubicBezTo>
                <a:cubicBezTo>
                  <a:pt x="13748" y="4010"/>
                  <a:pt x="13795" y="4142"/>
                  <a:pt x="13791" y="4192"/>
                </a:cubicBezTo>
                <a:cubicBezTo>
                  <a:pt x="13783" y="4286"/>
                  <a:pt x="13711" y="4365"/>
                  <a:pt x="13667" y="4440"/>
                </a:cubicBezTo>
                <a:cubicBezTo>
                  <a:pt x="13607" y="4541"/>
                  <a:pt x="13481" y="4559"/>
                  <a:pt x="13370" y="4564"/>
                </a:cubicBezTo>
                <a:cubicBezTo>
                  <a:pt x="13293" y="4568"/>
                  <a:pt x="13234" y="4558"/>
                  <a:pt x="13171" y="4539"/>
                </a:cubicBezTo>
                <a:cubicBezTo>
                  <a:pt x="13163" y="4539"/>
                  <a:pt x="13154" y="4539"/>
                  <a:pt x="13146" y="45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Ink 9"/>
          <p:cNvSpPr/>
          <p:nvPr/>
        </p:nvSpPr>
        <p:spPr>
          <a:xfrm>
            <a:off x="2490840" y="1955880"/>
            <a:ext cx="73080" cy="9360"/>
          </a:xfrm>
          <a:custGeom>
            <a:avLst/>
            <a:gdLst/>
            <a:ahLst/>
            <a:rect l="l" t="t" r="r" b="b"/>
            <a:pathLst>
              <a:path w="199" h="26">
                <a:moveTo>
                  <a:pt x="6921" y="5457"/>
                </a:moveTo>
                <a:cubicBezTo>
                  <a:pt x="6996" y="5457"/>
                  <a:pt x="7047" y="5450"/>
                  <a:pt x="7119" y="54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Ink 10"/>
          <p:cNvSpPr/>
          <p:nvPr/>
        </p:nvSpPr>
        <p:spPr>
          <a:xfrm>
            <a:off x="2751120" y="1830240"/>
            <a:ext cx="196920" cy="312840"/>
          </a:xfrm>
          <a:custGeom>
            <a:avLst/>
            <a:gdLst/>
            <a:ahLst/>
            <a:rect l="l" t="t" r="r" b="b"/>
            <a:pathLst>
              <a:path w="547" h="869">
                <a:moveTo>
                  <a:pt x="7838" y="5135"/>
                </a:moveTo>
                <a:cubicBezTo>
                  <a:pt x="7935" y="5135"/>
                  <a:pt x="8044" y="5133"/>
                  <a:pt x="8136" y="5110"/>
                </a:cubicBezTo>
                <a:cubicBezTo>
                  <a:pt x="8153" y="5102"/>
                  <a:pt x="8169" y="5093"/>
                  <a:pt x="8186" y="5085"/>
                </a:cubicBezTo>
              </a:path>
              <a:path w="547" h="869">
                <a:moveTo>
                  <a:pt x="7863" y="5110"/>
                </a:moveTo>
                <a:cubicBezTo>
                  <a:pt x="7804" y="5174"/>
                  <a:pt x="7700" y="5256"/>
                  <a:pt x="7665" y="5333"/>
                </a:cubicBezTo>
                <a:cubicBezTo>
                  <a:pt x="7633" y="5405"/>
                  <a:pt x="7631" y="5425"/>
                  <a:pt x="7665" y="5482"/>
                </a:cubicBezTo>
                <a:cubicBezTo>
                  <a:pt x="7735" y="5473"/>
                  <a:pt x="7790" y="5457"/>
                  <a:pt x="7863" y="5457"/>
                </a:cubicBezTo>
                <a:cubicBezTo>
                  <a:pt x="7971" y="5457"/>
                  <a:pt x="8012" y="5482"/>
                  <a:pt x="8086" y="5556"/>
                </a:cubicBezTo>
                <a:cubicBezTo>
                  <a:pt x="8139" y="5609"/>
                  <a:pt x="8183" y="5657"/>
                  <a:pt x="8186" y="5730"/>
                </a:cubicBezTo>
                <a:cubicBezTo>
                  <a:pt x="8189" y="5801"/>
                  <a:pt x="8166" y="5860"/>
                  <a:pt x="8086" y="5879"/>
                </a:cubicBezTo>
                <a:cubicBezTo>
                  <a:pt x="8004" y="5899"/>
                  <a:pt x="7922" y="5925"/>
                  <a:pt x="7838" y="59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Ink 11"/>
          <p:cNvSpPr/>
          <p:nvPr/>
        </p:nvSpPr>
        <p:spPr>
          <a:xfrm>
            <a:off x="4241880" y="1901880"/>
            <a:ext cx="81000" cy="9360"/>
          </a:xfrm>
          <a:custGeom>
            <a:avLst/>
            <a:gdLst/>
            <a:ahLst/>
            <a:rect l="l" t="t" r="r" b="b"/>
            <a:pathLst>
              <a:path w="224" h="26">
                <a:moveTo>
                  <a:pt x="11782" y="5308"/>
                </a:moveTo>
                <a:cubicBezTo>
                  <a:pt x="11868" y="5276"/>
                  <a:pt x="11902" y="5283"/>
                  <a:pt x="12005" y="52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Ink 12"/>
          <p:cNvSpPr/>
          <p:nvPr/>
        </p:nvSpPr>
        <p:spPr>
          <a:xfrm>
            <a:off x="4581360" y="1776240"/>
            <a:ext cx="214560" cy="295560"/>
          </a:xfrm>
          <a:custGeom>
            <a:avLst/>
            <a:gdLst/>
            <a:ahLst/>
            <a:rect l="l" t="t" r="r" b="b"/>
            <a:pathLst>
              <a:path w="596" h="820">
                <a:moveTo>
                  <a:pt x="12948" y="5011"/>
                </a:moveTo>
                <a:cubicBezTo>
                  <a:pt x="13031" y="4993"/>
                  <a:pt x="13114" y="4966"/>
                  <a:pt x="13196" y="4961"/>
                </a:cubicBezTo>
                <a:cubicBezTo>
                  <a:pt x="13244" y="4958"/>
                  <a:pt x="13275" y="4945"/>
                  <a:pt x="13320" y="4936"/>
                </a:cubicBezTo>
              </a:path>
              <a:path w="596" h="820">
                <a:moveTo>
                  <a:pt x="12849" y="5011"/>
                </a:moveTo>
                <a:cubicBezTo>
                  <a:pt x="12783" y="5105"/>
                  <a:pt x="12718" y="5162"/>
                  <a:pt x="12750" y="5283"/>
                </a:cubicBezTo>
                <a:cubicBezTo>
                  <a:pt x="12758" y="5300"/>
                  <a:pt x="12766" y="5316"/>
                  <a:pt x="12774" y="5333"/>
                </a:cubicBezTo>
                <a:cubicBezTo>
                  <a:pt x="12821" y="5286"/>
                  <a:pt x="12870" y="5271"/>
                  <a:pt x="12923" y="5234"/>
                </a:cubicBezTo>
                <a:cubicBezTo>
                  <a:pt x="12988" y="5189"/>
                  <a:pt x="13057" y="5210"/>
                  <a:pt x="13122" y="5259"/>
                </a:cubicBezTo>
                <a:cubicBezTo>
                  <a:pt x="13177" y="5300"/>
                  <a:pt x="13238" y="5350"/>
                  <a:pt x="13271" y="5407"/>
                </a:cubicBezTo>
                <a:cubicBezTo>
                  <a:pt x="13313" y="5479"/>
                  <a:pt x="13302" y="5518"/>
                  <a:pt x="13295" y="5581"/>
                </a:cubicBezTo>
                <a:cubicBezTo>
                  <a:pt x="13288" y="5641"/>
                  <a:pt x="13267" y="5688"/>
                  <a:pt x="13196" y="5705"/>
                </a:cubicBezTo>
                <a:cubicBezTo>
                  <a:pt x="13097" y="5728"/>
                  <a:pt x="13032" y="5751"/>
                  <a:pt x="12923" y="5755"/>
                </a:cubicBezTo>
                <a:cubicBezTo>
                  <a:pt x="12857" y="5757"/>
                  <a:pt x="12791" y="5755"/>
                  <a:pt x="12725" y="57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Ink 13"/>
          <p:cNvSpPr/>
          <p:nvPr/>
        </p:nvSpPr>
        <p:spPr>
          <a:xfrm>
            <a:off x="1714680" y="2357280"/>
            <a:ext cx="1241280" cy="428760"/>
          </a:xfrm>
          <a:custGeom>
            <a:avLst/>
            <a:gdLst/>
            <a:ahLst/>
            <a:rect l="l" t="t" r="r" b="b"/>
            <a:pathLst>
              <a:path w="3449" h="1192">
                <a:moveTo>
                  <a:pt x="5060" y="6548"/>
                </a:moveTo>
                <a:cubicBezTo>
                  <a:pt x="5041" y="6675"/>
                  <a:pt x="5015" y="6794"/>
                  <a:pt x="5011" y="6921"/>
                </a:cubicBezTo>
                <a:cubicBezTo>
                  <a:pt x="5007" y="7031"/>
                  <a:pt x="4986" y="7132"/>
                  <a:pt x="4986" y="7243"/>
                </a:cubicBezTo>
                <a:cubicBezTo>
                  <a:pt x="4986" y="7312"/>
                  <a:pt x="5019" y="7651"/>
                  <a:pt x="4961" y="7689"/>
                </a:cubicBezTo>
              </a:path>
              <a:path w="3449" h="1192">
                <a:moveTo>
                  <a:pt x="4762" y="7169"/>
                </a:moveTo>
                <a:cubicBezTo>
                  <a:pt x="4938" y="7169"/>
                  <a:pt x="5110" y="7165"/>
                  <a:pt x="5283" y="7193"/>
                </a:cubicBezTo>
              </a:path>
              <a:path w="3449" h="1192">
                <a:moveTo>
                  <a:pt x="5904" y="7144"/>
                </a:moveTo>
                <a:cubicBezTo>
                  <a:pt x="5795" y="7189"/>
                  <a:pt x="5730" y="7256"/>
                  <a:pt x="5631" y="7317"/>
                </a:cubicBezTo>
                <a:cubicBezTo>
                  <a:pt x="5543" y="7371"/>
                  <a:pt x="5518" y="7419"/>
                  <a:pt x="5482" y="7516"/>
                </a:cubicBezTo>
                <a:cubicBezTo>
                  <a:pt x="5446" y="7611"/>
                  <a:pt x="5477" y="7697"/>
                  <a:pt x="5581" y="7714"/>
                </a:cubicBezTo>
                <a:cubicBezTo>
                  <a:pt x="5655" y="7726"/>
                  <a:pt x="5760" y="7669"/>
                  <a:pt x="5804" y="7615"/>
                </a:cubicBezTo>
                <a:cubicBezTo>
                  <a:pt x="5859" y="7548"/>
                  <a:pt x="5870" y="7515"/>
                  <a:pt x="5904" y="7441"/>
                </a:cubicBezTo>
                <a:cubicBezTo>
                  <a:pt x="5919" y="7408"/>
                  <a:pt x="5928" y="7253"/>
                  <a:pt x="5928" y="7367"/>
                </a:cubicBezTo>
                <a:cubicBezTo>
                  <a:pt x="5928" y="7434"/>
                  <a:pt x="5932" y="7504"/>
                  <a:pt x="5953" y="7565"/>
                </a:cubicBezTo>
                <a:cubicBezTo>
                  <a:pt x="5977" y="7635"/>
                  <a:pt x="6027" y="7644"/>
                  <a:pt x="6077" y="7689"/>
                </a:cubicBezTo>
                <a:cubicBezTo>
                  <a:pt x="6128" y="7735"/>
                  <a:pt x="6162" y="7679"/>
                  <a:pt x="6201" y="7640"/>
                </a:cubicBezTo>
              </a:path>
              <a:path w="3449" h="1192">
                <a:moveTo>
                  <a:pt x="6276" y="7293"/>
                </a:moveTo>
                <a:cubicBezTo>
                  <a:pt x="6269" y="7372"/>
                  <a:pt x="6251" y="7435"/>
                  <a:pt x="6251" y="7516"/>
                </a:cubicBezTo>
                <a:cubicBezTo>
                  <a:pt x="6251" y="7585"/>
                  <a:pt x="6345" y="7715"/>
                  <a:pt x="6276" y="7714"/>
                </a:cubicBezTo>
                <a:cubicBezTo>
                  <a:pt x="6217" y="7713"/>
                  <a:pt x="6296" y="7501"/>
                  <a:pt x="6300" y="7466"/>
                </a:cubicBezTo>
                <a:cubicBezTo>
                  <a:pt x="6309" y="7383"/>
                  <a:pt x="6326" y="7294"/>
                  <a:pt x="6424" y="7268"/>
                </a:cubicBezTo>
                <a:cubicBezTo>
                  <a:pt x="6492" y="7250"/>
                  <a:pt x="6529" y="7273"/>
                  <a:pt x="6573" y="7317"/>
                </a:cubicBezTo>
                <a:cubicBezTo>
                  <a:pt x="6615" y="7358"/>
                  <a:pt x="6641" y="7435"/>
                  <a:pt x="6648" y="7491"/>
                </a:cubicBezTo>
                <a:cubicBezTo>
                  <a:pt x="6656" y="7551"/>
                  <a:pt x="6647" y="7639"/>
                  <a:pt x="6623" y="7689"/>
                </a:cubicBezTo>
                <a:cubicBezTo>
                  <a:pt x="6623" y="7681"/>
                  <a:pt x="6623" y="7673"/>
                  <a:pt x="6623" y="7665"/>
                </a:cubicBezTo>
              </a:path>
              <a:path w="3449" h="1192">
                <a:moveTo>
                  <a:pt x="6747" y="6722"/>
                </a:moveTo>
                <a:cubicBezTo>
                  <a:pt x="6762" y="6706"/>
                  <a:pt x="6944" y="6515"/>
                  <a:pt x="6945" y="6697"/>
                </a:cubicBezTo>
                <a:cubicBezTo>
                  <a:pt x="6945" y="6769"/>
                  <a:pt x="6920" y="6868"/>
                  <a:pt x="6871" y="6921"/>
                </a:cubicBezTo>
                <a:cubicBezTo>
                  <a:pt x="6838" y="6957"/>
                  <a:pt x="6793" y="7023"/>
                  <a:pt x="6871" y="7045"/>
                </a:cubicBezTo>
                <a:cubicBezTo>
                  <a:pt x="6943" y="7065"/>
                  <a:pt x="7030" y="7038"/>
                  <a:pt x="7094" y="7020"/>
                </a:cubicBezTo>
                <a:cubicBezTo>
                  <a:pt x="7127" y="7012"/>
                  <a:pt x="7160" y="7003"/>
                  <a:pt x="7193" y="6995"/>
                </a:cubicBezTo>
              </a:path>
              <a:path w="3449" h="1192">
                <a:moveTo>
                  <a:pt x="7466" y="6970"/>
                </a:moveTo>
                <a:cubicBezTo>
                  <a:pt x="7463" y="7048"/>
                  <a:pt x="7418" y="7231"/>
                  <a:pt x="7441" y="7317"/>
                </a:cubicBezTo>
                <a:cubicBezTo>
                  <a:pt x="7461" y="7394"/>
                  <a:pt x="7466" y="7458"/>
                  <a:pt x="7466" y="7541"/>
                </a:cubicBezTo>
                <a:cubicBezTo>
                  <a:pt x="7466" y="7549"/>
                  <a:pt x="7466" y="7557"/>
                  <a:pt x="7466" y="7565"/>
                </a:cubicBezTo>
              </a:path>
              <a:path w="3449" h="1192">
                <a:moveTo>
                  <a:pt x="7218" y="7342"/>
                </a:moveTo>
                <a:cubicBezTo>
                  <a:pt x="7394" y="7342"/>
                  <a:pt x="7568" y="7354"/>
                  <a:pt x="7739" y="7317"/>
                </a:cubicBezTo>
              </a:path>
              <a:path w="3449" h="1192">
                <a:moveTo>
                  <a:pt x="8210" y="6896"/>
                </a:moveTo>
                <a:cubicBezTo>
                  <a:pt x="8185" y="6966"/>
                  <a:pt x="8172" y="7048"/>
                  <a:pt x="8161" y="7119"/>
                </a:cubicBezTo>
                <a:cubicBezTo>
                  <a:pt x="8137" y="7273"/>
                  <a:pt x="8148" y="7460"/>
                  <a:pt x="8136" y="7615"/>
                </a:cubicBezTo>
                <a:cubicBezTo>
                  <a:pt x="8130" y="7690"/>
                  <a:pt x="8112" y="7730"/>
                  <a:pt x="8161" y="77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Ink 14"/>
          <p:cNvSpPr/>
          <p:nvPr/>
        </p:nvSpPr>
        <p:spPr>
          <a:xfrm>
            <a:off x="3197160" y="2438280"/>
            <a:ext cx="1160640" cy="401760"/>
          </a:xfrm>
          <a:custGeom>
            <a:avLst/>
            <a:gdLst/>
            <a:ahLst/>
            <a:rect l="l" t="t" r="r" b="b"/>
            <a:pathLst>
              <a:path w="3226" h="1117">
                <a:moveTo>
                  <a:pt x="8880" y="7243"/>
                </a:moveTo>
                <a:cubicBezTo>
                  <a:pt x="9008" y="7229"/>
                  <a:pt x="9132" y="7213"/>
                  <a:pt x="9252" y="7193"/>
                </a:cubicBezTo>
                <a:cubicBezTo>
                  <a:pt x="9297" y="7193"/>
                  <a:pt x="9310" y="7190"/>
                  <a:pt x="9327" y="7218"/>
                </a:cubicBezTo>
              </a:path>
              <a:path w="3226" h="1117">
                <a:moveTo>
                  <a:pt x="8954" y="7466"/>
                </a:moveTo>
                <a:cubicBezTo>
                  <a:pt x="9049" y="7537"/>
                  <a:pt x="9062" y="7495"/>
                  <a:pt x="9178" y="7491"/>
                </a:cubicBezTo>
                <a:cubicBezTo>
                  <a:pt x="9211" y="7491"/>
                  <a:pt x="9244" y="7491"/>
                  <a:pt x="9277" y="7491"/>
                </a:cubicBezTo>
              </a:path>
              <a:path w="3226" h="1117">
                <a:moveTo>
                  <a:pt x="10244" y="7193"/>
                </a:moveTo>
                <a:cubicBezTo>
                  <a:pt x="10169" y="7149"/>
                  <a:pt x="10131" y="7184"/>
                  <a:pt x="10046" y="7193"/>
                </a:cubicBezTo>
                <a:cubicBezTo>
                  <a:pt x="9955" y="7203"/>
                  <a:pt x="9906" y="7226"/>
                  <a:pt x="9823" y="7268"/>
                </a:cubicBezTo>
                <a:cubicBezTo>
                  <a:pt x="9779" y="7290"/>
                  <a:pt x="9768" y="7293"/>
                  <a:pt x="9748" y="7317"/>
                </a:cubicBezTo>
                <a:cubicBezTo>
                  <a:pt x="9790" y="7422"/>
                  <a:pt x="9885" y="7524"/>
                  <a:pt x="9971" y="7615"/>
                </a:cubicBezTo>
                <a:cubicBezTo>
                  <a:pt x="10005" y="7651"/>
                  <a:pt x="10107" y="7761"/>
                  <a:pt x="10021" y="7813"/>
                </a:cubicBezTo>
                <a:cubicBezTo>
                  <a:pt x="9966" y="7846"/>
                  <a:pt x="9857" y="7831"/>
                  <a:pt x="9798" y="7813"/>
                </a:cubicBezTo>
                <a:cubicBezTo>
                  <a:pt x="9715" y="7787"/>
                  <a:pt x="9731" y="7766"/>
                  <a:pt x="9723" y="7689"/>
                </a:cubicBezTo>
              </a:path>
              <a:path w="3226" h="1117">
                <a:moveTo>
                  <a:pt x="10468" y="7466"/>
                </a:moveTo>
                <a:cubicBezTo>
                  <a:pt x="10588" y="7417"/>
                  <a:pt x="10628" y="7390"/>
                  <a:pt x="10716" y="7317"/>
                </a:cubicBezTo>
                <a:cubicBezTo>
                  <a:pt x="10765" y="7276"/>
                  <a:pt x="10740" y="7169"/>
                  <a:pt x="10666" y="7169"/>
                </a:cubicBezTo>
                <a:cubicBezTo>
                  <a:pt x="10565" y="7169"/>
                  <a:pt x="10463" y="7241"/>
                  <a:pt x="10393" y="7293"/>
                </a:cubicBezTo>
                <a:cubicBezTo>
                  <a:pt x="10306" y="7358"/>
                  <a:pt x="10300" y="7403"/>
                  <a:pt x="10244" y="7491"/>
                </a:cubicBezTo>
                <a:cubicBezTo>
                  <a:pt x="10210" y="7545"/>
                  <a:pt x="10207" y="7605"/>
                  <a:pt x="10244" y="7665"/>
                </a:cubicBezTo>
                <a:cubicBezTo>
                  <a:pt x="10273" y="7712"/>
                  <a:pt x="10369" y="7742"/>
                  <a:pt x="10418" y="7739"/>
                </a:cubicBezTo>
                <a:cubicBezTo>
                  <a:pt x="10459" y="7731"/>
                  <a:pt x="10501" y="7722"/>
                  <a:pt x="10542" y="7714"/>
                </a:cubicBezTo>
              </a:path>
              <a:path w="3226" h="1117">
                <a:moveTo>
                  <a:pt x="11162" y="7193"/>
                </a:moveTo>
                <a:cubicBezTo>
                  <a:pt x="11076" y="7204"/>
                  <a:pt x="11063" y="7224"/>
                  <a:pt x="11013" y="7293"/>
                </a:cubicBezTo>
                <a:cubicBezTo>
                  <a:pt x="10945" y="7387"/>
                  <a:pt x="10808" y="7556"/>
                  <a:pt x="10815" y="7689"/>
                </a:cubicBezTo>
                <a:cubicBezTo>
                  <a:pt x="10818" y="7741"/>
                  <a:pt x="10858" y="7840"/>
                  <a:pt x="10914" y="7863"/>
                </a:cubicBezTo>
                <a:cubicBezTo>
                  <a:pt x="10996" y="7897"/>
                  <a:pt x="11053" y="7875"/>
                  <a:pt x="11137" y="7863"/>
                </a:cubicBezTo>
                <a:cubicBezTo>
                  <a:pt x="11211" y="7852"/>
                  <a:pt x="11246" y="7811"/>
                  <a:pt x="11311" y="7764"/>
                </a:cubicBezTo>
              </a:path>
              <a:path w="3226" h="1117">
                <a:moveTo>
                  <a:pt x="11559" y="6772"/>
                </a:moveTo>
                <a:cubicBezTo>
                  <a:pt x="11655" y="6772"/>
                  <a:pt x="11751" y="6732"/>
                  <a:pt x="11757" y="6846"/>
                </a:cubicBezTo>
                <a:cubicBezTo>
                  <a:pt x="11762" y="6936"/>
                  <a:pt x="11729" y="6977"/>
                  <a:pt x="11658" y="7020"/>
                </a:cubicBezTo>
                <a:cubicBezTo>
                  <a:pt x="11602" y="7054"/>
                  <a:pt x="11580" y="7098"/>
                  <a:pt x="11534" y="7144"/>
                </a:cubicBezTo>
                <a:cubicBezTo>
                  <a:pt x="11573" y="7183"/>
                  <a:pt x="11605" y="7221"/>
                  <a:pt x="11658" y="7243"/>
                </a:cubicBezTo>
                <a:cubicBezTo>
                  <a:pt x="11768" y="7288"/>
                  <a:pt x="11846" y="7271"/>
                  <a:pt x="11956" y="7293"/>
                </a:cubicBezTo>
                <a:cubicBezTo>
                  <a:pt x="11984" y="7299"/>
                  <a:pt x="12179" y="7317"/>
                  <a:pt x="12055" y="73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Ink 15"/>
          <p:cNvSpPr/>
          <p:nvPr/>
        </p:nvSpPr>
        <p:spPr>
          <a:xfrm>
            <a:off x="2214720" y="3152880"/>
            <a:ext cx="1017360" cy="436320"/>
          </a:xfrm>
          <a:custGeom>
            <a:avLst/>
            <a:gdLst/>
            <a:ahLst/>
            <a:rect l="l" t="t" r="r" b="b"/>
            <a:pathLst>
              <a:path w="2828" h="1216">
                <a:moveTo>
                  <a:pt x="6722" y="9153"/>
                </a:moveTo>
                <a:cubicBezTo>
                  <a:pt x="6655" y="9086"/>
                  <a:pt x="6657" y="9117"/>
                  <a:pt x="6573" y="9128"/>
                </a:cubicBezTo>
                <a:cubicBezTo>
                  <a:pt x="6479" y="9140"/>
                  <a:pt x="6393" y="9150"/>
                  <a:pt x="6300" y="9178"/>
                </a:cubicBezTo>
                <a:cubicBezTo>
                  <a:pt x="6245" y="9194"/>
                  <a:pt x="6125" y="9217"/>
                  <a:pt x="6152" y="9302"/>
                </a:cubicBezTo>
                <a:cubicBezTo>
                  <a:pt x="6173" y="9369"/>
                  <a:pt x="6283" y="9406"/>
                  <a:pt x="6325" y="9451"/>
                </a:cubicBezTo>
                <a:cubicBezTo>
                  <a:pt x="6415" y="9549"/>
                  <a:pt x="6519" y="9640"/>
                  <a:pt x="6598" y="9748"/>
                </a:cubicBezTo>
                <a:cubicBezTo>
                  <a:pt x="6646" y="9814"/>
                  <a:pt x="6673" y="9892"/>
                  <a:pt x="6573" y="9922"/>
                </a:cubicBezTo>
                <a:cubicBezTo>
                  <a:pt x="6482" y="9949"/>
                  <a:pt x="6353" y="9911"/>
                  <a:pt x="6276" y="9872"/>
                </a:cubicBezTo>
                <a:cubicBezTo>
                  <a:pt x="6246" y="9842"/>
                  <a:pt x="6235" y="9828"/>
                  <a:pt x="6226" y="9798"/>
                </a:cubicBezTo>
              </a:path>
              <a:path w="2828" h="1216">
                <a:moveTo>
                  <a:pt x="6697" y="9599"/>
                </a:moveTo>
                <a:cubicBezTo>
                  <a:pt x="6783" y="9578"/>
                  <a:pt x="7113" y="9532"/>
                  <a:pt x="7218" y="9426"/>
                </a:cubicBezTo>
                <a:cubicBezTo>
                  <a:pt x="7255" y="9389"/>
                  <a:pt x="7292" y="9322"/>
                  <a:pt x="7243" y="9277"/>
                </a:cubicBezTo>
                <a:cubicBezTo>
                  <a:pt x="7226" y="9269"/>
                  <a:pt x="7210" y="9260"/>
                  <a:pt x="7193" y="9252"/>
                </a:cubicBezTo>
                <a:cubicBezTo>
                  <a:pt x="7141" y="9295"/>
                  <a:pt x="7076" y="9339"/>
                  <a:pt x="7020" y="9376"/>
                </a:cubicBezTo>
                <a:cubicBezTo>
                  <a:pt x="6940" y="9429"/>
                  <a:pt x="6867" y="9496"/>
                  <a:pt x="6846" y="9599"/>
                </a:cubicBezTo>
                <a:cubicBezTo>
                  <a:pt x="6834" y="9657"/>
                  <a:pt x="6836" y="9754"/>
                  <a:pt x="6871" y="9798"/>
                </a:cubicBezTo>
                <a:cubicBezTo>
                  <a:pt x="6930" y="9871"/>
                  <a:pt x="6998" y="9853"/>
                  <a:pt x="7069" y="9847"/>
                </a:cubicBezTo>
                <a:cubicBezTo>
                  <a:pt x="7094" y="9847"/>
                  <a:pt x="7119" y="9847"/>
                  <a:pt x="7144" y="9847"/>
                </a:cubicBezTo>
              </a:path>
              <a:path w="2828" h="1216">
                <a:moveTo>
                  <a:pt x="7739" y="9203"/>
                </a:moveTo>
                <a:cubicBezTo>
                  <a:pt x="7624" y="9244"/>
                  <a:pt x="7628" y="9280"/>
                  <a:pt x="7541" y="9351"/>
                </a:cubicBezTo>
                <a:cubicBezTo>
                  <a:pt x="7449" y="9427"/>
                  <a:pt x="7386" y="9498"/>
                  <a:pt x="7367" y="9624"/>
                </a:cubicBezTo>
                <a:cubicBezTo>
                  <a:pt x="7355" y="9701"/>
                  <a:pt x="7368" y="9784"/>
                  <a:pt x="7417" y="9847"/>
                </a:cubicBezTo>
                <a:cubicBezTo>
                  <a:pt x="7479" y="9927"/>
                  <a:pt x="7545" y="9959"/>
                  <a:pt x="7640" y="9971"/>
                </a:cubicBezTo>
                <a:cubicBezTo>
                  <a:pt x="7714" y="9980"/>
                  <a:pt x="7756" y="9960"/>
                  <a:pt x="7813" y="9922"/>
                </a:cubicBezTo>
              </a:path>
              <a:path w="2828" h="1216">
                <a:moveTo>
                  <a:pt x="7863" y="8830"/>
                </a:moveTo>
                <a:cubicBezTo>
                  <a:pt x="7958" y="8770"/>
                  <a:pt x="8024" y="8721"/>
                  <a:pt x="8136" y="8781"/>
                </a:cubicBezTo>
                <a:cubicBezTo>
                  <a:pt x="8207" y="8819"/>
                  <a:pt x="8196" y="8894"/>
                  <a:pt x="8161" y="8954"/>
                </a:cubicBezTo>
                <a:cubicBezTo>
                  <a:pt x="8111" y="9040"/>
                  <a:pt x="8003" y="9026"/>
                  <a:pt x="7962" y="9128"/>
                </a:cubicBezTo>
                <a:cubicBezTo>
                  <a:pt x="7962" y="9145"/>
                  <a:pt x="7962" y="9161"/>
                  <a:pt x="7962" y="9178"/>
                </a:cubicBezTo>
                <a:cubicBezTo>
                  <a:pt x="8045" y="9219"/>
                  <a:pt x="8143" y="9267"/>
                  <a:pt x="8235" y="9277"/>
                </a:cubicBezTo>
                <a:cubicBezTo>
                  <a:pt x="8343" y="9277"/>
                  <a:pt x="8368" y="9277"/>
                  <a:pt x="8434" y="9277"/>
                </a:cubicBezTo>
              </a:path>
              <a:path w="2828" h="1216">
                <a:moveTo>
                  <a:pt x="8582" y="9351"/>
                </a:moveTo>
                <a:cubicBezTo>
                  <a:pt x="8686" y="9397"/>
                  <a:pt x="8772" y="9394"/>
                  <a:pt x="8880" y="9426"/>
                </a:cubicBezTo>
                <a:cubicBezTo>
                  <a:pt x="8897" y="9434"/>
                  <a:pt x="8913" y="9443"/>
                  <a:pt x="8930" y="9451"/>
                </a:cubicBezTo>
              </a:path>
              <a:path w="2828" h="1216">
                <a:moveTo>
                  <a:pt x="8607" y="9599"/>
                </a:moveTo>
                <a:cubicBezTo>
                  <a:pt x="8668" y="9685"/>
                  <a:pt x="8700" y="9674"/>
                  <a:pt x="8806" y="9674"/>
                </a:cubicBezTo>
                <a:cubicBezTo>
                  <a:pt x="8897" y="9674"/>
                  <a:pt x="8921" y="9674"/>
                  <a:pt x="8979" y="96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Ink 16"/>
          <p:cNvSpPr/>
          <p:nvPr/>
        </p:nvSpPr>
        <p:spPr>
          <a:xfrm>
            <a:off x="3402000" y="3197160"/>
            <a:ext cx="849240" cy="446040"/>
          </a:xfrm>
          <a:custGeom>
            <a:avLst/>
            <a:gdLst/>
            <a:ahLst/>
            <a:rect l="l" t="t" r="r" b="b"/>
            <a:pathLst>
              <a:path w="2357" h="1241">
                <a:moveTo>
                  <a:pt x="9897" y="9376"/>
                </a:moveTo>
                <a:cubicBezTo>
                  <a:pt x="9864" y="9377"/>
                  <a:pt x="9507" y="9325"/>
                  <a:pt x="9500" y="9451"/>
                </a:cubicBezTo>
                <a:cubicBezTo>
                  <a:pt x="9494" y="9573"/>
                  <a:pt x="9603" y="9611"/>
                  <a:pt x="9674" y="9699"/>
                </a:cubicBezTo>
                <a:cubicBezTo>
                  <a:pt x="9712" y="9746"/>
                  <a:pt x="9852" y="9907"/>
                  <a:pt x="9823" y="9971"/>
                </a:cubicBezTo>
                <a:cubicBezTo>
                  <a:pt x="9766" y="10098"/>
                  <a:pt x="9685" y="10088"/>
                  <a:pt x="9575" y="10046"/>
                </a:cubicBezTo>
                <a:cubicBezTo>
                  <a:pt x="9521" y="10025"/>
                  <a:pt x="9490" y="9986"/>
                  <a:pt x="9451" y="9947"/>
                </a:cubicBezTo>
              </a:path>
              <a:path w="2357" h="1241">
                <a:moveTo>
                  <a:pt x="10046" y="9748"/>
                </a:moveTo>
                <a:cubicBezTo>
                  <a:pt x="10184" y="9725"/>
                  <a:pt x="10293" y="9708"/>
                  <a:pt x="10418" y="9649"/>
                </a:cubicBezTo>
                <a:cubicBezTo>
                  <a:pt x="10468" y="9624"/>
                  <a:pt x="10484" y="9616"/>
                  <a:pt x="10492" y="9575"/>
                </a:cubicBezTo>
                <a:cubicBezTo>
                  <a:pt x="10403" y="9523"/>
                  <a:pt x="10393" y="9534"/>
                  <a:pt x="10294" y="9550"/>
                </a:cubicBezTo>
                <a:cubicBezTo>
                  <a:pt x="10206" y="9564"/>
                  <a:pt x="10130" y="9572"/>
                  <a:pt x="10071" y="9649"/>
                </a:cubicBezTo>
                <a:cubicBezTo>
                  <a:pt x="10029" y="9705"/>
                  <a:pt x="9983" y="9802"/>
                  <a:pt x="9996" y="9872"/>
                </a:cubicBezTo>
                <a:cubicBezTo>
                  <a:pt x="10006" y="9925"/>
                  <a:pt x="10125" y="9999"/>
                  <a:pt x="10170" y="10021"/>
                </a:cubicBezTo>
                <a:cubicBezTo>
                  <a:pt x="10258" y="10051"/>
                  <a:pt x="10298" y="10059"/>
                  <a:pt x="10368" y="10046"/>
                </a:cubicBezTo>
              </a:path>
              <a:path w="2357" h="1241">
                <a:moveTo>
                  <a:pt x="10939" y="9599"/>
                </a:moveTo>
                <a:cubicBezTo>
                  <a:pt x="10811" y="9644"/>
                  <a:pt x="10701" y="9653"/>
                  <a:pt x="10666" y="9798"/>
                </a:cubicBezTo>
                <a:cubicBezTo>
                  <a:pt x="10652" y="9857"/>
                  <a:pt x="10665" y="9934"/>
                  <a:pt x="10716" y="9971"/>
                </a:cubicBezTo>
                <a:cubicBezTo>
                  <a:pt x="10788" y="10022"/>
                  <a:pt x="10849" y="10103"/>
                  <a:pt x="10939" y="10120"/>
                </a:cubicBezTo>
                <a:cubicBezTo>
                  <a:pt x="11005" y="10120"/>
                  <a:pt x="11022" y="10120"/>
                  <a:pt x="11063" y="10120"/>
                </a:cubicBezTo>
              </a:path>
              <a:path w="2357" h="1241">
                <a:moveTo>
                  <a:pt x="11261" y="8905"/>
                </a:moveTo>
                <a:cubicBezTo>
                  <a:pt x="11390" y="8885"/>
                  <a:pt x="11336" y="8891"/>
                  <a:pt x="11435" y="8905"/>
                </a:cubicBezTo>
                <a:cubicBezTo>
                  <a:pt x="11445" y="8974"/>
                  <a:pt x="11479" y="9008"/>
                  <a:pt x="11435" y="9079"/>
                </a:cubicBezTo>
                <a:cubicBezTo>
                  <a:pt x="11422" y="9101"/>
                  <a:pt x="11327" y="9183"/>
                  <a:pt x="11336" y="9203"/>
                </a:cubicBezTo>
                <a:cubicBezTo>
                  <a:pt x="11379" y="9300"/>
                  <a:pt x="11483" y="9378"/>
                  <a:pt x="11584" y="9401"/>
                </a:cubicBezTo>
                <a:cubicBezTo>
                  <a:pt x="11655" y="9417"/>
                  <a:pt x="11733" y="9420"/>
                  <a:pt x="11807" y="94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Ink 17"/>
          <p:cNvSpPr/>
          <p:nvPr/>
        </p:nvSpPr>
        <p:spPr>
          <a:xfrm>
            <a:off x="1697040" y="4224240"/>
            <a:ext cx="1544760" cy="500040"/>
          </a:xfrm>
          <a:custGeom>
            <a:avLst/>
            <a:gdLst/>
            <a:ahLst/>
            <a:rect l="l" t="t" r="r" b="b"/>
            <a:pathLst>
              <a:path w="4292" h="1390">
                <a:moveTo>
                  <a:pt x="4887" y="12105"/>
                </a:moveTo>
                <a:cubicBezTo>
                  <a:pt x="4954" y="12198"/>
                  <a:pt x="5017" y="12271"/>
                  <a:pt x="5085" y="12353"/>
                </a:cubicBezTo>
                <a:cubicBezTo>
                  <a:pt x="5146" y="12426"/>
                  <a:pt x="5230" y="12503"/>
                  <a:pt x="5283" y="12576"/>
                </a:cubicBezTo>
                <a:cubicBezTo>
                  <a:pt x="5291" y="12593"/>
                  <a:pt x="5300" y="12609"/>
                  <a:pt x="5308" y="12626"/>
                </a:cubicBezTo>
                <a:cubicBezTo>
                  <a:pt x="5266" y="12659"/>
                  <a:pt x="5205" y="12691"/>
                  <a:pt x="5159" y="12700"/>
                </a:cubicBezTo>
                <a:cubicBezTo>
                  <a:pt x="5078" y="12716"/>
                  <a:pt x="4970" y="12715"/>
                  <a:pt x="4887" y="12725"/>
                </a:cubicBezTo>
                <a:cubicBezTo>
                  <a:pt x="4823" y="12733"/>
                  <a:pt x="4765" y="12744"/>
                  <a:pt x="4713" y="12774"/>
                </a:cubicBezTo>
              </a:path>
              <a:path w="4292" h="1390">
                <a:moveTo>
                  <a:pt x="6028" y="11733"/>
                </a:moveTo>
                <a:cubicBezTo>
                  <a:pt x="6003" y="11871"/>
                  <a:pt x="5968" y="12014"/>
                  <a:pt x="5953" y="12154"/>
                </a:cubicBezTo>
                <a:cubicBezTo>
                  <a:pt x="5932" y="12354"/>
                  <a:pt x="6031" y="12678"/>
                  <a:pt x="5928" y="12849"/>
                </a:cubicBezTo>
              </a:path>
              <a:path w="4292" h="1390">
                <a:moveTo>
                  <a:pt x="5680" y="12129"/>
                </a:moveTo>
                <a:cubicBezTo>
                  <a:pt x="5843" y="12152"/>
                  <a:pt x="5972" y="12184"/>
                  <a:pt x="6127" y="12229"/>
                </a:cubicBezTo>
                <a:cubicBezTo>
                  <a:pt x="6257" y="12266"/>
                  <a:pt x="6396" y="12308"/>
                  <a:pt x="6524" y="12328"/>
                </a:cubicBezTo>
              </a:path>
              <a:path w="4292" h="1390">
                <a:moveTo>
                  <a:pt x="6623" y="12353"/>
                </a:moveTo>
                <a:cubicBezTo>
                  <a:pt x="6521" y="12362"/>
                  <a:pt x="6452" y="12380"/>
                  <a:pt x="6375" y="12452"/>
                </a:cubicBezTo>
                <a:cubicBezTo>
                  <a:pt x="6244" y="12575"/>
                  <a:pt x="6277" y="12577"/>
                  <a:pt x="6300" y="12725"/>
                </a:cubicBezTo>
                <a:cubicBezTo>
                  <a:pt x="6312" y="12803"/>
                  <a:pt x="6371" y="12854"/>
                  <a:pt x="6449" y="12874"/>
                </a:cubicBezTo>
                <a:cubicBezTo>
                  <a:pt x="6505" y="12888"/>
                  <a:pt x="6567" y="12876"/>
                  <a:pt x="6598" y="12824"/>
                </a:cubicBezTo>
                <a:cubicBezTo>
                  <a:pt x="6660" y="12719"/>
                  <a:pt x="6672" y="12667"/>
                  <a:pt x="6672" y="12551"/>
                </a:cubicBezTo>
                <a:cubicBezTo>
                  <a:pt x="6672" y="12510"/>
                  <a:pt x="6672" y="12468"/>
                  <a:pt x="6672" y="12427"/>
                </a:cubicBezTo>
                <a:cubicBezTo>
                  <a:pt x="6639" y="12528"/>
                  <a:pt x="6658" y="12574"/>
                  <a:pt x="6672" y="12675"/>
                </a:cubicBezTo>
                <a:cubicBezTo>
                  <a:pt x="6683" y="12755"/>
                  <a:pt x="6741" y="12834"/>
                  <a:pt x="6796" y="12898"/>
                </a:cubicBezTo>
                <a:cubicBezTo>
                  <a:pt x="6819" y="12921"/>
                  <a:pt x="6823" y="12929"/>
                  <a:pt x="6846" y="12923"/>
                </a:cubicBezTo>
              </a:path>
              <a:path w="4292" h="1390">
                <a:moveTo>
                  <a:pt x="6921" y="12477"/>
                </a:moveTo>
                <a:cubicBezTo>
                  <a:pt x="6874" y="12556"/>
                  <a:pt x="6836" y="12636"/>
                  <a:pt x="6821" y="12725"/>
                </a:cubicBezTo>
                <a:cubicBezTo>
                  <a:pt x="6811" y="12787"/>
                  <a:pt x="6817" y="12850"/>
                  <a:pt x="6846" y="12898"/>
                </a:cubicBezTo>
                <a:cubicBezTo>
                  <a:pt x="6846" y="12777"/>
                  <a:pt x="6853" y="12665"/>
                  <a:pt x="6871" y="12551"/>
                </a:cubicBezTo>
                <a:cubicBezTo>
                  <a:pt x="6887" y="12452"/>
                  <a:pt x="6898" y="12443"/>
                  <a:pt x="6970" y="12402"/>
                </a:cubicBezTo>
                <a:cubicBezTo>
                  <a:pt x="7046" y="12358"/>
                  <a:pt x="7072" y="12383"/>
                  <a:pt x="7119" y="12452"/>
                </a:cubicBezTo>
                <a:cubicBezTo>
                  <a:pt x="7200" y="12571"/>
                  <a:pt x="7188" y="12659"/>
                  <a:pt x="7218" y="12799"/>
                </a:cubicBezTo>
                <a:cubicBezTo>
                  <a:pt x="7237" y="12889"/>
                  <a:pt x="7243" y="12954"/>
                  <a:pt x="7243" y="13047"/>
                </a:cubicBezTo>
                <a:cubicBezTo>
                  <a:pt x="7243" y="13089"/>
                  <a:pt x="7243" y="13097"/>
                  <a:pt x="7243" y="13122"/>
                </a:cubicBezTo>
              </a:path>
              <a:path w="4292" h="1390">
                <a:moveTo>
                  <a:pt x="7441" y="11832"/>
                </a:moveTo>
                <a:cubicBezTo>
                  <a:pt x="7537" y="11779"/>
                  <a:pt x="7532" y="11782"/>
                  <a:pt x="7640" y="11782"/>
                </a:cubicBezTo>
                <a:cubicBezTo>
                  <a:pt x="7640" y="11903"/>
                  <a:pt x="7648" y="11932"/>
                  <a:pt x="7565" y="12005"/>
                </a:cubicBezTo>
                <a:cubicBezTo>
                  <a:pt x="7532" y="12034"/>
                  <a:pt x="7452" y="12100"/>
                  <a:pt x="7466" y="12154"/>
                </a:cubicBezTo>
                <a:cubicBezTo>
                  <a:pt x="7489" y="12239"/>
                  <a:pt x="7561" y="12275"/>
                  <a:pt x="7640" y="12278"/>
                </a:cubicBezTo>
                <a:cubicBezTo>
                  <a:pt x="7714" y="12278"/>
                  <a:pt x="7739" y="12278"/>
                  <a:pt x="7789" y="12278"/>
                </a:cubicBezTo>
              </a:path>
              <a:path w="4292" h="1390">
                <a:moveTo>
                  <a:pt x="8012" y="12229"/>
                </a:moveTo>
                <a:cubicBezTo>
                  <a:pt x="8012" y="12427"/>
                  <a:pt x="8018" y="12564"/>
                  <a:pt x="8062" y="12750"/>
                </a:cubicBezTo>
                <a:cubicBezTo>
                  <a:pt x="8062" y="12758"/>
                  <a:pt x="8062" y="12766"/>
                  <a:pt x="8062" y="12774"/>
                </a:cubicBezTo>
              </a:path>
              <a:path w="4292" h="1390">
                <a:moveTo>
                  <a:pt x="7789" y="12402"/>
                </a:moveTo>
                <a:cubicBezTo>
                  <a:pt x="7880" y="12412"/>
                  <a:pt x="7971" y="12443"/>
                  <a:pt x="8062" y="12452"/>
                </a:cubicBezTo>
                <a:cubicBezTo>
                  <a:pt x="8146" y="12452"/>
                  <a:pt x="8166" y="12459"/>
                  <a:pt x="8210" y="12427"/>
                </a:cubicBezTo>
              </a:path>
              <a:path w="4292" h="1390">
                <a:moveTo>
                  <a:pt x="8607" y="12154"/>
                </a:moveTo>
                <a:cubicBezTo>
                  <a:pt x="8553" y="12276"/>
                  <a:pt x="8455" y="12395"/>
                  <a:pt x="8434" y="12526"/>
                </a:cubicBezTo>
                <a:cubicBezTo>
                  <a:pt x="8412" y="12658"/>
                  <a:pt x="8507" y="12819"/>
                  <a:pt x="8607" y="12898"/>
                </a:cubicBezTo>
                <a:cubicBezTo>
                  <a:pt x="8685" y="12960"/>
                  <a:pt x="8813" y="12925"/>
                  <a:pt x="8880" y="12874"/>
                </a:cubicBezTo>
                <a:cubicBezTo>
                  <a:pt x="8943" y="12826"/>
                  <a:pt x="8995" y="12730"/>
                  <a:pt x="8979" y="12650"/>
                </a:cubicBezTo>
                <a:cubicBezTo>
                  <a:pt x="8961" y="12557"/>
                  <a:pt x="8869" y="12553"/>
                  <a:pt x="8806" y="12601"/>
                </a:cubicBezTo>
                <a:cubicBezTo>
                  <a:pt x="8755" y="12639"/>
                  <a:pt x="8726" y="12760"/>
                  <a:pt x="8756" y="12824"/>
                </a:cubicBezTo>
                <a:cubicBezTo>
                  <a:pt x="8801" y="12917"/>
                  <a:pt x="8923" y="12925"/>
                  <a:pt x="9004" y="129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Ink 18"/>
          <p:cNvSpPr/>
          <p:nvPr/>
        </p:nvSpPr>
        <p:spPr>
          <a:xfrm>
            <a:off x="3463920" y="4295880"/>
            <a:ext cx="2233440" cy="463320"/>
          </a:xfrm>
          <a:custGeom>
            <a:avLst/>
            <a:gdLst/>
            <a:ahLst/>
            <a:rect l="l" t="t" r="r" b="b"/>
            <a:pathLst>
              <a:path w="6202" h="1291">
                <a:moveTo>
                  <a:pt x="9649" y="12154"/>
                </a:moveTo>
                <a:cubicBezTo>
                  <a:pt x="9682" y="12220"/>
                  <a:pt x="9703" y="12298"/>
                  <a:pt x="9748" y="12353"/>
                </a:cubicBezTo>
                <a:cubicBezTo>
                  <a:pt x="9773" y="12378"/>
                  <a:pt x="9781" y="12386"/>
                  <a:pt x="9798" y="12402"/>
                </a:cubicBezTo>
                <a:cubicBezTo>
                  <a:pt x="9827" y="12351"/>
                  <a:pt x="9855" y="12319"/>
                  <a:pt x="9897" y="12278"/>
                </a:cubicBezTo>
                <a:cubicBezTo>
                  <a:pt x="9964" y="12212"/>
                  <a:pt x="10169" y="12208"/>
                  <a:pt x="10269" y="12204"/>
                </a:cubicBezTo>
                <a:cubicBezTo>
                  <a:pt x="10335" y="12201"/>
                  <a:pt x="10402" y="12204"/>
                  <a:pt x="10468" y="12204"/>
                </a:cubicBezTo>
              </a:path>
              <a:path w="6202" h="1291">
                <a:moveTo>
                  <a:pt x="9624" y="12601"/>
                </a:moveTo>
                <a:cubicBezTo>
                  <a:pt x="9842" y="12601"/>
                  <a:pt x="10052" y="12609"/>
                  <a:pt x="10269" y="12626"/>
                </a:cubicBezTo>
                <a:cubicBezTo>
                  <a:pt x="10329" y="12631"/>
                  <a:pt x="10383" y="12644"/>
                  <a:pt x="10443" y="12650"/>
                </a:cubicBezTo>
              </a:path>
              <a:path w="6202" h="1291">
                <a:moveTo>
                  <a:pt x="11212" y="12154"/>
                </a:moveTo>
                <a:cubicBezTo>
                  <a:pt x="11147" y="12331"/>
                  <a:pt x="11093" y="12460"/>
                  <a:pt x="11088" y="12650"/>
                </a:cubicBezTo>
                <a:cubicBezTo>
                  <a:pt x="11085" y="12781"/>
                  <a:pt x="11131" y="12875"/>
                  <a:pt x="11162" y="12998"/>
                </a:cubicBezTo>
              </a:path>
              <a:path w="6202" h="1291">
                <a:moveTo>
                  <a:pt x="10864" y="12502"/>
                </a:moveTo>
                <a:cubicBezTo>
                  <a:pt x="10952" y="12400"/>
                  <a:pt x="11027" y="12423"/>
                  <a:pt x="11162" y="12452"/>
                </a:cubicBezTo>
                <a:cubicBezTo>
                  <a:pt x="11287" y="12479"/>
                  <a:pt x="11407" y="12520"/>
                  <a:pt x="11534" y="12526"/>
                </a:cubicBezTo>
                <a:cubicBezTo>
                  <a:pt x="11579" y="12526"/>
                  <a:pt x="11592" y="12523"/>
                  <a:pt x="11609" y="12551"/>
                </a:cubicBezTo>
                <a:cubicBezTo>
                  <a:pt x="11557" y="12616"/>
                  <a:pt x="11506" y="12676"/>
                  <a:pt x="11435" y="12725"/>
                </a:cubicBezTo>
                <a:cubicBezTo>
                  <a:pt x="11385" y="12759"/>
                  <a:pt x="11312" y="12822"/>
                  <a:pt x="11336" y="12898"/>
                </a:cubicBezTo>
                <a:cubicBezTo>
                  <a:pt x="11360" y="12974"/>
                  <a:pt x="11487" y="12959"/>
                  <a:pt x="11534" y="12923"/>
                </a:cubicBezTo>
                <a:cubicBezTo>
                  <a:pt x="11582" y="12887"/>
                  <a:pt x="11592" y="12777"/>
                  <a:pt x="11633" y="12725"/>
                </a:cubicBezTo>
                <a:cubicBezTo>
                  <a:pt x="11601" y="12780"/>
                  <a:pt x="11596" y="12837"/>
                  <a:pt x="11633" y="12898"/>
                </a:cubicBezTo>
                <a:cubicBezTo>
                  <a:pt x="11674" y="12966"/>
                  <a:pt x="11728" y="12935"/>
                  <a:pt x="11782" y="12923"/>
                </a:cubicBezTo>
              </a:path>
              <a:path w="6202" h="1291">
                <a:moveTo>
                  <a:pt x="11956" y="12551"/>
                </a:moveTo>
                <a:cubicBezTo>
                  <a:pt x="11874" y="12644"/>
                  <a:pt x="11862" y="12698"/>
                  <a:pt x="11857" y="12824"/>
                </a:cubicBezTo>
                <a:cubicBezTo>
                  <a:pt x="11857" y="12869"/>
                  <a:pt x="11853" y="12882"/>
                  <a:pt x="11881" y="12898"/>
                </a:cubicBezTo>
                <a:cubicBezTo>
                  <a:pt x="11934" y="12855"/>
                  <a:pt x="11952" y="12801"/>
                  <a:pt x="11981" y="12725"/>
                </a:cubicBezTo>
                <a:cubicBezTo>
                  <a:pt x="12019" y="12627"/>
                  <a:pt x="12014" y="12578"/>
                  <a:pt x="12105" y="12526"/>
                </a:cubicBezTo>
                <a:cubicBezTo>
                  <a:pt x="12203" y="12612"/>
                  <a:pt x="12206" y="12677"/>
                  <a:pt x="12229" y="12799"/>
                </a:cubicBezTo>
                <a:cubicBezTo>
                  <a:pt x="12243" y="12874"/>
                  <a:pt x="12269" y="12926"/>
                  <a:pt x="12278" y="12998"/>
                </a:cubicBezTo>
              </a:path>
              <a:path w="6202" h="1291">
                <a:moveTo>
                  <a:pt x="12378" y="11956"/>
                </a:moveTo>
                <a:cubicBezTo>
                  <a:pt x="12512" y="11937"/>
                  <a:pt x="12534" y="11911"/>
                  <a:pt x="12601" y="11956"/>
                </a:cubicBezTo>
                <a:cubicBezTo>
                  <a:pt x="12639" y="12044"/>
                  <a:pt x="12636" y="12113"/>
                  <a:pt x="12551" y="12179"/>
                </a:cubicBezTo>
                <a:cubicBezTo>
                  <a:pt x="12479" y="12234"/>
                  <a:pt x="12400" y="12240"/>
                  <a:pt x="12477" y="12353"/>
                </a:cubicBezTo>
                <a:cubicBezTo>
                  <a:pt x="12537" y="12441"/>
                  <a:pt x="12685" y="12560"/>
                  <a:pt x="12799" y="12526"/>
                </a:cubicBezTo>
                <a:cubicBezTo>
                  <a:pt x="12849" y="12493"/>
                  <a:pt x="12898" y="12460"/>
                  <a:pt x="12948" y="12427"/>
                </a:cubicBezTo>
              </a:path>
              <a:path w="6202" h="1291">
                <a:moveTo>
                  <a:pt x="13022" y="12179"/>
                </a:moveTo>
                <a:cubicBezTo>
                  <a:pt x="13022" y="12345"/>
                  <a:pt x="12987" y="12566"/>
                  <a:pt x="13047" y="12725"/>
                </a:cubicBezTo>
                <a:cubicBezTo>
                  <a:pt x="13073" y="12793"/>
                  <a:pt x="13109" y="12823"/>
                  <a:pt x="13122" y="12898"/>
                </a:cubicBezTo>
              </a:path>
              <a:path w="6202" h="1291">
                <a:moveTo>
                  <a:pt x="12923" y="12576"/>
                </a:moveTo>
                <a:cubicBezTo>
                  <a:pt x="13094" y="12636"/>
                  <a:pt x="13242" y="12713"/>
                  <a:pt x="13419" y="12725"/>
                </a:cubicBezTo>
              </a:path>
              <a:path w="6202" h="1291">
                <a:moveTo>
                  <a:pt x="13742" y="12129"/>
                </a:moveTo>
                <a:cubicBezTo>
                  <a:pt x="13714" y="12301"/>
                  <a:pt x="13692" y="12452"/>
                  <a:pt x="13692" y="12626"/>
                </a:cubicBezTo>
                <a:cubicBezTo>
                  <a:pt x="13692" y="12748"/>
                  <a:pt x="13717" y="12861"/>
                  <a:pt x="13767" y="12973"/>
                </a:cubicBezTo>
                <a:cubicBezTo>
                  <a:pt x="13791" y="13022"/>
                  <a:pt x="13800" y="13039"/>
                  <a:pt x="13841" y="13047"/>
                </a:cubicBezTo>
              </a:path>
              <a:path w="6202" h="1291">
                <a:moveTo>
                  <a:pt x="14387" y="12254"/>
                </a:moveTo>
                <a:cubicBezTo>
                  <a:pt x="14420" y="12421"/>
                  <a:pt x="14428" y="12585"/>
                  <a:pt x="14461" y="12750"/>
                </a:cubicBezTo>
                <a:cubicBezTo>
                  <a:pt x="14477" y="12830"/>
                  <a:pt x="14503" y="12899"/>
                  <a:pt x="14536" y="12973"/>
                </a:cubicBezTo>
              </a:path>
              <a:path w="6202" h="1291">
                <a:moveTo>
                  <a:pt x="14337" y="12576"/>
                </a:moveTo>
                <a:cubicBezTo>
                  <a:pt x="14470" y="12591"/>
                  <a:pt x="14579" y="12681"/>
                  <a:pt x="14709" y="12700"/>
                </a:cubicBezTo>
                <a:cubicBezTo>
                  <a:pt x="14750" y="12700"/>
                  <a:pt x="14792" y="12700"/>
                  <a:pt x="14833" y="12700"/>
                </a:cubicBezTo>
              </a:path>
              <a:path w="6202" h="1291">
                <a:moveTo>
                  <a:pt x="15379" y="12204"/>
                </a:moveTo>
                <a:cubicBezTo>
                  <a:pt x="15535" y="12243"/>
                  <a:pt x="15672" y="12312"/>
                  <a:pt x="15825" y="12328"/>
                </a:cubicBezTo>
              </a:path>
              <a:path w="6202" h="1291">
                <a:moveTo>
                  <a:pt x="15404" y="12278"/>
                </a:moveTo>
                <a:cubicBezTo>
                  <a:pt x="15313" y="12327"/>
                  <a:pt x="15252" y="12344"/>
                  <a:pt x="15230" y="12452"/>
                </a:cubicBezTo>
                <a:cubicBezTo>
                  <a:pt x="15212" y="12540"/>
                  <a:pt x="15301" y="12619"/>
                  <a:pt x="15354" y="12675"/>
                </a:cubicBezTo>
                <a:cubicBezTo>
                  <a:pt x="15428" y="12753"/>
                  <a:pt x="15531" y="12732"/>
                  <a:pt x="15602" y="12799"/>
                </a:cubicBezTo>
                <a:cubicBezTo>
                  <a:pt x="15711" y="12901"/>
                  <a:pt x="15694" y="13028"/>
                  <a:pt x="15652" y="13146"/>
                </a:cubicBezTo>
                <a:cubicBezTo>
                  <a:pt x="15610" y="13263"/>
                  <a:pt x="15495" y="13218"/>
                  <a:pt x="15404" y="13196"/>
                </a:cubicBezTo>
                <a:cubicBezTo>
                  <a:pt x="15281" y="13166"/>
                  <a:pt x="15182" y="13127"/>
                  <a:pt x="15056" y="13122"/>
                </a:cubicBezTo>
                <a:cubicBezTo>
                  <a:pt x="15040" y="13122"/>
                  <a:pt x="15023" y="13122"/>
                  <a:pt x="15007" y="131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Ink 19"/>
          <p:cNvSpPr/>
          <p:nvPr/>
        </p:nvSpPr>
        <p:spPr>
          <a:xfrm>
            <a:off x="1098720" y="1803240"/>
            <a:ext cx="615960" cy="2714760"/>
          </a:xfrm>
          <a:custGeom>
            <a:avLst/>
            <a:gdLst/>
            <a:ahLst/>
            <a:rect l="l" t="t" r="r" b="b"/>
            <a:pathLst>
              <a:path w="1712" h="7541">
                <a:moveTo>
                  <a:pt x="4415" y="5011"/>
                </a:moveTo>
                <a:cubicBezTo>
                  <a:pt x="4353" y="5093"/>
                  <a:pt x="4299" y="5176"/>
                  <a:pt x="4242" y="5259"/>
                </a:cubicBezTo>
                <a:cubicBezTo>
                  <a:pt x="4158" y="5381"/>
                  <a:pt x="4095" y="5506"/>
                  <a:pt x="4018" y="5631"/>
                </a:cubicBezTo>
                <a:cubicBezTo>
                  <a:pt x="3900" y="5823"/>
                  <a:pt x="3801" y="6006"/>
                  <a:pt x="3696" y="6201"/>
                </a:cubicBezTo>
                <a:cubicBezTo>
                  <a:pt x="3584" y="6410"/>
                  <a:pt x="3507" y="6627"/>
                  <a:pt x="3423" y="6846"/>
                </a:cubicBezTo>
                <a:cubicBezTo>
                  <a:pt x="3330" y="7088"/>
                  <a:pt x="3249" y="7341"/>
                  <a:pt x="3175" y="7590"/>
                </a:cubicBezTo>
                <a:cubicBezTo>
                  <a:pt x="3077" y="7921"/>
                  <a:pt x="3055" y="8289"/>
                  <a:pt x="3051" y="8632"/>
                </a:cubicBezTo>
                <a:cubicBezTo>
                  <a:pt x="3045" y="9072"/>
                  <a:pt x="3047" y="9512"/>
                  <a:pt x="3125" y="9947"/>
                </a:cubicBezTo>
                <a:cubicBezTo>
                  <a:pt x="3198" y="10357"/>
                  <a:pt x="3324" y="10771"/>
                  <a:pt x="3522" y="11137"/>
                </a:cubicBezTo>
                <a:cubicBezTo>
                  <a:pt x="3668" y="11408"/>
                  <a:pt x="3843" y="11697"/>
                  <a:pt x="4043" y="11931"/>
                </a:cubicBezTo>
                <a:cubicBezTo>
                  <a:pt x="4174" y="12084"/>
                  <a:pt x="4321" y="12214"/>
                  <a:pt x="4465" y="12353"/>
                </a:cubicBezTo>
                <a:cubicBezTo>
                  <a:pt x="4564" y="12449"/>
                  <a:pt x="4629" y="12513"/>
                  <a:pt x="4762" y="12551"/>
                </a:cubicBezTo>
                <a:cubicBezTo>
                  <a:pt x="4740" y="12529"/>
                  <a:pt x="4729" y="12520"/>
                  <a:pt x="4762" y="125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Ink 4"/>
          <p:cNvSpPr/>
          <p:nvPr/>
        </p:nvSpPr>
        <p:spPr>
          <a:xfrm>
            <a:off x="615960" y="1241280"/>
            <a:ext cx="312840" cy="563760"/>
          </a:xfrm>
          <a:custGeom>
            <a:avLst/>
            <a:gdLst/>
            <a:ahLst/>
            <a:rect l="l" t="t" r="r" b="b"/>
            <a:pathLst>
              <a:path w="869" h="1564">
                <a:moveTo>
                  <a:pt x="2133" y="4043"/>
                </a:moveTo>
                <a:cubicBezTo>
                  <a:pt x="2133" y="3974"/>
                  <a:pt x="2137" y="3926"/>
                  <a:pt x="2108" y="3870"/>
                </a:cubicBezTo>
                <a:cubicBezTo>
                  <a:pt x="2101" y="3857"/>
                  <a:pt x="2034" y="3767"/>
                  <a:pt x="2009" y="3770"/>
                </a:cubicBezTo>
                <a:cubicBezTo>
                  <a:pt x="1983" y="3773"/>
                  <a:pt x="1868" y="3823"/>
                  <a:pt x="1836" y="3845"/>
                </a:cubicBezTo>
                <a:cubicBezTo>
                  <a:pt x="1797" y="3871"/>
                  <a:pt x="1794" y="3951"/>
                  <a:pt x="1761" y="3994"/>
                </a:cubicBezTo>
                <a:cubicBezTo>
                  <a:pt x="1708" y="4063"/>
                  <a:pt x="1700" y="4123"/>
                  <a:pt x="1736" y="4192"/>
                </a:cubicBezTo>
                <a:cubicBezTo>
                  <a:pt x="1759" y="4236"/>
                  <a:pt x="1794" y="4313"/>
                  <a:pt x="1860" y="4291"/>
                </a:cubicBezTo>
                <a:cubicBezTo>
                  <a:pt x="1899" y="4278"/>
                  <a:pt x="1974" y="4219"/>
                  <a:pt x="2009" y="4192"/>
                </a:cubicBezTo>
                <a:cubicBezTo>
                  <a:pt x="2056" y="4156"/>
                  <a:pt x="2075" y="4113"/>
                  <a:pt x="2108" y="4068"/>
                </a:cubicBezTo>
                <a:cubicBezTo>
                  <a:pt x="2166" y="3989"/>
                  <a:pt x="2133" y="3996"/>
                  <a:pt x="2133" y="4118"/>
                </a:cubicBezTo>
                <a:cubicBezTo>
                  <a:pt x="2133" y="4201"/>
                  <a:pt x="2125" y="4268"/>
                  <a:pt x="2133" y="4341"/>
                </a:cubicBezTo>
                <a:cubicBezTo>
                  <a:pt x="2142" y="4425"/>
                  <a:pt x="2180" y="4802"/>
                  <a:pt x="2108" y="4589"/>
                </a:cubicBezTo>
              </a:path>
              <a:path w="869" h="1564">
                <a:moveTo>
                  <a:pt x="1984" y="3448"/>
                </a:moveTo>
                <a:cubicBezTo>
                  <a:pt x="2082" y="3502"/>
                  <a:pt x="2136" y="3541"/>
                  <a:pt x="2208" y="3621"/>
                </a:cubicBezTo>
                <a:cubicBezTo>
                  <a:pt x="2282" y="3704"/>
                  <a:pt x="2395" y="3785"/>
                  <a:pt x="2456" y="3870"/>
                </a:cubicBezTo>
                <a:cubicBezTo>
                  <a:pt x="2527" y="3968"/>
                  <a:pt x="2589" y="4094"/>
                  <a:pt x="2580" y="4217"/>
                </a:cubicBezTo>
                <a:cubicBezTo>
                  <a:pt x="2565" y="4417"/>
                  <a:pt x="2541" y="4514"/>
                  <a:pt x="2431" y="4663"/>
                </a:cubicBezTo>
                <a:cubicBezTo>
                  <a:pt x="2360" y="4759"/>
                  <a:pt x="2299" y="4850"/>
                  <a:pt x="2232" y="4936"/>
                </a:cubicBezTo>
                <a:cubicBezTo>
                  <a:pt x="2211" y="4980"/>
                  <a:pt x="2208" y="4992"/>
                  <a:pt x="2183" y="50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Ink 5"/>
          <p:cNvSpPr/>
          <p:nvPr/>
        </p:nvSpPr>
        <p:spPr>
          <a:xfrm>
            <a:off x="1438200" y="1357200"/>
            <a:ext cx="650880" cy="366840"/>
          </a:xfrm>
          <a:custGeom>
            <a:avLst/>
            <a:gdLst/>
            <a:ahLst/>
            <a:rect l="l" t="t" r="r" b="b"/>
            <a:pathLst>
              <a:path w="1811" h="1018">
                <a:moveTo>
                  <a:pt x="4539" y="3944"/>
                </a:moveTo>
                <a:cubicBezTo>
                  <a:pt x="4456" y="3986"/>
                  <a:pt x="4495" y="3874"/>
                  <a:pt x="4440" y="3820"/>
                </a:cubicBezTo>
                <a:cubicBezTo>
                  <a:pt x="4422" y="3802"/>
                  <a:pt x="4349" y="3759"/>
                  <a:pt x="4316" y="3770"/>
                </a:cubicBezTo>
                <a:cubicBezTo>
                  <a:pt x="4231" y="3798"/>
                  <a:pt x="4184" y="3935"/>
                  <a:pt x="4142" y="3994"/>
                </a:cubicBezTo>
                <a:cubicBezTo>
                  <a:pt x="4073" y="4091"/>
                  <a:pt x="4068" y="4152"/>
                  <a:pt x="4043" y="4266"/>
                </a:cubicBezTo>
                <a:cubicBezTo>
                  <a:pt x="4020" y="4367"/>
                  <a:pt x="4011" y="4442"/>
                  <a:pt x="4018" y="4539"/>
                </a:cubicBezTo>
                <a:cubicBezTo>
                  <a:pt x="4026" y="4649"/>
                  <a:pt x="4017" y="4709"/>
                  <a:pt x="4118" y="4762"/>
                </a:cubicBezTo>
                <a:cubicBezTo>
                  <a:pt x="4185" y="4797"/>
                  <a:pt x="4306" y="4792"/>
                  <a:pt x="4366" y="4738"/>
                </a:cubicBezTo>
                <a:cubicBezTo>
                  <a:pt x="4391" y="4705"/>
                  <a:pt x="4415" y="4671"/>
                  <a:pt x="4440" y="4638"/>
                </a:cubicBezTo>
              </a:path>
              <a:path w="1811" h="1018">
                <a:moveTo>
                  <a:pt x="4762" y="4093"/>
                </a:moveTo>
                <a:cubicBezTo>
                  <a:pt x="4752" y="4163"/>
                  <a:pt x="4713" y="4219"/>
                  <a:pt x="4688" y="4291"/>
                </a:cubicBezTo>
                <a:cubicBezTo>
                  <a:pt x="4658" y="4376"/>
                  <a:pt x="4663" y="4449"/>
                  <a:pt x="4663" y="4539"/>
                </a:cubicBezTo>
                <a:cubicBezTo>
                  <a:pt x="4663" y="4607"/>
                  <a:pt x="4677" y="4674"/>
                  <a:pt x="4738" y="4713"/>
                </a:cubicBezTo>
                <a:cubicBezTo>
                  <a:pt x="4831" y="4774"/>
                  <a:pt x="4892" y="4727"/>
                  <a:pt x="4961" y="4663"/>
                </a:cubicBezTo>
                <a:cubicBezTo>
                  <a:pt x="5046" y="4584"/>
                  <a:pt x="5084" y="4469"/>
                  <a:pt x="5135" y="4366"/>
                </a:cubicBezTo>
                <a:cubicBezTo>
                  <a:pt x="5173" y="4289"/>
                  <a:pt x="5164" y="4211"/>
                  <a:pt x="5110" y="4142"/>
                </a:cubicBezTo>
                <a:cubicBezTo>
                  <a:pt x="5052" y="4068"/>
                  <a:pt x="5038" y="4044"/>
                  <a:pt x="4961" y="4018"/>
                </a:cubicBezTo>
                <a:cubicBezTo>
                  <a:pt x="4873" y="3988"/>
                  <a:pt x="4801" y="3996"/>
                  <a:pt x="4713" y="4043"/>
                </a:cubicBezTo>
                <a:cubicBezTo>
                  <a:pt x="4640" y="4082"/>
                  <a:pt x="4714" y="4135"/>
                  <a:pt x="4738" y="4167"/>
                </a:cubicBezTo>
              </a:path>
              <a:path w="1811" h="1018">
                <a:moveTo>
                  <a:pt x="5779" y="3944"/>
                </a:moveTo>
                <a:cubicBezTo>
                  <a:pt x="5725" y="4021"/>
                  <a:pt x="5653" y="4029"/>
                  <a:pt x="5581" y="4093"/>
                </a:cubicBezTo>
                <a:cubicBezTo>
                  <a:pt x="5517" y="4150"/>
                  <a:pt x="5455" y="4175"/>
                  <a:pt x="5407" y="4242"/>
                </a:cubicBezTo>
                <a:cubicBezTo>
                  <a:pt x="5447" y="4311"/>
                  <a:pt x="5481" y="4334"/>
                  <a:pt x="5556" y="4366"/>
                </a:cubicBezTo>
                <a:cubicBezTo>
                  <a:pt x="5625" y="4395"/>
                  <a:pt x="5785" y="4420"/>
                  <a:pt x="5804" y="4514"/>
                </a:cubicBezTo>
                <a:cubicBezTo>
                  <a:pt x="5818" y="4582"/>
                  <a:pt x="5748" y="4689"/>
                  <a:pt x="5680" y="4713"/>
                </a:cubicBezTo>
                <a:cubicBezTo>
                  <a:pt x="5625" y="4732"/>
                  <a:pt x="5440" y="4793"/>
                  <a:pt x="5383" y="4762"/>
                </a:cubicBezTo>
                <a:cubicBezTo>
                  <a:pt x="5383" y="4754"/>
                  <a:pt x="5383" y="4746"/>
                  <a:pt x="5383" y="47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Ink 6"/>
          <p:cNvSpPr/>
          <p:nvPr/>
        </p:nvSpPr>
        <p:spPr>
          <a:xfrm>
            <a:off x="2384280" y="1347840"/>
            <a:ext cx="1911600" cy="393480"/>
          </a:xfrm>
          <a:custGeom>
            <a:avLst/>
            <a:gdLst/>
            <a:ahLst/>
            <a:rect l="l" t="t" r="r" b="b"/>
            <a:pathLst>
              <a:path w="5309" h="1092">
                <a:moveTo>
                  <a:pt x="6747" y="3820"/>
                </a:moveTo>
                <a:cubicBezTo>
                  <a:pt x="6806" y="3893"/>
                  <a:pt x="6796" y="3950"/>
                  <a:pt x="6796" y="4043"/>
                </a:cubicBezTo>
                <a:cubicBezTo>
                  <a:pt x="6796" y="4139"/>
                  <a:pt x="6756" y="4250"/>
                  <a:pt x="6772" y="4341"/>
                </a:cubicBezTo>
                <a:cubicBezTo>
                  <a:pt x="6786" y="4423"/>
                  <a:pt x="6796" y="4501"/>
                  <a:pt x="6796" y="4589"/>
                </a:cubicBezTo>
                <a:cubicBezTo>
                  <a:pt x="6796" y="4689"/>
                  <a:pt x="6837" y="4700"/>
                  <a:pt x="6796" y="4638"/>
                </a:cubicBezTo>
                <a:cubicBezTo>
                  <a:pt x="6771" y="4605"/>
                  <a:pt x="6747" y="4572"/>
                  <a:pt x="6722" y="4539"/>
                </a:cubicBezTo>
              </a:path>
              <a:path w="5309" h="1092">
                <a:moveTo>
                  <a:pt x="6623" y="4192"/>
                </a:moveTo>
                <a:cubicBezTo>
                  <a:pt x="6850" y="4192"/>
                  <a:pt x="7071" y="4187"/>
                  <a:pt x="7293" y="4167"/>
                </a:cubicBezTo>
                <a:cubicBezTo>
                  <a:pt x="7326" y="4167"/>
                  <a:pt x="7359" y="4167"/>
                  <a:pt x="7392" y="4167"/>
                </a:cubicBezTo>
              </a:path>
              <a:path w="5309" h="1092">
                <a:moveTo>
                  <a:pt x="8359" y="3845"/>
                </a:moveTo>
                <a:cubicBezTo>
                  <a:pt x="8246" y="3878"/>
                  <a:pt x="8137" y="3913"/>
                  <a:pt x="8037" y="3969"/>
                </a:cubicBezTo>
                <a:cubicBezTo>
                  <a:pt x="7983" y="4000"/>
                  <a:pt x="7893" y="4011"/>
                  <a:pt x="7913" y="4093"/>
                </a:cubicBezTo>
                <a:cubicBezTo>
                  <a:pt x="7928" y="4157"/>
                  <a:pt x="8014" y="4207"/>
                  <a:pt x="8062" y="4242"/>
                </a:cubicBezTo>
                <a:cubicBezTo>
                  <a:pt x="8122" y="4286"/>
                  <a:pt x="8236" y="4338"/>
                  <a:pt x="8285" y="4390"/>
                </a:cubicBezTo>
                <a:cubicBezTo>
                  <a:pt x="8369" y="4480"/>
                  <a:pt x="8319" y="4534"/>
                  <a:pt x="8235" y="4589"/>
                </a:cubicBezTo>
                <a:cubicBezTo>
                  <a:pt x="8172" y="4630"/>
                  <a:pt x="8084" y="4659"/>
                  <a:pt x="8012" y="4663"/>
                </a:cubicBezTo>
                <a:cubicBezTo>
                  <a:pt x="7959" y="4666"/>
                  <a:pt x="7890" y="4674"/>
                  <a:pt x="7863" y="4614"/>
                </a:cubicBezTo>
                <a:cubicBezTo>
                  <a:pt x="7863" y="4606"/>
                  <a:pt x="7863" y="4597"/>
                  <a:pt x="7863" y="4589"/>
                </a:cubicBezTo>
              </a:path>
              <a:path w="5309" h="1092">
                <a:moveTo>
                  <a:pt x="8607" y="4068"/>
                </a:moveTo>
                <a:cubicBezTo>
                  <a:pt x="8663" y="4170"/>
                  <a:pt x="8657" y="4222"/>
                  <a:pt x="8657" y="4341"/>
                </a:cubicBezTo>
                <a:cubicBezTo>
                  <a:pt x="8657" y="4448"/>
                  <a:pt x="8657" y="4556"/>
                  <a:pt x="8657" y="4663"/>
                </a:cubicBezTo>
              </a:path>
              <a:path w="5309" h="1092">
                <a:moveTo>
                  <a:pt x="8657" y="3845"/>
                </a:moveTo>
                <a:cubicBezTo>
                  <a:pt x="8706" y="3820"/>
                  <a:pt x="8723" y="3811"/>
                  <a:pt x="8756" y="3795"/>
                </a:cubicBezTo>
              </a:path>
              <a:path w="5309" h="1092">
                <a:moveTo>
                  <a:pt x="8979" y="4415"/>
                </a:moveTo>
                <a:cubicBezTo>
                  <a:pt x="8979" y="4514"/>
                  <a:pt x="8979" y="4614"/>
                  <a:pt x="8979" y="4713"/>
                </a:cubicBezTo>
                <a:cubicBezTo>
                  <a:pt x="8929" y="4630"/>
                  <a:pt x="8967" y="4560"/>
                  <a:pt x="8979" y="4465"/>
                </a:cubicBezTo>
                <a:cubicBezTo>
                  <a:pt x="8989" y="4382"/>
                  <a:pt x="8990" y="4344"/>
                  <a:pt x="9029" y="4266"/>
                </a:cubicBezTo>
                <a:cubicBezTo>
                  <a:pt x="9057" y="4211"/>
                  <a:pt x="9101" y="4152"/>
                  <a:pt x="9153" y="4118"/>
                </a:cubicBezTo>
                <a:cubicBezTo>
                  <a:pt x="9278" y="4035"/>
                  <a:pt x="9334" y="4108"/>
                  <a:pt x="9376" y="4192"/>
                </a:cubicBezTo>
                <a:cubicBezTo>
                  <a:pt x="9400" y="4240"/>
                  <a:pt x="9418" y="4331"/>
                  <a:pt x="9426" y="4390"/>
                </a:cubicBezTo>
                <a:cubicBezTo>
                  <a:pt x="9430" y="4421"/>
                  <a:pt x="9433" y="4798"/>
                  <a:pt x="9451" y="4787"/>
                </a:cubicBezTo>
                <a:cubicBezTo>
                  <a:pt x="9459" y="4771"/>
                  <a:pt x="9467" y="4754"/>
                  <a:pt x="9475" y="4738"/>
                </a:cubicBezTo>
              </a:path>
              <a:path w="5309" h="1092">
                <a:moveTo>
                  <a:pt x="10120" y="3746"/>
                </a:moveTo>
                <a:cubicBezTo>
                  <a:pt x="10120" y="4068"/>
                  <a:pt x="10120" y="4936"/>
                  <a:pt x="10120" y="4614"/>
                </a:cubicBezTo>
              </a:path>
              <a:path w="5309" h="1092">
                <a:moveTo>
                  <a:pt x="9922" y="4142"/>
                </a:moveTo>
                <a:cubicBezTo>
                  <a:pt x="10058" y="4097"/>
                  <a:pt x="10174" y="4073"/>
                  <a:pt x="10319" y="4068"/>
                </a:cubicBezTo>
                <a:cubicBezTo>
                  <a:pt x="10424" y="4065"/>
                  <a:pt x="10534" y="4021"/>
                  <a:pt x="10641" y="4043"/>
                </a:cubicBezTo>
                <a:cubicBezTo>
                  <a:pt x="10691" y="4068"/>
                  <a:pt x="10707" y="4076"/>
                  <a:pt x="10740" y="4093"/>
                </a:cubicBezTo>
                <a:cubicBezTo>
                  <a:pt x="10709" y="4171"/>
                  <a:pt x="10656" y="4258"/>
                  <a:pt x="10592" y="4316"/>
                </a:cubicBezTo>
                <a:cubicBezTo>
                  <a:pt x="10516" y="4385"/>
                  <a:pt x="10466" y="4455"/>
                  <a:pt x="10443" y="4564"/>
                </a:cubicBezTo>
                <a:cubicBezTo>
                  <a:pt x="10434" y="4609"/>
                  <a:pt x="10436" y="4718"/>
                  <a:pt x="10492" y="4738"/>
                </a:cubicBezTo>
                <a:cubicBezTo>
                  <a:pt x="10542" y="4756"/>
                  <a:pt x="10658" y="4730"/>
                  <a:pt x="10691" y="4688"/>
                </a:cubicBezTo>
                <a:cubicBezTo>
                  <a:pt x="10742" y="4624"/>
                  <a:pt x="10823" y="4502"/>
                  <a:pt x="10840" y="4415"/>
                </a:cubicBezTo>
                <a:cubicBezTo>
                  <a:pt x="10853" y="4346"/>
                  <a:pt x="10840" y="4263"/>
                  <a:pt x="10840" y="4192"/>
                </a:cubicBezTo>
                <a:cubicBezTo>
                  <a:pt x="10815" y="4257"/>
                  <a:pt x="10796" y="4343"/>
                  <a:pt x="10815" y="4415"/>
                </a:cubicBezTo>
                <a:cubicBezTo>
                  <a:pt x="10833" y="4483"/>
                  <a:pt x="10860" y="4581"/>
                  <a:pt x="10889" y="4638"/>
                </a:cubicBezTo>
                <a:cubicBezTo>
                  <a:pt x="10934" y="4726"/>
                  <a:pt x="11001" y="4683"/>
                  <a:pt x="11038" y="4638"/>
                </a:cubicBezTo>
              </a:path>
              <a:path w="5309" h="1092">
                <a:moveTo>
                  <a:pt x="11162" y="4192"/>
                </a:moveTo>
                <a:cubicBezTo>
                  <a:pt x="11197" y="4338"/>
                  <a:pt x="11212" y="4463"/>
                  <a:pt x="11212" y="4614"/>
                </a:cubicBezTo>
                <a:cubicBezTo>
                  <a:pt x="11212" y="4668"/>
                  <a:pt x="11230" y="4709"/>
                  <a:pt x="11237" y="4762"/>
                </a:cubicBezTo>
                <a:cubicBezTo>
                  <a:pt x="11262" y="4712"/>
                  <a:pt x="11276" y="4625"/>
                  <a:pt x="11286" y="4564"/>
                </a:cubicBezTo>
                <a:cubicBezTo>
                  <a:pt x="11302" y="4471"/>
                  <a:pt x="11334" y="4443"/>
                  <a:pt x="11385" y="4366"/>
                </a:cubicBezTo>
                <a:cubicBezTo>
                  <a:pt x="11440" y="4282"/>
                  <a:pt x="11447" y="4209"/>
                  <a:pt x="11559" y="4192"/>
                </a:cubicBezTo>
                <a:cubicBezTo>
                  <a:pt x="11643" y="4179"/>
                  <a:pt x="11686" y="4263"/>
                  <a:pt x="11733" y="4316"/>
                </a:cubicBezTo>
                <a:cubicBezTo>
                  <a:pt x="11792" y="4382"/>
                  <a:pt x="11803" y="4473"/>
                  <a:pt x="11807" y="4564"/>
                </a:cubicBezTo>
                <a:cubicBezTo>
                  <a:pt x="11810" y="4630"/>
                  <a:pt x="11817" y="4731"/>
                  <a:pt x="11857" y="4787"/>
                </a:cubicBezTo>
                <a:cubicBezTo>
                  <a:pt x="11898" y="4829"/>
                  <a:pt x="11906" y="4854"/>
                  <a:pt x="11931" y="48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Ink 7"/>
          <p:cNvSpPr/>
          <p:nvPr/>
        </p:nvSpPr>
        <p:spPr>
          <a:xfrm>
            <a:off x="4599000" y="1535040"/>
            <a:ext cx="187200" cy="90720"/>
          </a:xfrm>
          <a:custGeom>
            <a:avLst/>
            <a:gdLst/>
            <a:ahLst/>
            <a:rect l="l" t="t" r="r" b="b"/>
            <a:pathLst>
              <a:path w="522" h="249">
                <a:moveTo>
                  <a:pt x="12774" y="4291"/>
                </a:moveTo>
                <a:cubicBezTo>
                  <a:pt x="12892" y="4291"/>
                  <a:pt x="12984" y="4282"/>
                  <a:pt x="13097" y="4266"/>
                </a:cubicBezTo>
                <a:cubicBezTo>
                  <a:pt x="13146" y="4266"/>
                  <a:pt x="13163" y="4266"/>
                  <a:pt x="13196" y="4266"/>
                </a:cubicBezTo>
              </a:path>
              <a:path w="522" h="249">
                <a:moveTo>
                  <a:pt x="12874" y="4490"/>
                </a:moveTo>
                <a:cubicBezTo>
                  <a:pt x="12981" y="4504"/>
                  <a:pt x="13109" y="4509"/>
                  <a:pt x="13221" y="4490"/>
                </a:cubicBezTo>
                <a:cubicBezTo>
                  <a:pt x="13246" y="4482"/>
                  <a:pt x="13270" y="4473"/>
                  <a:pt x="13295" y="44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Ink 8"/>
          <p:cNvSpPr/>
          <p:nvPr/>
        </p:nvSpPr>
        <p:spPr>
          <a:xfrm>
            <a:off x="5062680" y="1393920"/>
            <a:ext cx="696600" cy="330120"/>
          </a:xfrm>
          <a:custGeom>
            <a:avLst/>
            <a:gdLst/>
            <a:ahLst/>
            <a:rect l="l" t="t" r="r" b="b"/>
            <a:pathLst>
              <a:path w="1936" h="918">
                <a:moveTo>
                  <a:pt x="14660" y="3969"/>
                </a:moveTo>
                <a:cubicBezTo>
                  <a:pt x="14652" y="3936"/>
                  <a:pt x="14643" y="3903"/>
                  <a:pt x="14635" y="3870"/>
                </a:cubicBezTo>
                <a:cubicBezTo>
                  <a:pt x="14533" y="3881"/>
                  <a:pt x="14454" y="3925"/>
                  <a:pt x="14362" y="3969"/>
                </a:cubicBezTo>
                <a:cubicBezTo>
                  <a:pt x="14244" y="4025"/>
                  <a:pt x="14176" y="4055"/>
                  <a:pt x="14089" y="4142"/>
                </a:cubicBezTo>
                <a:cubicBezTo>
                  <a:pt x="14002" y="4228"/>
                  <a:pt x="14144" y="4283"/>
                  <a:pt x="14188" y="4316"/>
                </a:cubicBezTo>
                <a:cubicBezTo>
                  <a:pt x="14265" y="4374"/>
                  <a:pt x="14439" y="4461"/>
                  <a:pt x="14461" y="4564"/>
                </a:cubicBezTo>
                <a:cubicBezTo>
                  <a:pt x="14496" y="4724"/>
                  <a:pt x="14391" y="4733"/>
                  <a:pt x="14288" y="4762"/>
                </a:cubicBezTo>
                <a:cubicBezTo>
                  <a:pt x="14229" y="4779"/>
                  <a:pt x="14203" y="4787"/>
                  <a:pt x="14139" y="4787"/>
                </a:cubicBezTo>
              </a:path>
              <a:path w="1936" h="918">
                <a:moveTo>
                  <a:pt x="14660" y="4440"/>
                </a:moveTo>
                <a:cubicBezTo>
                  <a:pt x="14861" y="4358"/>
                  <a:pt x="14904" y="4342"/>
                  <a:pt x="15032" y="4192"/>
                </a:cubicBezTo>
                <a:cubicBezTo>
                  <a:pt x="15088" y="4127"/>
                  <a:pt x="15101" y="4100"/>
                  <a:pt x="15131" y="4018"/>
                </a:cubicBezTo>
                <a:cubicBezTo>
                  <a:pt x="15070" y="3983"/>
                  <a:pt x="15036" y="3991"/>
                  <a:pt x="14982" y="4043"/>
                </a:cubicBezTo>
                <a:cubicBezTo>
                  <a:pt x="14880" y="4141"/>
                  <a:pt x="14842" y="4208"/>
                  <a:pt x="14759" y="4316"/>
                </a:cubicBezTo>
                <a:cubicBezTo>
                  <a:pt x="14706" y="4384"/>
                  <a:pt x="14650" y="4468"/>
                  <a:pt x="14684" y="4564"/>
                </a:cubicBezTo>
                <a:cubicBezTo>
                  <a:pt x="14706" y="4627"/>
                  <a:pt x="14805" y="4646"/>
                  <a:pt x="14858" y="4638"/>
                </a:cubicBezTo>
                <a:cubicBezTo>
                  <a:pt x="14932" y="4614"/>
                  <a:pt x="14957" y="4606"/>
                  <a:pt x="15007" y="4589"/>
                </a:cubicBezTo>
              </a:path>
              <a:path w="1936" h="918">
                <a:moveTo>
                  <a:pt x="15627" y="4018"/>
                </a:moveTo>
                <a:cubicBezTo>
                  <a:pt x="15549" y="4117"/>
                  <a:pt x="15423" y="4200"/>
                  <a:pt x="15379" y="4316"/>
                </a:cubicBezTo>
                <a:cubicBezTo>
                  <a:pt x="15353" y="4386"/>
                  <a:pt x="15355" y="4451"/>
                  <a:pt x="15404" y="4514"/>
                </a:cubicBezTo>
                <a:cubicBezTo>
                  <a:pt x="15474" y="4605"/>
                  <a:pt x="15644" y="4643"/>
                  <a:pt x="15751" y="4663"/>
                </a:cubicBezTo>
                <a:cubicBezTo>
                  <a:pt x="15835" y="4679"/>
                  <a:pt x="15923" y="4667"/>
                  <a:pt x="15999" y="46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Ink 9"/>
          <p:cNvSpPr/>
          <p:nvPr/>
        </p:nvSpPr>
        <p:spPr>
          <a:xfrm>
            <a:off x="1652760" y="2187720"/>
            <a:ext cx="3197160" cy="777600"/>
          </a:xfrm>
          <a:custGeom>
            <a:avLst/>
            <a:gdLst/>
            <a:ahLst/>
            <a:rect l="l" t="t" r="r" b="b"/>
            <a:pathLst>
              <a:path w="8881" h="2159">
                <a:moveTo>
                  <a:pt x="4936" y="6300"/>
                </a:moveTo>
                <a:cubicBezTo>
                  <a:pt x="4936" y="6204"/>
                  <a:pt x="4931" y="6196"/>
                  <a:pt x="4862" y="6127"/>
                </a:cubicBezTo>
                <a:cubicBezTo>
                  <a:pt x="4801" y="6066"/>
                  <a:pt x="4775" y="6161"/>
                  <a:pt x="4738" y="6201"/>
                </a:cubicBezTo>
                <a:cubicBezTo>
                  <a:pt x="4692" y="6251"/>
                  <a:pt x="4626" y="6328"/>
                  <a:pt x="4614" y="6400"/>
                </a:cubicBezTo>
                <a:cubicBezTo>
                  <a:pt x="4602" y="6472"/>
                  <a:pt x="4573" y="6573"/>
                  <a:pt x="4589" y="6648"/>
                </a:cubicBezTo>
                <a:cubicBezTo>
                  <a:pt x="4599" y="6695"/>
                  <a:pt x="4624" y="6838"/>
                  <a:pt x="4663" y="6871"/>
                </a:cubicBezTo>
                <a:cubicBezTo>
                  <a:pt x="4729" y="6927"/>
                  <a:pt x="4849" y="6965"/>
                  <a:pt x="4936" y="6945"/>
                </a:cubicBezTo>
                <a:cubicBezTo>
                  <a:pt x="5038" y="6922"/>
                  <a:pt x="5096" y="6842"/>
                  <a:pt x="5159" y="6772"/>
                </a:cubicBezTo>
                <a:cubicBezTo>
                  <a:pt x="5176" y="6755"/>
                  <a:pt x="5192" y="6739"/>
                  <a:pt x="5209" y="6722"/>
                </a:cubicBezTo>
              </a:path>
              <a:path w="8881" h="2159">
                <a:moveTo>
                  <a:pt x="5333" y="6300"/>
                </a:moveTo>
                <a:cubicBezTo>
                  <a:pt x="5280" y="6399"/>
                  <a:pt x="5249" y="6462"/>
                  <a:pt x="5234" y="6573"/>
                </a:cubicBezTo>
                <a:cubicBezTo>
                  <a:pt x="5225" y="6638"/>
                  <a:pt x="5223" y="6723"/>
                  <a:pt x="5259" y="6772"/>
                </a:cubicBezTo>
                <a:cubicBezTo>
                  <a:pt x="5290" y="6815"/>
                  <a:pt x="5350" y="6864"/>
                  <a:pt x="5407" y="6846"/>
                </a:cubicBezTo>
                <a:cubicBezTo>
                  <a:pt x="5463" y="6829"/>
                  <a:pt x="5528" y="6770"/>
                  <a:pt x="5556" y="6722"/>
                </a:cubicBezTo>
                <a:cubicBezTo>
                  <a:pt x="5581" y="6679"/>
                  <a:pt x="5615" y="6572"/>
                  <a:pt x="5606" y="6524"/>
                </a:cubicBezTo>
                <a:cubicBezTo>
                  <a:pt x="5587" y="6422"/>
                  <a:pt x="5571" y="6366"/>
                  <a:pt x="5482" y="6300"/>
                </a:cubicBezTo>
                <a:cubicBezTo>
                  <a:pt x="5414" y="6250"/>
                  <a:pt x="5330" y="6281"/>
                  <a:pt x="5259" y="6300"/>
                </a:cubicBezTo>
              </a:path>
              <a:path w="8881" h="2159">
                <a:moveTo>
                  <a:pt x="6176" y="6176"/>
                </a:moveTo>
                <a:cubicBezTo>
                  <a:pt x="6128" y="6263"/>
                  <a:pt x="6095" y="6261"/>
                  <a:pt x="6003" y="6300"/>
                </a:cubicBezTo>
                <a:cubicBezTo>
                  <a:pt x="5919" y="6336"/>
                  <a:pt x="5837" y="6383"/>
                  <a:pt x="5755" y="6424"/>
                </a:cubicBezTo>
                <a:cubicBezTo>
                  <a:pt x="5809" y="6512"/>
                  <a:pt x="5856" y="6537"/>
                  <a:pt x="5953" y="6573"/>
                </a:cubicBezTo>
                <a:cubicBezTo>
                  <a:pt x="6050" y="6609"/>
                  <a:pt x="6113" y="6648"/>
                  <a:pt x="6201" y="6697"/>
                </a:cubicBezTo>
                <a:cubicBezTo>
                  <a:pt x="6249" y="6724"/>
                  <a:pt x="6325" y="6765"/>
                  <a:pt x="6251" y="6821"/>
                </a:cubicBezTo>
                <a:cubicBezTo>
                  <a:pt x="6203" y="6858"/>
                  <a:pt x="6109" y="6888"/>
                  <a:pt x="6052" y="6896"/>
                </a:cubicBezTo>
                <a:cubicBezTo>
                  <a:pt x="5936" y="6911"/>
                  <a:pt x="5948" y="6913"/>
                  <a:pt x="5928" y="6821"/>
                </a:cubicBezTo>
              </a:path>
              <a:path w="8881" h="2159">
                <a:moveTo>
                  <a:pt x="6921" y="6176"/>
                </a:moveTo>
                <a:cubicBezTo>
                  <a:pt x="6921" y="6305"/>
                  <a:pt x="6913" y="6423"/>
                  <a:pt x="6896" y="6548"/>
                </a:cubicBezTo>
                <a:cubicBezTo>
                  <a:pt x="6885" y="6627"/>
                  <a:pt x="6904" y="6748"/>
                  <a:pt x="6921" y="6821"/>
                </a:cubicBezTo>
                <a:cubicBezTo>
                  <a:pt x="6941" y="6862"/>
                  <a:pt x="6949" y="6868"/>
                  <a:pt x="6945" y="6896"/>
                </a:cubicBezTo>
              </a:path>
              <a:path w="8881" h="2159">
                <a:moveTo>
                  <a:pt x="6648" y="6623"/>
                </a:moveTo>
                <a:cubicBezTo>
                  <a:pt x="6813" y="6623"/>
                  <a:pt x="6979" y="6623"/>
                  <a:pt x="7144" y="6623"/>
                </a:cubicBezTo>
              </a:path>
              <a:path w="8881" h="2159">
                <a:moveTo>
                  <a:pt x="8210" y="6350"/>
                </a:moveTo>
                <a:cubicBezTo>
                  <a:pt x="8116" y="6357"/>
                  <a:pt x="8065" y="6369"/>
                  <a:pt x="7987" y="6400"/>
                </a:cubicBezTo>
                <a:cubicBezTo>
                  <a:pt x="7942" y="6418"/>
                  <a:pt x="7806" y="6444"/>
                  <a:pt x="7813" y="6524"/>
                </a:cubicBezTo>
                <a:cubicBezTo>
                  <a:pt x="7817" y="6572"/>
                  <a:pt x="7938" y="6612"/>
                  <a:pt x="7962" y="6623"/>
                </a:cubicBezTo>
                <a:cubicBezTo>
                  <a:pt x="8044" y="6660"/>
                  <a:pt x="8135" y="6702"/>
                  <a:pt x="8210" y="6747"/>
                </a:cubicBezTo>
                <a:cubicBezTo>
                  <a:pt x="8283" y="6790"/>
                  <a:pt x="8281" y="6820"/>
                  <a:pt x="8310" y="6896"/>
                </a:cubicBezTo>
                <a:cubicBezTo>
                  <a:pt x="8238" y="6953"/>
                  <a:pt x="8177" y="6966"/>
                  <a:pt x="8086" y="6970"/>
                </a:cubicBezTo>
                <a:cubicBezTo>
                  <a:pt x="8063" y="6971"/>
                  <a:pt x="7957" y="6938"/>
                  <a:pt x="7962" y="6896"/>
                </a:cubicBezTo>
                <a:cubicBezTo>
                  <a:pt x="7970" y="6888"/>
                  <a:pt x="7979" y="6879"/>
                  <a:pt x="7987" y="6871"/>
                </a:cubicBezTo>
              </a:path>
              <a:path w="8881" h="2159">
                <a:moveTo>
                  <a:pt x="8558" y="6449"/>
                </a:moveTo>
                <a:cubicBezTo>
                  <a:pt x="8578" y="6547"/>
                  <a:pt x="8582" y="6623"/>
                  <a:pt x="8582" y="6722"/>
                </a:cubicBezTo>
                <a:cubicBezTo>
                  <a:pt x="8582" y="6749"/>
                  <a:pt x="8604" y="6951"/>
                  <a:pt x="8607" y="6945"/>
                </a:cubicBezTo>
                <a:cubicBezTo>
                  <a:pt x="8607" y="6929"/>
                  <a:pt x="8607" y="6912"/>
                  <a:pt x="8607" y="6896"/>
                </a:cubicBezTo>
              </a:path>
              <a:path w="8881" h="2159">
                <a:moveTo>
                  <a:pt x="8582" y="6152"/>
                </a:moveTo>
                <a:cubicBezTo>
                  <a:pt x="8629" y="6070"/>
                  <a:pt x="8608" y="6087"/>
                  <a:pt x="8706" y="6077"/>
                </a:cubicBezTo>
              </a:path>
              <a:path w="8881" h="2159">
                <a:moveTo>
                  <a:pt x="8855" y="6648"/>
                </a:moveTo>
                <a:cubicBezTo>
                  <a:pt x="8855" y="6755"/>
                  <a:pt x="8855" y="6863"/>
                  <a:pt x="8855" y="6970"/>
                </a:cubicBezTo>
                <a:cubicBezTo>
                  <a:pt x="8881" y="6865"/>
                  <a:pt x="8891" y="6754"/>
                  <a:pt x="8905" y="6648"/>
                </a:cubicBezTo>
                <a:cubicBezTo>
                  <a:pt x="8914" y="6578"/>
                  <a:pt x="8943" y="6517"/>
                  <a:pt x="8954" y="6449"/>
                </a:cubicBezTo>
                <a:cubicBezTo>
                  <a:pt x="8965" y="6379"/>
                  <a:pt x="8999" y="6343"/>
                  <a:pt x="9079" y="6325"/>
                </a:cubicBezTo>
                <a:cubicBezTo>
                  <a:pt x="9154" y="6308"/>
                  <a:pt x="9228" y="6378"/>
                  <a:pt x="9277" y="6424"/>
                </a:cubicBezTo>
                <a:cubicBezTo>
                  <a:pt x="9370" y="6512"/>
                  <a:pt x="9348" y="6587"/>
                  <a:pt x="9376" y="6697"/>
                </a:cubicBezTo>
                <a:cubicBezTo>
                  <a:pt x="9397" y="6780"/>
                  <a:pt x="9401" y="6856"/>
                  <a:pt x="9401" y="6945"/>
                </a:cubicBezTo>
                <a:cubicBezTo>
                  <a:pt x="9401" y="6962"/>
                  <a:pt x="9401" y="6978"/>
                  <a:pt x="9401" y="6995"/>
                </a:cubicBezTo>
              </a:path>
              <a:path w="8881" h="2159">
                <a:moveTo>
                  <a:pt x="9798" y="6921"/>
                </a:moveTo>
                <a:cubicBezTo>
                  <a:pt x="9814" y="6921"/>
                  <a:pt x="9831" y="6921"/>
                  <a:pt x="9847" y="6921"/>
                </a:cubicBezTo>
              </a:path>
              <a:path w="8881" h="2159">
                <a:moveTo>
                  <a:pt x="10492" y="6474"/>
                </a:moveTo>
                <a:cubicBezTo>
                  <a:pt x="10427" y="6421"/>
                  <a:pt x="10355" y="6408"/>
                  <a:pt x="10269" y="6424"/>
                </a:cubicBezTo>
                <a:cubicBezTo>
                  <a:pt x="10214" y="6434"/>
                  <a:pt x="10163" y="6448"/>
                  <a:pt x="10120" y="6474"/>
                </a:cubicBezTo>
                <a:cubicBezTo>
                  <a:pt x="10131" y="6562"/>
                  <a:pt x="10157" y="6585"/>
                  <a:pt x="10220" y="6648"/>
                </a:cubicBezTo>
                <a:cubicBezTo>
                  <a:pt x="10277" y="6705"/>
                  <a:pt x="10442" y="6828"/>
                  <a:pt x="10468" y="6921"/>
                </a:cubicBezTo>
                <a:cubicBezTo>
                  <a:pt x="10495" y="7019"/>
                  <a:pt x="10398" y="7014"/>
                  <a:pt x="10344" y="6995"/>
                </a:cubicBezTo>
                <a:cubicBezTo>
                  <a:pt x="10312" y="6984"/>
                  <a:pt x="10202" y="6939"/>
                  <a:pt x="10195" y="6896"/>
                </a:cubicBezTo>
                <a:cubicBezTo>
                  <a:pt x="10195" y="6863"/>
                  <a:pt x="10195" y="6829"/>
                  <a:pt x="10195" y="6796"/>
                </a:cubicBezTo>
              </a:path>
              <a:path w="8881" h="2159">
                <a:moveTo>
                  <a:pt x="10765" y="6424"/>
                </a:moveTo>
                <a:cubicBezTo>
                  <a:pt x="10810" y="6551"/>
                  <a:pt x="10840" y="6619"/>
                  <a:pt x="10840" y="6747"/>
                </a:cubicBezTo>
                <a:cubicBezTo>
                  <a:pt x="10840" y="6793"/>
                  <a:pt x="10828" y="6908"/>
                  <a:pt x="10864" y="6871"/>
                </a:cubicBezTo>
              </a:path>
              <a:path w="8881" h="2159">
                <a:moveTo>
                  <a:pt x="10790" y="6127"/>
                </a:moveTo>
                <a:cubicBezTo>
                  <a:pt x="10818" y="6099"/>
                  <a:pt x="10831" y="6090"/>
                  <a:pt x="10864" y="6102"/>
                </a:cubicBezTo>
              </a:path>
              <a:path w="8881" h="2159">
                <a:moveTo>
                  <a:pt x="11088" y="6722"/>
                </a:moveTo>
                <a:cubicBezTo>
                  <a:pt x="11104" y="6796"/>
                  <a:pt x="11121" y="6871"/>
                  <a:pt x="11137" y="6945"/>
                </a:cubicBezTo>
                <a:cubicBezTo>
                  <a:pt x="11144" y="6847"/>
                  <a:pt x="11162" y="6771"/>
                  <a:pt x="11162" y="6672"/>
                </a:cubicBezTo>
                <a:cubicBezTo>
                  <a:pt x="11162" y="6594"/>
                  <a:pt x="11180" y="6519"/>
                  <a:pt x="11212" y="6449"/>
                </a:cubicBezTo>
                <a:cubicBezTo>
                  <a:pt x="11244" y="6378"/>
                  <a:pt x="11285" y="6334"/>
                  <a:pt x="11361" y="6325"/>
                </a:cubicBezTo>
                <a:cubicBezTo>
                  <a:pt x="11449" y="6315"/>
                  <a:pt x="11488" y="6387"/>
                  <a:pt x="11534" y="6449"/>
                </a:cubicBezTo>
                <a:cubicBezTo>
                  <a:pt x="11599" y="6537"/>
                  <a:pt x="11603" y="6601"/>
                  <a:pt x="11633" y="6697"/>
                </a:cubicBezTo>
                <a:cubicBezTo>
                  <a:pt x="11659" y="6778"/>
                  <a:pt x="11693" y="6876"/>
                  <a:pt x="11733" y="6945"/>
                </a:cubicBezTo>
              </a:path>
              <a:path w="8881" h="2159">
                <a:moveTo>
                  <a:pt x="12129" y="7069"/>
                </a:moveTo>
                <a:cubicBezTo>
                  <a:pt x="11986" y="7093"/>
                  <a:pt x="11895" y="7080"/>
                  <a:pt x="11757" y="7069"/>
                </a:cubicBezTo>
                <a:cubicBezTo>
                  <a:pt x="11562" y="7054"/>
                  <a:pt x="11356" y="7053"/>
                  <a:pt x="11162" y="7045"/>
                </a:cubicBezTo>
                <a:cubicBezTo>
                  <a:pt x="10928" y="7035"/>
                  <a:pt x="10699" y="7062"/>
                  <a:pt x="10468" y="7069"/>
                </a:cubicBezTo>
                <a:cubicBezTo>
                  <a:pt x="10378" y="7072"/>
                  <a:pt x="10298" y="7066"/>
                  <a:pt x="10220" y="7094"/>
                </a:cubicBezTo>
                <a:cubicBezTo>
                  <a:pt x="10170" y="7119"/>
                  <a:pt x="10153" y="7127"/>
                  <a:pt x="10220" y="7144"/>
                </a:cubicBezTo>
              </a:path>
              <a:path w="8881" h="2159">
                <a:moveTo>
                  <a:pt x="11112" y="7590"/>
                </a:moveTo>
                <a:cubicBezTo>
                  <a:pt x="11112" y="7615"/>
                  <a:pt x="11112" y="7640"/>
                  <a:pt x="11112" y="7665"/>
                </a:cubicBezTo>
                <a:cubicBezTo>
                  <a:pt x="11034" y="7642"/>
                  <a:pt x="11062" y="7619"/>
                  <a:pt x="11013" y="7565"/>
                </a:cubicBezTo>
                <a:cubicBezTo>
                  <a:pt x="10965" y="7512"/>
                  <a:pt x="10918" y="7476"/>
                  <a:pt x="10840" y="7491"/>
                </a:cubicBezTo>
                <a:cubicBezTo>
                  <a:pt x="10755" y="7507"/>
                  <a:pt x="10720" y="7529"/>
                  <a:pt x="10666" y="7590"/>
                </a:cubicBezTo>
                <a:cubicBezTo>
                  <a:pt x="10626" y="7636"/>
                  <a:pt x="10530" y="7707"/>
                  <a:pt x="10517" y="7764"/>
                </a:cubicBezTo>
                <a:cubicBezTo>
                  <a:pt x="10497" y="7850"/>
                  <a:pt x="10530" y="7914"/>
                  <a:pt x="10567" y="7987"/>
                </a:cubicBezTo>
                <a:cubicBezTo>
                  <a:pt x="10626" y="8103"/>
                  <a:pt x="10721" y="8131"/>
                  <a:pt x="10840" y="8136"/>
                </a:cubicBezTo>
                <a:cubicBezTo>
                  <a:pt x="10889" y="8136"/>
                  <a:pt x="10906" y="8136"/>
                  <a:pt x="10939" y="8136"/>
                </a:cubicBezTo>
              </a:path>
              <a:path w="8881" h="2159">
                <a:moveTo>
                  <a:pt x="11261" y="7714"/>
                </a:moveTo>
                <a:cubicBezTo>
                  <a:pt x="11220" y="7821"/>
                  <a:pt x="11154" y="7939"/>
                  <a:pt x="11187" y="8062"/>
                </a:cubicBezTo>
                <a:cubicBezTo>
                  <a:pt x="11208" y="8141"/>
                  <a:pt x="11313" y="8213"/>
                  <a:pt x="11385" y="8235"/>
                </a:cubicBezTo>
                <a:cubicBezTo>
                  <a:pt x="11444" y="8253"/>
                  <a:pt x="11566" y="8229"/>
                  <a:pt x="11609" y="8186"/>
                </a:cubicBezTo>
                <a:cubicBezTo>
                  <a:pt x="11669" y="8125"/>
                  <a:pt x="11704" y="7992"/>
                  <a:pt x="11708" y="7913"/>
                </a:cubicBezTo>
                <a:cubicBezTo>
                  <a:pt x="11713" y="7799"/>
                  <a:pt x="11617" y="7730"/>
                  <a:pt x="11534" y="7689"/>
                </a:cubicBezTo>
                <a:cubicBezTo>
                  <a:pt x="11462" y="7653"/>
                  <a:pt x="11366" y="7644"/>
                  <a:pt x="11286" y="7640"/>
                </a:cubicBezTo>
                <a:cubicBezTo>
                  <a:pt x="11202" y="7636"/>
                  <a:pt x="11219" y="7652"/>
                  <a:pt x="11237" y="7714"/>
                </a:cubicBezTo>
              </a:path>
              <a:path w="8881" h="2159">
                <a:moveTo>
                  <a:pt x="12080" y="7665"/>
                </a:moveTo>
                <a:cubicBezTo>
                  <a:pt x="11983" y="7665"/>
                  <a:pt x="11897" y="7657"/>
                  <a:pt x="11807" y="7689"/>
                </a:cubicBezTo>
                <a:cubicBezTo>
                  <a:pt x="11825" y="7830"/>
                  <a:pt x="11938" y="7822"/>
                  <a:pt x="12055" y="7913"/>
                </a:cubicBezTo>
                <a:cubicBezTo>
                  <a:pt x="12086" y="7937"/>
                  <a:pt x="12234" y="8089"/>
                  <a:pt x="12229" y="8136"/>
                </a:cubicBezTo>
                <a:cubicBezTo>
                  <a:pt x="12223" y="8194"/>
                  <a:pt x="12154" y="8233"/>
                  <a:pt x="12105" y="8235"/>
                </a:cubicBezTo>
                <a:cubicBezTo>
                  <a:pt x="11995" y="8240"/>
                  <a:pt x="11886" y="8196"/>
                  <a:pt x="11782" y="8161"/>
                </a:cubicBezTo>
                <a:cubicBezTo>
                  <a:pt x="11717" y="8139"/>
                  <a:pt x="11702" y="8131"/>
                  <a:pt x="11658" y="8136"/>
                </a:cubicBezTo>
              </a:path>
              <a:path w="8881" h="2159">
                <a:moveTo>
                  <a:pt x="12874" y="6648"/>
                </a:moveTo>
                <a:cubicBezTo>
                  <a:pt x="12941" y="6622"/>
                  <a:pt x="13022" y="6608"/>
                  <a:pt x="13097" y="6623"/>
                </a:cubicBezTo>
                <a:cubicBezTo>
                  <a:pt x="13170" y="6648"/>
                  <a:pt x="13194" y="6656"/>
                  <a:pt x="13246" y="6648"/>
                </a:cubicBezTo>
              </a:path>
              <a:path w="8881" h="2159">
                <a:moveTo>
                  <a:pt x="12923" y="6921"/>
                </a:moveTo>
                <a:cubicBezTo>
                  <a:pt x="13025" y="6946"/>
                  <a:pt x="13115" y="6945"/>
                  <a:pt x="13221" y="6945"/>
                </a:cubicBezTo>
                <a:cubicBezTo>
                  <a:pt x="13328" y="6945"/>
                  <a:pt x="13386" y="6945"/>
                  <a:pt x="13469" y="69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Ink 10"/>
          <p:cNvSpPr/>
          <p:nvPr/>
        </p:nvSpPr>
        <p:spPr>
          <a:xfrm>
            <a:off x="1677960" y="3054240"/>
            <a:ext cx="600120" cy="268560"/>
          </a:xfrm>
          <a:custGeom>
            <a:avLst/>
            <a:gdLst/>
            <a:ahLst/>
            <a:rect l="l" t="t" r="r" b="b"/>
            <a:pathLst>
              <a:path w="1663" h="745">
                <a:moveTo>
                  <a:pt x="5159" y="8582"/>
                </a:moveTo>
                <a:cubicBezTo>
                  <a:pt x="5159" y="8634"/>
                  <a:pt x="5160" y="8652"/>
                  <a:pt x="5184" y="8682"/>
                </a:cubicBezTo>
                <a:cubicBezTo>
                  <a:pt x="5177" y="8623"/>
                  <a:pt x="5165" y="8547"/>
                  <a:pt x="5110" y="8508"/>
                </a:cubicBezTo>
                <a:cubicBezTo>
                  <a:pt x="5033" y="8453"/>
                  <a:pt x="4977" y="8523"/>
                  <a:pt x="4911" y="8558"/>
                </a:cubicBezTo>
                <a:cubicBezTo>
                  <a:pt x="4842" y="8594"/>
                  <a:pt x="4798" y="8637"/>
                  <a:pt x="4762" y="8706"/>
                </a:cubicBezTo>
                <a:cubicBezTo>
                  <a:pt x="4737" y="8754"/>
                  <a:pt x="4672" y="8829"/>
                  <a:pt x="4663" y="8880"/>
                </a:cubicBezTo>
                <a:cubicBezTo>
                  <a:pt x="4647" y="8965"/>
                  <a:pt x="4700" y="9074"/>
                  <a:pt x="4762" y="9128"/>
                </a:cubicBezTo>
                <a:cubicBezTo>
                  <a:pt x="4840" y="9195"/>
                  <a:pt x="4995" y="9193"/>
                  <a:pt x="5085" y="9178"/>
                </a:cubicBezTo>
                <a:cubicBezTo>
                  <a:pt x="5102" y="9170"/>
                  <a:pt x="5118" y="9161"/>
                  <a:pt x="5135" y="9153"/>
                </a:cubicBezTo>
              </a:path>
              <a:path w="1663" h="745">
                <a:moveTo>
                  <a:pt x="5407" y="8756"/>
                </a:moveTo>
                <a:cubicBezTo>
                  <a:pt x="5362" y="8825"/>
                  <a:pt x="5358" y="8873"/>
                  <a:pt x="5358" y="8954"/>
                </a:cubicBezTo>
                <a:cubicBezTo>
                  <a:pt x="5358" y="9041"/>
                  <a:pt x="5348" y="9068"/>
                  <a:pt x="5407" y="9128"/>
                </a:cubicBezTo>
                <a:cubicBezTo>
                  <a:pt x="5470" y="9192"/>
                  <a:pt x="5591" y="9135"/>
                  <a:pt x="5655" y="9103"/>
                </a:cubicBezTo>
                <a:cubicBezTo>
                  <a:pt x="5733" y="9065"/>
                  <a:pt x="5751" y="8982"/>
                  <a:pt x="5755" y="8905"/>
                </a:cubicBezTo>
                <a:cubicBezTo>
                  <a:pt x="5758" y="8847"/>
                  <a:pt x="5708" y="8762"/>
                  <a:pt x="5655" y="8731"/>
                </a:cubicBezTo>
                <a:cubicBezTo>
                  <a:pt x="5595" y="8696"/>
                  <a:pt x="5463" y="8698"/>
                  <a:pt x="5407" y="8731"/>
                </a:cubicBezTo>
                <a:cubicBezTo>
                  <a:pt x="5324" y="8779"/>
                  <a:pt x="5368" y="8805"/>
                  <a:pt x="5407" y="8855"/>
                </a:cubicBezTo>
              </a:path>
              <a:path w="1663" h="745">
                <a:moveTo>
                  <a:pt x="6276" y="8682"/>
                </a:moveTo>
                <a:cubicBezTo>
                  <a:pt x="6189" y="8682"/>
                  <a:pt x="6147" y="8679"/>
                  <a:pt x="6077" y="8731"/>
                </a:cubicBezTo>
                <a:cubicBezTo>
                  <a:pt x="6041" y="8758"/>
                  <a:pt x="6016" y="8758"/>
                  <a:pt x="5978" y="8781"/>
                </a:cubicBezTo>
                <a:cubicBezTo>
                  <a:pt x="5987" y="8845"/>
                  <a:pt x="6017" y="8888"/>
                  <a:pt x="6077" y="8930"/>
                </a:cubicBezTo>
                <a:cubicBezTo>
                  <a:pt x="6161" y="8988"/>
                  <a:pt x="6294" y="9015"/>
                  <a:pt x="6325" y="9128"/>
                </a:cubicBezTo>
                <a:cubicBezTo>
                  <a:pt x="6325" y="9145"/>
                  <a:pt x="6325" y="9161"/>
                  <a:pt x="6325" y="9178"/>
                </a:cubicBezTo>
                <a:cubicBezTo>
                  <a:pt x="6256" y="9236"/>
                  <a:pt x="6202" y="9227"/>
                  <a:pt x="6102" y="9227"/>
                </a:cubicBezTo>
                <a:cubicBezTo>
                  <a:pt x="6026" y="9227"/>
                  <a:pt x="6034" y="9216"/>
                  <a:pt x="5978" y="92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Ink 11"/>
          <p:cNvSpPr/>
          <p:nvPr/>
        </p:nvSpPr>
        <p:spPr>
          <a:xfrm>
            <a:off x="2598840" y="2955960"/>
            <a:ext cx="1170000" cy="812880"/>
          </a:xfrm>
          <a:custGeom>
            <a:avLst/>
            <a:gdLst/>
            <a:ahLst/>
            <a:rect l="l" t="t" r="r" b="b"/>
            <a:pathLst>
              <a:path w="3251" h="2259">
                <a:moveTo>
                  <a:pt x="7417" y="8682"/>
                </a:moveTo>
                <a:cubicBezTo>
                  <a:pt x="7393" y="8798"/>
                  <a:pt x="7399" y="8848"/>
                  <a:pt x="7417" y="8954"/>
                </a:cubicBezTo>
                <a:cubicBezTo>
                  <a:pt x="7428" y="9020"/>
                  <a:pt x="7441" y="9085"/>
                  <a:pt x="7441" y="9153"/>
                </a:cubicBezTo>
              </a:path>
              <a:path w="3251" h="2259">
                <a:moveTo>
                  <a:pt x="7218" y="8905"/>
                </a:moveTo>
                <a:cubicBezTo>
                  <a:pt x="7383" y="8892"/>
                  <a:pt x="7501" y="8905"/>
                  <a:pt x="7665" y="8905"/>
                </a:cubicBezTo>
              </a:path>
              <a:path w="3251" h="2259">
                <a:moveTo>
                  <a:pt x="8657" y="8657"/>
                </a:moveTo>
                <a:cubicBezTo>
                  <a:pt x="8598" y="8669"/>
                  <a:pt x="8352" y="8670"/>
                  <a:pt x="8384" y="8806"/>
                </a:cubicBezTo>
                <a:cubicBezTo>
                  <a:pt x="8408" y="8907"/>
                  <a:pt x="8628" y="8981"/>
                  <a:pt x="8682" y="9029"/>
                </a:cubicBezTo>
                <a:cubicBezTo>
                  <a:pt x="8697" y="9042"/>
                  <a:pt x="8807" y="9196"/>
                  <a:pt x="8806" y="9227"/>
                </a:cubicBezTo>
                <a:cubicBezTo>
                  <a:pt x="8801" y="9338"/>
                  <a:pt x="8738" y="9327"/>
                  <a:pt x="8657" y="9327"/>
                </a:cubicBezTo>
                <a:cubicBezTo>
                  <a:pt x="8585" y="9327"/>
                  <a:pt x="8537" y="9276"/>
                  <a:pt x="8483" y="9227"/>
                </a:cubicBezTo>
                <a:cubicBezTo>
                  <a:pt x="8460" y="9205"/>
                  <a:pt x="8452" y="9200"/>
                  <a:pt x="8458" y="9178"/>
                </a:cubicBezTo>
              </a:path>
              <a:path w="3251" h="2259">
                <a:moveTo>
                  <a:pt x="9079" y="8905"/>
                </a:moveTo>
                <a:cubicBezTo>
                  <a:pt x="9103" y="9003"/>
                  <a:pt x="9137" y="9108"/>
                  <a:pt x="9153" y="9203"/>
                </a:cubicBezTo>
                <a:cubicBezTo>
                  <a:pt x="9166" y="9280"/>
                  <a:pt x="9144" y="9342"/>
                  <a:pt x="9128" y="9227"/>
                </a:cubicBezTo>
              </a:path>
              <a:path w="3251" h="2259">
                <a:moveTo>
                  <a:pt x="9029" y="8558"/>
                </a:moveTo>
                <a:cubicBezTo>
                  <a:pt x="9065" y="8468"/>
                  <a:pt x="9045" y="8427"/>
                  <a:pt x="9103" y="8434"/>
                </a:cubicBezTo>
              </a:path>
              <a:path w="3251" h="2259">
                <a:moveTo>
                  <a:pt x="9401" y="9004"/>
                </a:moveTo>
                <a:cubicBezTo>
                  <a:pt x="9401" y="9011"/>
                  <a:pt x="9437" y="9284"/>
                  <a:pt x="9401" y="9302"/>
                </a:cubicBezTo>
                <a:cubicBezTo>
                  <a:pt x="9393" y="9294"/>
                  <a:pt x="9384" y="9285"/>
                  <a:pt x="9376" y="9277"/>
                </a:cubicBezTo>
                <a:cubicBezTo>
                  <a:pt x="9388" y="9196"/>
                  <a:pt x="9401" y="9150"/>
                  <a:pt x="9401" y="9054"/>
                </a:cubicBezTo>
                <a:cubicBezTo>
                  <a:pt x="9401" y="8992"/>
                  <a:pt x="9439" y="8901"/>
                  <a:pt x="9475" y="8855"/>
                </a:cubicBezTo>
                <a:cubicBezTo>
                  <a:pt x="9518" y="8800"/>
                  <a:pt x="9581" y="8789"/>
                  <a:pt x="9649" y="8806"/>
                </a:cubicBezTo>
                <a:cubicBezTo>
                  <a:pt x="9699" y="8819"/>
                  <a:pt x="9769" y="8890"/>
                  <a:pt x="9798" y="8930"/>
                </a:cubicBezTo>
                <a:cubicBezTo>
                  <a:pt x="9857" y="9013"/>
                  <a:pt x="9857" y="9115"/>
                  <a:pt x="9897" y="9203"/>
                </a:cubicBezTo>
                <a:cubicBezTo>
                  <a:pt x="9918" y="9248"/>
                  <a:pt x="9923" y="9326"/>
                  <a:pt x="9947" y="9302"/>
                </a:cubicBezTo>
              </a:path>
              <a:path w="3251" h="2259">
                <a:moveTo>
                  <a:pt x="9823" y="8384"/>
                </a:moveTo>
                <a:cubicBezTo>
                  <a:pt x="9860" y="8222"/>
                  <a:pt x="9839" y="8210"/>
                  <a:pt x="9996" y="8210"/>
                </a:cubicBezTo>
                <a:cubicBezTo>
                  <a:pt x="10111" y="8210"/>
                  <a:pt x="10103" y="8319"/>
                  <a:pt x="10071" y="8409"/>
                </a:cubicBezTo>
                <a:cubicBezTo>
                  <a:pt x="10052" y="8463"/>
                  <a:pt x="9942" y="8488"/>
                  <a:pt x="9947" y="8558"/>
                </a:cubicBezTo>
                <a:cubicBezTo>
                  <a:pt x="9952" y="8620"/>
                  <a:pt x="10080" y="8630"/>
                  <a:pt x="10120" y="8632"/>
                </a:cubicBezTo>
                <a:cubicBezTo>
                  <a:pt x="10210" y="8636"/>
                  <a:pt x="10280" y="8658"/>
                  <a:pt x="10368" y="8682"/>
                </a:cubicBezTo>
              </a:path>
              <a:path w="3251" h="2259">
                <a:moveTo>
                  <a:pt x="10294" y="9426"/>
                </a:moveTo>
                <a:cubicBezTo>
                  <a:pt x="10056" y="9443"/>
                  <a:pt x="9917" y="9442"/>
                  <a:pt x="9699" y="9426"/>
                </a:cubicBezTo>
                <a:cubicBezTo>
                  <a:pt x="9542" y="9414"/>
                  <a:pt x="9383" y="9405"/>
                  <a:pt x="9227" y="9401"/>
                </a:cubicBezTo>
                <a:cubicBezTo>
                  <a:pt x="9077" y="9397"/>
                  <a:pt x="8932" y="9376"/>
                  <a:pt x="8781" y="9376"/>
                </a:cubicBezTo>
                <a:cubicBezTo>
                  <a:pt x="8656" y="9376"/>
                  <a:pt x="8465" y="9338"/>
                  <a:pt x="8359" y="9401"/>
                </a:cubicBezTo>
              </a:path>
              <a:path w="3251" h="2259">
                <a:moveTo>
                  <a:pt x="9351" y="9773"/>
                </a:moveTo>
                <a:cubicBezTo>
                  <a:pt x="9343" y="9790"/>
                  <a:pt x="9335" y="9806"/>
                  <a:pt x="9327" y="9823"/>
                </a:cubicBezTo>
                <a:cubicBezTo>
                  <a:pt x="9315" y="9727"/>
                  <a:pt x="9298" y="9728"/>
                  <a:pt x="9227" y="9674"/>
                </a:cubicBezTo>
                <a:cubicBezTo>
                  <a:pt x="9169" y="9630"/>
                  <a:pt x="9093" y="9663"/>
                  <a:pt x="9029" y="9699"/>
                </a:cubicBezTo>
                <a:cubicBezTo>
                  <a:pt x="8981" y="9726"/>
                  <a:pt x="8919" y="9763"/>
                  <a:pt x="8905" y="9823"/>
                </a:cubicBezTo>
                <a:cubicBezTo>
                  <a:pt x="8892" y="9879"/>
                  <a:pt x="8863" y="9961"/>
                  <a:pt x="8880" y="10021"/>
                </a:cubicBezTo>
                <a:cubicBezTo>
                  <a:pt x="8900" y="10093"/>
                  <a:pt x="8949" y="10225"/>
                  <a:pt x="9004" y="10269"/>
                </a:cubicBezTo>
                <a:cubicBezTo>
                  <a:pt x="9042" y="10299"/>
                  <a:pt x="9155" y="10342"/>
                  <a:pt x="9203" y="10344"/>
                </a:cubicBezTo>
                <a:cubicBezTo>
                  <a:pt x="9228" y="10344"/>
                  <a:pt x="9252" y="10344"/>
                  <a:pt x="9277" y="10344"/>
                </a:cubicBezTo>
              </a:path>
              <a:path w="3251" h="2259">
                <a:moveTo>
                  <a:pt x="9451" y="9872"/>
                </a:moveTo>
                <a:cubicBezTo>
                  <a:pt x="9392" y="10004"/>
                  <a:pt x="9362" y="10025"/>
                  <a:pt x="9426" y="10145"/>
                </a:cubicBezTo>
                <a:cubicBezTo>
                  <a:pt x="9463" y="10215"/>
                  <a:pt x="9509" y="10280"/>
                  <a:pt x="9575" y="10319"/>
                </a:cubicBezTo>
                <a:cubicBezTo>
                  <a:pt x="9685" y="10384"/>
                  <a:pt x="9762" y="10380"/>
                  <a:pt x="9872" y="10319"/>
                </a:cubicBezTo>
                <a:cubicBezTo>
                  <a:pt x="9918" y="10294"/>
                  <a:pt x="9951" y="10160"/>
                  <a:pt x="9947" y="10120"/>
                </a:cubicBezTo>
                <a:cubicBezTo>
                  <a:pt x="9940" y="10054"/>
                  <a:pt x="9923" y="9959"/>
                  <a:pt x="9897" y="9897"/>
                </a:cubicBezTo>
                <a:cubicBezTo>
                  <a:pt x="9857" y="9802"/>
                  <a:pt x="9811" y="9766"/>
                  <a:pt x="9723" y="9723"/>
                </a:cubicBezTo>
                <a:cubicBezTo>
                  <a:pt x="9675" y="9699"/>
                  <a:pt x="9579" y="9679"/>
                  <a:pt x="9525" y="9699"/>
                </a:cubicBezTo>
                <a:cubicBezTo>
                  <a:pt x="9493" y="9711"/>
                  <a:pt x="9433" y="9796"/>
                  <a:pt x="9426" y="9823"/>
                </a:cubicBezTo>
                <a:cubicBezTo>
                  <a:pt x="9409" y="9888"/>
                  <a:pt x="9460" y="9932"/>
                  <a:pt x="9500" y="9971"/>
                </a:cubicBezTo>
              </a:path>
              <a:path w="3251" h="2259">
                <a:moveTo>
                  <a:pt x="10220" y="9798"/>
                </a:moveTo>
                <a:cubicBezTo>
                  <a:pt x="10168" y="9767"/>
                  <a:pt x="10122" y="9757"/>
                  <a:pt x="10071" y="9798"/>
                </a:cubicBezTo>
                <a:cubicBezTo>
                  <a:pt x="10020" y="9839"/>
                  <a:pt x="9984" y="9859"/>
                  <a:pt x="10021" y="9922"/>
                </a:cubicBezTo>
                <a:cubicBezTo>
                  <a:pt x="10049" y="9971"/>
                  <a:pt x="10127" y="10040"/>
                  <a:pt x="10170" y="10071"/>
                </a:cubicBezTo>
                <a:cubicBezTo>
                  <a:pt x="10239" y="10121"/>
                  <a:pt x="10468" y="10230"/>
                  <a:pt x="10468" y="10344"/>
                </a:cubicBezTo>
                <a:cubicBezTo>
                  <a:pt x="10468" y="10425"/>
                  <a:pt x="10409" y="10464"/>
                  <a:pt x="10344" y="10468"/>
                </a:cubicBezTo>
                <a:cubicBezTo>
                  <a:pt x="10262" y="10473"/>
                  <a:pt x="10218" y="10455"/>
                  <a:pt x="10145" y="10418"/>
                </a:cubicBezTo>
                <a:cubicBezTo>
                  <a:pt x="10096" y="10393"/>
                  <a:pt x="10046" y="10368"/>
                  <a:pt x="9996" y="103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Ink 12"/>
          <p:cNvSpPr/>
          <p:nvPr/>
        </p:nvSpPr>
        <p:spPr>
          <a:xfrm>
            <a:off x="1160640" y="3098880"/>
            <a:ext cx="3179520" cy="2098440"/>
          </a:xfrm>
          <a:custGeom>
            <a:avLst/>
            <a:gdLst/>
            <a:ahLst/>
            <a:rect l="l" t="t" r="r" b="b"/>
            <a:pathLst>
              <a:path w="8831" h="5830">
                <a:moveTo>
                  <a:pt x="4490" y="9327"/>
                </a:moveTo>
                <a:cubicBezTo>
                  <a:pt x="4548" y="9267"/>
                  <a:pt x="4549" y="9256"/>
                  <a:pt x="4638" y="9252"/>
                </a:cubicBezTo>
                <a:cubicBezTo>
                  <a:pt x="5060" y="9231"/>
                  <a:pt x="5484" y="9255"/>
                  <a:pt x="5904" y="9227"/>
                </a:cubicBezTo>
                <a:cubicBezTo>
                  <a:pt x="6063" y="9217"/>
                  <a:pt x="6219" y="9220"/>
                  <a:pt x="6375" y="9203"/>
                </a:cubicBezTo>
                <a:cubicBezTo>
                  <a:pt x="6405" y="9200"/>
                  <a:pt x="6574" y="9178"/>
                  <a:pt x="6449" y="9203"/>
                </a:cubicBezTo>
              </a:path>
              <a:path w="8831" h="5830">
                <a:moveTo>
                  <a:pt x="3646" y="8731"/>
                </a:moveTo>
                <a:cubicBezTo>
                  <a:pt x="3636" y="8659"/>
                  <a:pt x="3625" y="8636"/>
                  <a:pt x="3547" y="8632"/>
                </a:cubicBezTo>
                <a:cubicBezTo>
                  <a:pt x="3461" y="8628"/>
                  <a:pt x="3378" y="8660"/>
                  <a:pt x="3324" y="8731"/>
                </a:cubicBezTo>
                <a:cubicBezTo>
                  <a:pt x="3291" y="8775"/>
                  <a:pt x="3237" y="8851"/>
                  <a:pt x="3225" y="8905"/>
                </a:cubicBezTo>
                <a:cubicBezTo>
                  <a:pt x="3211" y="8969"/>
                  <a:pt x="3239" y="9096"/>
                  <a:pt x="3274" y="9153"/>
                </a:cubicBezTo>
                <a:cubicBezTo>
                  <a:pt x="3307" y="9206"/>
                  <a:pt x="3392" y="9215"/>
                  <a:pt x="3448" y="9203"/>
                </a:cubicBezTo>
                <a:cubicBezTo>
                  <a:pt x="3515" y="9180"/>
                  <a:pt x="3533" y="9175"/>
                  <a:pt x="3572" y="9153"/>
                </a:cubicBezTo>
              </a:path>
              <a:path w="8831" h="5830">
                <a:moveTo>
                  <a:pt x="3646" y="8781"/>
                </a:moveTo>
                <a:cubicBezTo>
                  <a:pt x="3630" y="8879"/>
                  <a:pt x="3585" y="9055"/>
                  <a:pt x="3696" y="9128"/>
                </a:cubicBezTo>
                <a:cubicBezTo>
                  <a:pt x="3749" y="9163"/>
                  <a:pt x="3852" y="9114"/>
                  <a:pt x="3894" y="9079"/>
                </a:cubicBezTo>
                <a:cubicBezTo>
                  <a:pt x="3947" y="9035"/>
                  <a:pt x="4005" y="8980"/>
                  <a:pt x="3994" y="8905"/>
                </a:cubicBezTo>
                <a:cubicBezTo>
                  <a:pt x="3979" y="8803"/>
                  <a:pt x="3942" y="8761"/>
                  <a:pt x="3845" y="8731"/>
                </a:cubicBezTo>
                <a:cubicBezTo>
                  <a:pt x="3783" y="8712"/>
                  <a:pt x="3703" y="8740"/>
                  <a:pt x="3646" y="8756"/>
                </a:cubicBezTo>
              </a:path>
              <a:path w="8831" h="5830">
                <a:moveTo>
                  <a:pt x="4217" y="8607"/>
                </a:moveTo>
                <a:cubicBezTo>
                  <a:pt x="4141" y="8641"/>
                  <a:pt x="4038" y="8645"/>
                  <a:pt x="4068" y="8756"/>
                </a:cubicBezTo>
                <a:cubicBezTo>
                  <a:pt x="4080" y="8802"/>
                  <a:pt x="4185" y="8888"/>
                  <a:pt x="4217" y="8930"/>
                </a:cubicBezTo>
                <a:cubicBezTo>
                  <a:pt x="4245" y="8967"/>
                  <a:pt x="4257" y="9035"/>
                  <a:pt x="4192" y="9054"/>
                </a:cubicBezTo>
                <a:cubicBezTo>
                  <a:pt x="4128" y="9072"/>
                  <a:pt x="4077" y="9086"/>
                  <a:pt x="4018" y="9128"/>
                </a:cubicBezTo>
              </a:path>
              <a:path w="8831" h="5830">
                <a:moveTo>
                  <a:pt x="3845" y="9823"/>
                </a:moveTo>
                <a:cubicBezTo>
                  <a:pt x="3868" y="9890"/>
                  <a:pt x="3873" y="9908"/>
                  <a:pt x="3894" y="9947"/>
                </a:cubicBezTo>
                <a:cubicBezTo>
                  <a:pt x="3913" y="9898"/>
                  <a:pt x="3890" y="9806"/>
                  <a:pt x="3820" y="9773"/>
                </a:cubicBezTo>
                <a:cubicBezTo>
                  <a:pt x="3730" y="9731"/>
                  <a:pt x="3689" y="9790"/>
                  <a:pt x="3646" y="9847"/>
                </a:cubicBezTo>
                <a:cubicBezTo>
                  <a:pt x="3608" y="9897"/>
                  <a:pt x="3582" y="9959"/>
                  <a:pt x="3572" y="10021"/>
                </a:cubicBezTo>
                <a:cubicBezTo>
                  <a:pt x="3561" y="10085"/>
                  <a:pt x="3621" y="10231"/>
                  <a:pt x="3671" y="10269"/>
                </a:cubicBezTo>
                <a:cubicBezTo>
                  <a:pt x="3736" y="10319"/>
                  <a:pt x="3852" y="10295"/>
                  <a:pt x="3919" y="10269"/>
                </a:cubicBezTo>
                <a:cubicBezTo>
                  <a:pt x="3973" y="10242"/>
                  <a:pt x="3993" y="10231"/>
                  <a:pt x="4018" y="10195"/>
                </a:cubicBezTo>
              </a:path>
              <a:path w="8831" h="5830">
                <a:moveTo>
                  <a:pt x="4118" y="9798"/>
                </a:moveTo>
                <a:cubicBezTo>
                  <a:pt x="4063" y="9860"/>
                  <a:pt x="4032" y="9915"/>
                  <a:pt x="4018" y="9996"/>
                </a:cubicBezTo>
                <a:cubicBezTo>
                  <a:pt x="4008" y="10056"/>
                  <a:pt x="4021" y="10151"/>
                  <a:pt x="4068" y="10195"/>
                </a:cubicBezTo>
                <a:cubicBezTo>
                  <a:pt x="4140" y="10262"/>
                  <a:pt x="4240" y="10301"/>
                  <a:pt x="4341" y="10269"/>
                </a:cubicBezTo>
                <a:cubicBezTo>
                  <a:pt x="4391" y="10253"/>
                  <a:pt x="4437" y="10113"/>
                  <a:pt x="4440" y="10071"/>
                </a:cubicBezTo>
                <a:cubicBezTo>
                  <a:pt x="4445" y="9981"/>
                  <a:pt x="4402" y="9918"/>
                  <a:pt x="4316" y="9897"/>
                </a:cubicBezTo>
                <a:cubicBezTo>
                  <a:pt x="4252" y="9881"/>
                  <a:pt x="4199" y="9920"/>
                  <a:pt x="4167" y="9872"/>
                </a:cubicBezTo>
              </a:path>
              <a:path w="8831" h="5830">
                <a:moveTo>
                  <a:pt x="4762" y="9748"/>
                </a:moveTo>
                <a:cubicBezTo>
                  <a:pt x="4743" y="9754"/>
                  <a:pt x="4531" y="9787"/>
                  <a:pt x="4514" y="9847"/>
                </a:cubicBezTo>
                <a:cubicBezTo>
                  <a:pt x="4496" y="9909"/>
                  <a:pt x="4580" y="9957"/>
                  <a:pt x="4614" y="9996"/>
                </a:cubicBezTo>
                <a:cubicBezTo>
                  <a:pt x="4642" y="10027"/>
                  <a:pt x="4767" y="10096"/>
                  <a:pt x="4762" y="10145"/>
                </a:cubicBezTo>
                <a:cubicBezTo>
                  <a:pt x="4755" y="10221"/>
                  <a:pt x="4605" y="10195"/>
                  <a:pt x="4564" y="10195"/>
                </a:cubicBezTo>
                <a:cubicBezTo>
                  <a:pt x="4514" y="10195"/>
                  <a:pt x="4465" y="10195"/>
                  <a:pt x="4415" y="10195"/>
                </a:cubicBezTo>
              </a:path>
              <a:path w="8831" h="5830">
                <a:moveTo>
                  <a:pt x="5184" y="11137"/>
                </a:moveTo>
                <a:cubicBezTo>
                  <a:pt x="5208" y="11185"/>
                  <a:pt x="5216" y="11200"/>
                  <a:pt x="5209" y="11237"/>
                </a:cubicBezTo>
                <a:cubicBezTo>
                  <a:pt x="5202" y="11170"/>
                  <a:pt x="5200" y="11115"/>
                  <a:pt x="5159" y="11063"/>
                </a:cubicBezTo>
                <a:cubicBezTo>
                  <a:pt x="5119" y="11012"/>
                  <a:pt x="5025" y="10972"/>
                  <a:pt x="4961" y="10988"/>
                </a:cubicBezTo>
                <a:cubicBezTo>
                  <a:pt x="4886" y="11007"/>
                  <a:pt x="4811" y="11094"/>
                  <a:pt x="4787" y="11162"/>
                </a:cubicBezTo>
                <a:cubicBezTo>
                  <a:pt x="4768" y="11215"/>
                  <a:pt x="4747" y="11299"/>
                  <a:pt x="4762" y="11361"/>
                </a:cubicBezTo>
                <a:cubicBezTo>
                  <a:pt x="4779" y="11432"/>
                  <a:pt x="4845" y="11528"/>
                  <a:pt x="4887" y="11584"/>
                </a:cubicBezTo>
                <a:cubicBezTo>
                  <a:pt x="4923" y="11632"/>
                  <a:pt x="5003" y="11697"/>
                  <a:pt x="5060" y="11708"/>
                </a:cubicBezTo>
                <a:cubicBezTo>
                  <a:pt x="5126" y="11708"/>
                  <a:pt x="5143" y="11708"/>
                  <a:pt x="5184" y="11708"/>
                </a:cubicBezTo>
              </a:path>
              <a:path w="8831" h="5830">
                <a:moveTo>
                  <a:pt x="5383" y="11286"/>
                </a:moveTo>
                <a:cubicBezTo>
                  <a:pt x="5373" y="11371"/>
                  <a:pt x="5318" y="11551"/>
                  <a:pt x="5407" y="11633"/>
                </a:cubicBezTo>
                <a:cubicBezTo>
                  <a:pt x="5454" y="11676"/>
                  <a:pt x="5520" y="11705"/>
                  <a:pt x="5581" y="11708"/>
                </a:cubicBezTo>
                <a:cubicBezTo>
                  <a:pt x="5665" y="11713"/>
                  <a:pt x="5668" y="11698"/>
                  <a:pt x="5730" y="11658"/>
                </a:cubicBezTo>
                <a:cubicBezTo>
                  <a:pt x="5817" y="11601"/>
                  <a:pt x="5849" y="11513"/>
                  <a:pt x="5854" y="11410"/>
                </a:cubicBezTo>
                <a:cubicBezTo>
                  <a:pt x="5858" y="11334"/>
                  <a:pt x="5814" y="11296"/>
                  <a:pt x="5779" y="11237"/>
                </a:cubicBezTo>
                <a:cubicBezTo>
                  <a:pt x="5734" y="11161"/>
                  <a:pt x="5700" y="11110"/>
                  <a:pt x="5606" y="11088"/>
                </a:cubicBezTo>
                <a:cubicBezTo>
                  <a:pt x="5485" y="11060"/>
                  <a:pt x="5424" y="11213"/>
                  <a:pt x="5432" y="11311"/>
                </a:cubicBezTo>
                <a:cubicBezTo>
                  <a:pt x="5437" y="11366"/>
                  <a:pt x="5495" y="11423"/>
                  <a:pt x="5531" y="11460"/>
                </a:cubicBezTo>
              </a:path>
              <a:path w="8831" h="5830">
                <a:moveTo>
                  <a:pt x="6176" y="11088"/>
                </a:moveTo>
                <a:cubicBezTo>
                  <a:pt x="6130" y="11088"/>
                  <a:pt x="6046" y="11074"/>
                  <a:pt x="6028" y="11137"/>
                </a:cubicBezTo>
                <a:cubicBezTo>
                  <a:pt x="6007" y="11213"/>
                  <a:pt x="6085" y="11221"/>
                  <a:pt x="6127" y="11261"/>
                </a:cubicBezTo>
                <a:cubicBezTo>
                  <a:pt x="6187" y="11317"/>
                  <a:pt x="6241" y="11360"/>
                  <a:pt x="6300" y="11410"/>
                </a:cubicBezTo>
                <a:cubicBezTo>
                  <a:pt x="6370" y="11469"/>
                  <a:pt x="6345" y="11523"/>
                  <a:pt x="6300" y="11584"/>
                </a:cubicBezTo>
                <a:cubicBezTo>
                  <a:pt x="6264" y="11633"/>
                  <a:pt x="6148" y="11604"/>
                  <a:pt x="6102" y="11584"/>
                </a:cubicBezTo>
                <a:cubicBezTo>
                  <a:pt x="6063" y="11567"/>
                  <a:pt x="6041" y="11517"/>
                  <a:pt x="6028" y="11485"/>
                </a:cubicBezTo>
              </a:path>
              <a:path w="8831" h="5830">
                <a:moveTo>
                  <a:pt x="6375" y="10616"/>
                </a:moveTo>
                <a:cubicBezTo>
                  <a:pt x="6502" y="10568"/>
                  <a:pt x="6467" y="10560"/>
                  <a:pt x="6548" y="10641"/>
                </a:cubicBezTo>
                <a:cubicBezTo>
                  <a:pt x="6605" y="10698"/>
                  <a:pt x="6597" y="10719"/>
                  <a:pt x="6548" y="10790"/>
                </a:cubicBezTo>
                <a:cubicBezTo>
                  <a:pt x="6523" y="10827"/>
                  <a:pt x="6480" y="10858"/>
                  <a:pt x="6449" y="10889"/>
                </a:cubicBezTo>
                <a:cubicBezTo>
                  <a:pt x="6545" y="10925"/>
                  <a:pt x="6648" y="10941"/>
                  <a:pt x="6747" y="10964"/>
                </a:cubicBezTo>
                <a:cubicBezTo>
                  <a:pt x="6772" y="10972"/>
                  <a:pt x="6796" y="10980"/>
                  <a:pt x="6821" y="10988"/>
                </a:cubicBezTo>
              </a:path>
              <a:path w="8831" h="5830">
                <a:moveTo>
                  <a:pt x="4986" y="11782"/>
                </a:moveTo>
                <a:cubicBezTo>
                  <a:pt x="5107" y="11782"/>
                  <a:pt x="5210" y="11766"/>
                  <a:pt x="5333" y="11757"/>
                </a:cubicBezTo>
                <a:cubicBezTo>
                  <a:pt x="5474" y="11747"/>
                  <a:pt x="5615" y="11751"/>
                  <a:pt x="5755" y="11733"/>
                </a:cubicBezTo>
                <a:cubicBezTo>
                  <a:pt x="5993" y="11703"/>
                  <a:pt x="6239" y="11679"/>
                  <a:pt x="6474" y="11658"/>
                </a:cubicBezTo>
                <a:cubicBezTo>
                  <a:pt x="6548" y="11651"/>
                  <a:pt x="6787" y="11700"/>
                  <a:pt x="6697" y="11633"/>
                </a:cubicBezTo>
              </a:path>
              <a:path w="8831" h="5830">
                <a:moveTo>
                  <a:pt x="5705" y="12229"/>
                </a:moveTo>
                <a:cubicBezTo>
                  <a:pt x="5705" y="12245"/>
                  <a:pt x="5705" y="12262"/>
                  <a:pt x="5705" y="12278"/>
                </a:cubicBezTo>
                <a:cubicBezTo>
                  <a:pt x="5757" y="12214"/>
                  <a:pt x="5757" y="12197"/>
                  <a:pt x="5705" y="12129"/>
                </a:cubicBezTo>
                <a:cubicBezTo>
                  <a:pt x="5654" y="12063"/>
                  <a:pt x="5600" y="12056"/>
                  <a:pt x="5531" y="12080"/>
                </a:cubicBezTo>
                <a:cubicBezTo>
                  <a:pt x="5476" y="12099"/>
                  <a:pt x="5414" y="12157"/>
                  <a:pt x="5383" y="12204"/>
                </a:cubicBezTo>
                <a:cubicBezTo>
                  <a:pt x="5352" y="12251"/>
                  <a:pt x="5343" y="12347"/>
                  <a:pt x="5358" y="12402"/>
                </a:cubicBezTo>
                <a:cubicBezTo>
                  <a:pt x="5387" y="12504"/>
                  <a:pt x="5435" y="12533"/>
                  <a:pt x="5507" y="12601"/>
                </a:cubicBezTo>
                <a:cubicBezTo>
                  <a:pt x="5572" y="12661"/>
                  <a:pt x="5647" y="12650"/>
                  <a:pt x="5730" y="12650"/>
                </a:cubicBezTo>
              </a:path>
              <a:path w="8831" h="5830">
                <a:moveTo>
                  <a:pt x="6028" y="12154"/>
                </a:moveTo>
                <a:cubicBezTo>
                  <a:pt x="5961" y="12236"/>
                  <a:pt x="5934" y="12271"/>
                  <a:pt x="5928" y="12378"/>
                </a:cubicBezTo>
                <a:cubicBezTo>
                  <a:pt x="5924" y="12446"/>
                  <a:pt x="5961" y="12525"/>
                  <a:pt x="6003" y="12576"/>
                </a:cubicBezTo>
                <a:cubicBezTo>
                  <a:pt x="6051" y="12634"/>
                  <a:pt x="6151" y="12688"/>
                  <a:pt x="6226" y="12675"/>
                </a:cubicBezTo>
                <a:cubicBezTo>
                  <a:pt x="6264" y="12668"/>
                  <a:pt x="6311" y="12577"/>
                  <a:pt x="6325" y="12551"/>
                </a:cubicBezTo>
                <a:cubicBezTo>
                  <a:pt x="6359" y="12488"/>
                  <a:pt x="6396" y="12402"/>
                  <a:pt x="6375" y="12328"/>
                </a:cubicBezTo>
                <a:cubicBezTo>
                  <a:pt x="6357" y="12264"/>
                  <a:pt x="6345" y="12205"/>
                  <a:pt x="6300" y="12154"/>
                </a:cubicBezTo>
                <a:cubicBezTo>
                  <a:pt x="6246" y="12092"/>
                  <a:pt x="6192" y="12061"/>
                  <a:pt x="6102" y="12080"/>
                </a:cubicBezTo>
                <a:cubicBezTo>
                  <a:pt x="6087" y="12083"/>
                  <a:pt x="6007" y="12164"/>
                  <a:pt x="6003" y="12179"/>
                </a:cubicBezTo>
                <a:cubicBezTo>
                  <a:pt x="5980" y="12261"/>
                  <a:pt x="6009" y="12319"/>
                  <a:pt x="6052" y="12378"/>
                </a:cubicBezTo>
              </a:path>
              <a:path w="8831" h="5830">
                <a:moveTo>
                  <a:pt x="6672" y="12154"/>
                </a:moveTo>
                <a:cubicBezTo>
                  <a:pt x="6596" y="12106"/>
                  <a:pt x="6621" y="12096"/>
                  <a:pt x="6548" y="12154"/>
                </a:cubicBezTo>
                <a:cubicBezTo>
                  <a:pt x="6594" y="12211"/>
                  <a:pt x="6621" y="12273"/>
                  <a:pt x="6672" y="12328"/>
                </a:cubicBezTo>
                <a:cubicBezTo>
                  <a:pt x="6724" y="12385"/>
                  <a:pt x="6816" y="12426"/>
                  <a:pt x="6846" y="12502"/>
                </a:cubicBezTo>
                <a:cubicBezTo>
                  <a:pt x="6860" y="12538"/>
                  <a:pt x="6898" y="12644"/>
                  <a:pt x="6846" y="12675"/>
                </a:cubicBezTo>
                <a:cubicBezTo>
                  <a:pt x="6795" y="12706"/>
                  <a:pt x="6689" y="12654"/>
                  <a:pt x="6648" y="12626"/>
                </a:cubicBezTo>
                <a:cubicBezTo>
                  <a:pt x="6591" y="12586"/>
                  <a:pt x="6499" y="12562"/>
                  <a:pt x="6499" y="12477"/>
                </a:cubicBezTo>
                <a:cubicBezTo>
                  <a:pt x="6507" y="12469"/>
                  <a:pt x="6516" y="12460"/>
                  <a:pt x="6524" y="12452"/>
                </a:cubicBezTo>
              </a:path>
              <a:path w="8831" h="5830">
                <a:moveTo>
                  <a:pt x="7590" y="11584"/>
                </a:moveTo>
                <a:cubicBezTo>
                  <a:pt x="7590" y="11697"/>
                  <a:pt x="7584" y="11824"/>
                  <a:pt x="7615" y="11931"/>
                </a:cubicBezTo>
                <a:cubicBezTo>
                  <a:pt x="7630" y="11982"/>
                  <a:pt x="7656" y="12026"/>
                  <a:pt x="7665" y="12080"/>
                </a:cubicBezTo>
              </a:path>
              <a:path w="8831" h="5830">
                <a:moveTo>
                  <a:pt x="7441" y="11757"/>
                </a:moveTo>
                <a:cubicBezTo>
                  <a:pt x="7516" y="11716"/>
                  <a:pt x="7611" y="11716"/>
                  <a:pt x="7714" y="11733"/>
                </a:cubicBezTo>
                <a:cubicBezTo>
                  <a:pt x="7787" y="11757"/>
                  <a:pt x="7811" y="11765"/>
                  <a:pt x="7863" y="11757"/>
                </a:cubicBezTo>
              </a:path>
              <a:path w="8831" h="5830">
                <a:moveTo>
                  <a:pt x="8706" y="11112"/>
                </a:moveTo>
                <a:cubicBezTo>
                  <a:pt x="8623" y="11076"/>
                  <a:pt x="8500" y="11005"/>
                  <a:pt x="8409" y="11063"/>
                </a:cubicBezTo>
                <a:cubicBezTo>
                  <a:pt x="8401" y="11079"/>
                  <a:pt x="8392" y="11096"/>
                  <a:pt x="8384" y="11112"/>
                </a:cubicBezTo>
                <a:cubicBezTo>
                  <a:pt x="8396" y="11194"/>
                  <a:pt x="8423" y="11208"/>
                  <a:pt x="8483" y="11261"/>
                </a:cubicBezTo>
                <a:cubicBezTo>
                  <a:pt x="8555" y="11324"/>
                  <a:pt x="8646" y="11388"/>
                  <a:pt x="8706" y="11460"/>
                </a:cubicBezTo>
                <a:cubicBezTo>
                  <a:pt x="8749" y="11512"/>
                  <a:pt x="8886" y="11656"/>
                  <a:pt x="8880" y="11733"/>
                </a:cubicBezTo>
                <a:cubicBezTo>
                  <a:pt x="8875" y="11796"/>
                  <a:pt x="8743" y="11792"/>
                  <a:pt x="8706" y="11782"/>
                </a:cubicBezTo>
                <a:cubicBezTo>
                  <a:pt x="8624" y="11760"/>
                  <a:pt x="8601" y="11728"/>
                  <a:pt x="8533" y="11683"/>
                </a:cubicBezTo>
                <a:cubicBezTo>
                  <a:pt x="8492" y="11656"/>
                  <a:pt x="8469" y="11644"/>
                  <a:pt x="8434" y="11609"/>
                </a:cubicBezTo>
              </a:path>
              <a:path w="8831" h="5830">
                <a:moveTo>
                  <a:pt x="9054" y="11237"/>
                </a:moveTo>
                <a:cubicBezTo>
                  <a:pt x="9054" y="11327"/>
                  <a:pt x="9074" y="11400"/>
                  <a:pt x="9079" y="11485"/>
                </a:cubicBezTo>
                <a:cubicBezTo>
                  <a:pt x="9083" y="11549"/>
                  <a:pt x="9093" y="11605"/>
                  <a:pt x="9103" y="11658"/>
                </a:cubicBezTo>
                <a:cubicBezTo>
                  <a:pt x="9103" y="11700"/>
                  <a:pt x="9103" y="11725"/>
                  <a:pt x="9103" y="11683"/>
                </a:cubicBezTo>
              </a:path>
              <a:path w="8831" h="5830">
                <a:moveTo>
                  <a:pt x="9029" y="10964"/>
                </a:moveTo>
                <a:cubicBezTo>
                  <a:pt x="9052" y="10873"/>
                  <a:pt x="9050" y="10840"/>
                  <a:pt x="9128" y="10864"/>
                </a:cubicBezTo>
              </a:path>
              <a:path w="8831" h="5830">
                <a:moveTo>
                  <a:pt x="9302" y="11559"/>
                </a:moveTo>
                <a:cubicBezTo>
                  <a:pt x="9302" y="11592"/>
                  <a:pt x="9302" y="11625"/>
                  <a:pt x="9302" y="11658"/>
                </a:cubicBezTo>
                <a:cubicBezTo>
                  <a:pt x="9302" y="11791"/>
                  <a:pt x="9323" y="11514"/>
                  <a:pt x="9327" y="11485"/>
                </a:cubicBezTo>
                <a:cubicBezTo>
                  <a:pt x="9337" y="11415"/>
                  <a:pt x="9326" y="11302"/>
                  <a:pt x="9351" y="11237"/>
                </a:cubicBezTo>
                <a:cubicBezTo>
                  <a:pt x="9368" y="11193"/>
                  <a:pt x="9417" y="11146"/>
                  <a:pt x="9451" y="11112"/>
                </a:cubicBezTo>
                <a:cubicBezTo>
                  <a:pt x="9481" y="11130"/>
                  <a:pt x="9563" y="11172"/>
                  <a:pt x="9575" y="11212"/>
                </a:cubicBezTo>
                <a:cubicBezTo>
                  <a:pt x="9597" y="11289"/>
                  <a:pt x="9619" y="11358"/>
                  <a:pt x="9649" y="11435"/>
                </a:cubicBezTo>
                <a:cubicBezTo>
                  <a:pt x="9675" y="11502"/>
                  <a:pt x="9696" y="11588"/>
                  <a:pt x="9699" y="11658"/>
                </a:cubicBezTo>
                <a:cubicBezTo>
                  <a:pt x="9701" y="11694"/>
                  <a:pt x="9708" y="11844"/>
                  <a:pt x="9748" y="11857"/>
                </a:cubicBezTo>
                <a:cubicBezTo>
                  <a:pt x="9748" y="11849"/>
                  <a:pt x="9748" y="11840"/>
                  <a:pt x="9748" y="11832"/>
                </a:cubicBezTo>
              </a:path>
              <a:path w="8831" h="5830">
                <a:moveTo>
                  <a:pt x="9748" y="10815"/>
                </a:moveTo>
                <a:cubicBezTo>
                  <a:pt x="9796" y="10720"/>
                  <a:pt x="9808" y="10704"/>
                  <a:pt x="9897" y="10716"/>
                </a:cubicBezTo>
                <a:cubicBezTo>
                  <a:pt x="9969" y="10726"/>
                  <a:pt x="9992" y="10767"/>
                  <a:pt x="9996" y="10840"/>
                </a:cubicBezTo>
                <a:cubicBezTo>
                  <a:pt x="10001" y="10924"/>
                  <a:pt x="9952" y="10959"/>
                  <a:pt x="9897" y="11013"/>
                </a:cubicBezTo>
                <a:cubicBezTo>
                  <a:pt x="9872" y="11038"/>
                  <a:pt x="9864" y="11046"/>
                  <a:pt x="9847" y="11063"/>
                </a:cubicBezTo>
                <a:cubicBezTo>
                  <a:pt x="9901" y="11130"/>
                  <a:pt x="9926" y="11169"/>
                  <a:pt x="10021" y="11187"/>
                </a:cubicBezTo>
                <a:cubicBezTo>
                  <a:pt x="10080" y="11187"/>
                  <a:pt x="10106" y="11190"/>
                  <a:pt x="10145" y="11212"/>
                </a:cubicBezTo>
              </a:path>
              <a:path w="8831" h="5830">
                <a:moveTo>
                  <a:pt x="10517" y="11683"/>
                </a:moveTo>
                <a:cubicBezTo>
                  <a:pt x="10418" y="11741"/>
                  <a:pt x="10334" y="11796"/>
                  <a:pt x="10220" y="11807"/>
                </a:cubicBezTo>
                <a:cubicBezTo>
                  <a:pt x="10060" y="11823"/>
                  <a:pt x="9903" y="11790"/>
                  <a:pt x="9748" y="11782"/>
                </a:cubicBezTo>
                <a:cubicBezTo>
                  <a:pt x="9499" y="11770"/>
                  <a:pt x="9251" y="11775"/>
                  <a:pt x="9004" y="11757"/>
                </a:cubicBezTo>
                <a:cubicBezTo>
                  <a:pt x="8858" y="11746"/>
                  <a:pt x="8703" y="11793"/>
                  <a:pt x="8558" y="11807"/>
                </a:cubicBezTo>
                <a:cubicBezTo>
                  <a:pt x="8506" y="11807"/>
                  <a:pt x="8488" y="11808"/>
                  <a:pt x="8458" y="11832"/>
                </a:cubicBezTo>
              </a:path>
              <a:path w="8831" h="5830">
                <a:moveTo>
                  <a:pt x="9327" y="12204"/>
                </a:moveTo>
                <a:cubicBezTo>
                  <a:pt x="9276" y="12140"/>
                  <a:pt x="9270" y="12098"/>
                  <a:pt x="9178" y="12080"/>
                </a:cubicBezTo>
                <a:cubicBezTo>
                  <a:pt x="9108" y="12066"/>
                  <a:pt x="9005" y="12112"/>
                  <a:pt x="8954" y="12154"/>
                </a:cubicBezTo>
                <a:cubicBezTo>
                  <a:pt x="8896" y="12202"/>
                  <a:pt x="8884" y="12255"/>
                  <a:pt x="8880" y="12328"/>
                </a:cubicBezTo>
                <a:cubicBezTo>
                  <a:pt x="8873" y="12467"/>
                  <a:pt x="8988" y="12502"/>
                  <a:pt x="9079" y="12576"/>
                </a:cubicBezTo>
                <a:cubicBezTo>
                  <a:pt x="9166" y="12647"/>
                  <a:pt x="9215" y="12650"/>
                  <a:pt x="9327" y="12650"/>
                </a:cubicBezTo>
              </a:path>
              <a:path w="8831" h="5830">
                <a:moveTo>
                  <a:pt x="9674" y="12303"/>
                </a:moveTo>
                <a:cubicBezTo>
                  <a:pt x="9570" y="12341"/>
                  <a:pt x="9500" y="12369"/>
                  <a:pt x="9525" y="12502"/>
                </a:cubicBezTo>
                <a:cubicBezTo>
                  <a:pt x="9538" y="12574"/>
                  <a:pt x="9618" y="12598"/>
                  <a:pt x="9674" y="12626"/>
                </a:cubicBezTo>
                <a:cubicBezTo>
                  <a:pt x="9789" y="12683"/>
                  <a:pt x="9827" y="12684"/>
                  <a:pt x="9922" y="12626"/>
                </a:cubicBezTo>
                <a:cubicBezTo>
                  <a:pt x="10000" y="12578"/>
                  <a:pt x="10037" y="12539"/>
                  <a:pt x="10046" y="12452"/>
                </a:cubicBezTo>
                <a:cubicBezTo>
                  <a:pt x="10054" y="12377"/>
                  <a:pt x="10004" y="12276"/>
                  <a:pt x="9947" y="12229"/>
                </a:cubicBezTo>
                <a:cubicBezTo>
                  <a:pt x="9907" y="12196"/>
                  <a:pt x="9824" y="12140"/>
                  <a:pt x="9773" y="12129"/>
                </a:cubicBezTo>
                <a:cubicBezTo>
                  <a:pt x="9685" y="12109"/>
                  <a:pt x="9710" y="12155"/>
                  <a:pt x="9723" y="12204"/>
                </a:cubicBezTo>
              </a:path>
              <a:path w="8831" h="5830">
                <a:moveTo>
                  <a:pt x="10145" y="12179"/>
                </a:moveTo>
                <a:cubicBezTo>
                  <a:pt x="10034" y="12179"/>
                  <a:pt x="10011" y="12152"/>
                  <a:pt x="9971" y="12204"/>
                </a:cubicBezTo>
                <a:cubicBezTo>
                  <a:pt x="10012" y="12296"/>
                  <a:pt x="10051" y="12386"/>
                  <a:pt x="10096" y="12477"/>
                </a:cubicBezTo>
                <a:cubicBezTo>
                  <a:pt x="10152" y="12590"/>
                  <a:pt x="10237" y="12645"/>
                  <a:pt x="10244" y="12774"/>
                </a:cubicBezTo>
                <a:cubicBezTo>
                  <a:pt x="10248" y="12853"/>
                  <a:pt x="10227" y="12858"/>
                  <a:pt x="10170" y="12898"/>
                </a:cubicBezTo>
                <a:cubicBezTo>
                  <a:pt x="10041" y="12802"/>
                  <a:pt x="9994" y="12823"/>
                  <a:pt x="10021" y="12675"/>
                </a:cubicBezTo>
              </a:path>
              <a:path w="8831" h="5830">
                <a:moveTo>
                  <a:pt x="11757" y="11658"/>
                </a:moveTo>
                <a:cubicBezTo>
                  <a:pt x="11842" y="11646"/>
                  <a:pt x="11983" y="11651"/>
                  <a:pt x="12055" y="11609"/>
                </a:cubicBezTo>
              </a:path>
              <a:path w="8831" h="5830">
                <a:moveTo>
                  <a:pt x="11807" y="11807"/>
                </a:moveTo>
                <a:cubicBezTo>
                  <a:pt x="11927" y="11903"/>
                  <a:pt x="11965" y="11934"/>
                  <a:pt x="12055" y="11981"/>
                </a:cubicBezTo>
              </a:path>
              <a:path w="8831" h="5830">
                <a:moveTo>
                  <a:pt x="6648" y="14139"/>
                </a:moveTo>
                <a:cubicBezTo>
                  <a:pt x="6898" y="14139"/>
                  <a:pt x="7145" y="14129"/>
                  <a:pt x="7392" y="14114"/>
                </a:cubicBezTo>
                <a:cubicBezTo>
                  <a:pt x="7639" y="14099"/>
                  <a:pt x="7890" y="14103"/>
                  <a:pt x="8136" y="14089"/>
                </a:cubicBezTo>
                <a:cubicBezTo>
                  <a:pt x="8343" y="14078"/>
                  <a:pt x="8550" y="14086"/>
                  <a:pt x="8756" y="14064"/>
                </a:cubicBezTo>
                <a:cubicBezTo>
                  <a:pt x="8996" y="14039"/>
                  <a:pt x="9235" y="14038"/>
                  <a:pt x="9475" y="14015"/>
                </a:cubicBezTo>
                <a:cubicBezTo>
                  <a:pt x="9600" y="14003"/>
                  <a:pt x="9750" y="13987"/>
                  <a:pt x="9872" y="13965"/>
                </a:cubicBezTo>
                <a:cubicBezTo>
                  <a:pt x="9938" y="13953"/>
                  <a:pt x="10033" y="13957"/>
                  <a:pt x="10096" y="13940"/>
                </a:cubicBezTo>
                <a:cubicBezTo>
                  <a:pt x="10104" y="13932"/>
                  <a:pt x="10112" y="13923"/>
                  <a:pt x="10120" y="13915"/>
                </a:cubicBezTo>
              </a:path>
              <a:path w="8831" h="5830">
                <a:moveTo>
                  <a:pt x="6896" y="13320"/>
                </a:moveTo>
                <a:cubicBezTo>
                  <a:pt x="7000" y="13426"/>
                  <a:pt x="6916" y="13331"/>
                  <a:pt x="6896" y="13295"/>
                </a:cubicBezTo>
              </a:path>
              <a:path w="8831" h="5830">
                <a:moveTo>
                  <a:pt x="6896" y="13320"/>
                </a:moveTo>
                <a:cubicBezTo>
                  <a:pt x="6863" y="13312"/>
                  <a:pt x="6829" y="13303"/>
                  <a:pt x="6796" y="13295"/>
                </a:cubicBezTo>
              </a:path>
              <a:path w="8831" h="5830">
                <a:moveTo>
                  <a:pt x="6796" y="13295"/>
                </a:moveTo>
                <a:cubicBezTo>
                  <a:pt x="6722" y="13306"/>
                  <a:pt x="6688" y="13327"/>
                  <a:pt x="6648" y="13395"/>
                </a:cubicBezTo>
                <a:cubicBezTo>
                  <a:pt x="6610" y="13459"/>
                  <a:pt x="6602" y="13545"/>
                  <a:pt x="6598" y="13618"/>
                </a:cubicBezTo>
                <a:cubicBezTo>
                  <a:pt x="6593" y="13728"/>
                  <a:pt x="6614" y="13809"/>
                  <a:pt x="6697" y="13891"/>
                </a:cubicBezTo>
                <a:cubicBezTo>
                  <a:pt x="6726" y="13920"/>
                  <a:pt x="6830" y="13975"/>
                  <a:pt x="6871" y="13965"/>
                </a:cubicBezTo>
                <a:cubicBezTo>
                  <a:pt x="6888" y="13957"/>
                  <a:pt x="6904" y="13948"/>
                  <a:pt x="6921" y="13940"/>
                </a:cubicBezTo>
              </a:path>
              <a:path w="8831" h="5830">
                <a:moveTo>
                  <a:pt x="7193" y="13419"/>
                </a:moveTo>
                <a:cubicBezTo>
                  <a:pt x="7137" y="13533"/>
                  <a:pt x="7119" y="13615"/>
                  <a:pt x="7119" y="13742"/>
                </a:cubicBezTo>
                <a:cubicBezTo>
                  <a:pt x="7119" y="13828"/>
                  <a:pt x="7111" y="13874"/>
                  <a:pt x="7169" y="13940"/>
                </a:cubicBezTo>
                <a:cubicBezTo>
                  <a:pt x="7231" y="14010"/>
                  <a:pt x="7295" y="13986"/>
                  <a:pt x="7367" y="13940"/>
                </a:cubicBezTo>
                <a:cubicBezTo>
                  <a:pt x="7422" y="13904"/>
                  <a:pt x="7446" y="13799"/>
                  <a:pt x="7466" y="13742"/>
                </a:cubicBezTo>
                <a:cubicBezTo>
                  <a:pt x="7501" y="13642"/>
                  <a:pt x="7509" y="13539"/>
                  <a:pt x="7466" y="13444"/>
                </a:cubicBezTo>
                <a:cubicBezTo>
                  <a:pt x="7439" y="13384"/>
                  <a:pt x="7414" y="13312"/>
                  <a:pt x="7342" y="13295"/>
                </a:cubicBezTo>
                <a:cubicBezTo>
                  <a:pt x="7288" y="13282"/>
                  <a:pt x="7209" y="13288"/>
                  <a:pt x="7169" y="13320"/>
                </a:cubicBezTo>
                <a:cubicBezTo>
                  <a:pt x="7122" y="13358"/>
                  <a:pt x="7145" y="13380"/>
                  <a:pt x="7169" y="13419"/>
                </a:cubicBezTo>
              </a:path>
              <a:path w="8831" h="5830">
                <a:moveTo>
                  <a:pt x="7739" y="13320"/>
                </a:moveTo>
                <a:cubicBezTo>
                  <a:pt x="7680" y="13298"/>
                  <a:pt x="7654" y="13295"/>
                  <a:pt x="7590" y="13295"/>
                </a:cubicBezTo>
                <a:cubicBezTo>
                  <a:pt x="7551" y="13411"/>
                  <a:pt x="7642" y="13437"/>
                  <a:pt x="7714" y="13519"/>
                </a:cubicBezTo>
                <a:cubicBezTo>
                  <a:pt x="7767" y="13580"/>
                  <a:pt x="7823" y="13687"/>
                  <a:pt x="7838" y="13767"/>
                </a:cubicBezTo>
                <a:cubicBezTo>
                  <a:pt x="7853" y="13848"/>
                  <a:pt x="7807" y="13887"/>
                  <a:pt x="7739" y="13891"/>
                </a:cubicBezTo>
                <a:cubicBezTo>
                  <a:pt x="7568" y="13901"/>
                  <a:pt x="7591" y="13883"/>
                  <a:pt x="7565" y="13717"/>
                </a:cubicBezTo>
              </a:path>
              <a:path w="8831" h="5830">
                <a:moveTo>
                  <a:pt x="7863" y="12874"/>
                </a:moveTo>
                <a:cubicBezTo>
                  <a:pt x="7943" y="12864"/>
                  <a:pt x="8076" y="12826"/>
                  <a:pt x="8037" y="12973"/>
                </a:cubicBezTo>
                <a:cubicBezTo>
                  <a:pt x="8025" y="13017"/>
                  <a:pt x="7950" y="13056"/>
                  <a:pt x="7938" y="13097"/>
                </a:cubicBezTo>
                <a:cubicBezTo>
                  <a:pt x="7914" y="13184"/>
                  <a:pt x="7950" y="13232"/>
                  <a:pt x="8037" y="13246"/>
                </a:cubicBezTo>
                <a:cubicBezTo>
                  <a:pt x="8120" y="13246"/>
                  <a:pt x="8154" y="13244"/>
                  <a:pt x="8210" y="13221"/>
                </a:cubicBezTo>
              </a:path>
              <a:path w="8831" h="5830">
                <a:moveTo>
                  <a:pt x="8458" y="13146"/>
                </a:moveTo>
                <a:cubicBezTo>
                  <a:pt x="8413" y="13327"/>
                  <a:pt x="8415" y="13376"/>
                  <a:pt x="8434" y="13543"/>
                </a:cubicBezTo>
                <a:cubicBezTo>
                  <a:pt x="8443" y="13624"/>
                  <a:pt x="8468" y="13690"/>
                  <a:pt x="8483" y="13767"/>
                </a:cubicBezTo>
              </a:path>
              <a:path w="8831" h="5830">
                <a:moveTo>
                  <a:pt x="8260" y="13469"/>
                </a:moveTo>
                <a:cubicBezTo>
                  <a:pt x="8383" y="13458"/>
                  <a:pt x="8441" y="13457"/>
                  <a:pt x="8558" y="13469"/>
                </a:cubicBezTo>
              </a:path>
              <a:path w="8831" h="5830">
                <a:moveTo>
                  <a:pt x="9004" y="13295"/>
                </a:moveTo>
                <a:cubicBezTo>
                  <a:pt x="8846" y="13256"/>
                  <a:pt x="8820" y="13227"/>
                  <a:pt x="8731" y="13271"/>
                </a:cubicBezTo>
                <a:cubicBezTo>
                  <a:pt x="8742" y="13357"/>
                  <a:pt x="8769" y="13404"/>
                  <a:pt x="8830" y="13469"/>
                </a:cubicBezTo>
                <a:cubicBezTo>
                  <a:pt x="8899" y="13542"/>
                  <a:pt x="8956" y="13601"/>
                  <a:pt x="9004" y="13692"/>
                </a:cubicBezTo>
                <a:cubicBezTo>
                  <a:pt x="9036" y="13754"/>
                  <a:pt x="9051" y="13763"/>
                  <a:pt x="9029" y="13816"/>
                </a:cubicBezTo>
                <a:cubicBezTo>
                  <a:pt x="8964" y="13832"/>
                  <a:pt x="8924" y="13834"/>
                  <a:pt x="8880" y="13767"/>
                </a:cubicBezTo>
                <a:cubicBezTo>
                  <a:pt x="8860" y="13726"/>
                  <a:pt x="8851" y="13720"/>
                  <a:pt x="8855" y="13692"/>
                </a:cubicBezTo>
              </a:path>
              <a:path w="8831" h="5830">
                <a:moveTo>
                  <a:pt x="9252" y="13320"/>
                </a:moveTo>
                <a:cubicBezTo>
                  <a:pt x="9267" y="13446"/>
                  <a:pt x="9271" y="13637"/>
                  <a:pt x="9302" y="13767"/>
                </a:cubicBezTo>
                <a:cubicBezTo>
                  <a:pt x="9322" y="13807"/>
                  <a:pt x="9331" y="13813"/>
                  <a:pt x="9327" y="13841"/>
                </a:cubicBezTo>
              </a:path>
              <a:path w="8831" h="5830">
                <a:moveTo>
                  <a:pt x="9227" y="12923"/>
                </a:moveTo>
                <a:cubicBezTo>
                  <a:pt x="9316" y="12887"/>
                  <a:pt x="9331" y="12963"/>
                  <a:pt x="9376" y="13047"/>
                </a:cubicBezTo>
              </a:path>
              <a:path w="8831" h="5830">
                <a:moveTo>
                  <a:pt x="9500" y="13519"/>
                </a:moveTo>
                <a:cubicBezTo>
                  <a:pt x="9500" y="13651"/>
                  <a:pt x="9500" y="13668"/>
                  <a:pt x="9500" y="13742"/>
                </a:cubicBezTo>
                <a:cubicBezTo>
                  <a:pt x="9471" y="13693"/>
                  <a:pt x="9460" y="13605"/>
                  <a:pt x="9451" y="13543"/>
                </a:cubicBezTo>
                <a:cubicBezTo>
                  <a:pt x="9444" y="13491"/>
                  <a:pt x="9460" y="13373"/>
                  <a:pt x="9475" y="13320"/>
                </a:cubicBezTo>
                <a:cubicBezTo>
                  <a:pt x="9486" y="13279"/>
                  <a:pt x="9529" y="13232"/>
                  <a:pt x="9550" y="13196"/>
                </a:cubicBezTo>
                <a:cubicBezTo>
                  <a:pt x="9632" y="13242"/>
                  <a:pt x="9726" y="13292"/>
                  <a:pt x="9748" y="13395"/>
                </a:cubicBezTo>
                <a:cubicBezTo>
                  <a:pt x="9767" y="13488"/>
                  <a:pt x="9785" y="13574"/>
                  <a:pt x="9823" y="13667"/>
                </a:cubicBezTo>
                <a:cubicBezTo>
                  <a:pt x="9845" y="13722"/>
                  <a:pt x="9848" y="13768"/>
                  <a:pt x="9872" y="13816"/>
                </a:cubicBezTo>
              </a:path>
              <a:path w="8831" h="5830">
                <a:moveTo>
                  <a:pt x="9922" y="12973"/>
                </a:moveTo>
                <a:cubicBezTo>
                  <a:pt x="10012" y="12962"/>
                  <a:pt x="10116" y="12924"/>
                  <a:pt x="10145" y="13047"/>
                </a:cubicBezTo>
                <a:cubicBezTo>
                  <a:pt x="10164" y="13130"/>
                  <a:pt x="10096" y="13179"/>
                  <a:pt x="10046" y="13221"/>
                </a:cubicBezTo>
                <a:cubicBezTo>
                  <a:pt x="10038" y="13229"/>
                  <a:pt x="10029" y="13238"/>
                  <a:pt x="10021" y="13246"/>
                </a:cubicBezTo>
                <a:cubicBezTo>
                  <a:pt x="10091" y="13256"/>
                  <a:pt x="10170" y="13255"/>
                  <a:pt x="10244" y="13271"/>
                </a:cubicBezTo>
                <a:cubicBezTo>
                  <a:pt x="10300" y="13283"/>
                  <a:pt x="10334" y="13313"/>
                  <a:pt x="10393" y="13320"/>
                </a:cubicBezTo>
              </a:path>
              <a:path w="8831" h="5830">
                <a:moveTo>
                  <a:pt x="11212" y="13965"/>
                </a:moveTo>
                <a:cubicBezTo>
                  <a:pt x="11331" y="13943"/>
                  <a:pt x="11438" y="13940"/>
                  <a:pt x="11559" y="13940"/>
                </a:cubicBezTo>
                <a:cubicBezTo>
                  <a:pt x="11584" y="13940"/>
                  <a:pt x="11608" y="13940"/>
                  <a:pt x="11633" y="13940"/>
                </a:cubicBezTo>
              </a:path>
              <a:path w="8831" h="5830">
                <a:moveTo>
                  <a:pt x="11509" y="14288"/>
                </a:moveTo>
                <a:cubicBezTo>
                  <a:pt x="11620" y="14361"/>
                  <a:pt x="11683" y="14385"/>
                  <a:pt x="11807" y="14412"/>
                </a:cubicBezTo>
                <a:cubicBezTo>
                  <a:pt x="11832" y="14420"/>
                  <a:pt x="11856" y="14428"/>
                  <a:pt x="11881" y="144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Ink 13"/>
          <p:cNvSpPr/>
          <p:nvPr/>
        </p:nvSpPr>
        <p:spPr>
          <a:xfrm>
            <a:off x="4964040" y="4143240"/>
            <a:ext cx="465120" cy="2473560"/>
          </a:xfrm>
          <a:custGeom>
            <a:avLst/>
            <a:gdLst/>
            <a:ahLst/>
            <a:rect l="l" t="t" r="r" b="b"/>
            <a:pathLst>
              <a:path w="1291" h="6872">
                <a:moveTo>
                  <a:pt x="15007" y="11509"/>
                </a:moveTo>
                <a:cubicBezTo>
                  <a:pt x="15014" y="11586"/>
                  <a:pt x="15031" y="11690"/>
                  <a:pt x="15032" y="11782"/>
                </a:cubicBezTo>
                <a:cubicBezTo>
                  <a:pt x="15050" y="13040"/>
                  <a:pt x="15022" y="14298"/>
                  <a:pt x="14982" y="15553"/>
                </a:cubicBezTo>
                <a:cubicBezTo>
                  <a:pt x="14968" y="15977"/>
                  <a:pt x="14927" y="16395"/>
                  <a:pt x="14883" y="16818"/>
                </a:cubicBezTo>
                <a:cubicBezTo>
                  <a:pt x="14855" y="17088"/>
                  <a:pt x="14780" y="17344"/>
                  <a:pt x="14734" y="17611"/>
                </a:cubicBezTo>
                <a:cubicBezTo>
                  <a:pt x="14708" y="17762"/>
                  <a:pt x="14680" y="17912"/>
                  <a:pt x="14635" y="18058"/>
                </a:cubicBezTo>
                <a:cubicBezTo>
                  <a:pt x="14621" y="18103"/>
                  <a:pt x="14598" y="18143"/>
                  <a:pt x="14585" y="18182"/>
                </a:cubicBezTo>
                <a:cubicBezTo>
                  <a:pt x="14563" y="18072"/>
                  <a:pt x="14548" y="17971"/>
                  <a:pt x="14511" y="17859"/>
                </a:cubicBezTo>
                <a:cubicBezTo>
                  <a:pt x="14465" y="17720"/>
                  <a:pt x="14405" y="17593"/>
                  <a:pt x="14337" y="17462"/>
                </a:cubicBezTo>
                <a:cubicBezTo>
                  <a:pt x="14259" y="17313"/>
                  <a:pt x="14149" y="17092"/>
                  <a:pt x="13990" y="17016"/>
                </a:cubicBezTo>
                <a:cubicBezTo>
                  <a:pt x="13929" y="16996"/>
                  <a:pt x="13914" y="16977"/>
                  <a:pt x="13891" y="17016"/>
                </a:cubicBezTo>
                <a:cubicBezTo>
                  <a:pt x="13832" y="17133"/>
                  <a:pt x="13806" y="17175"/>
                  <a:pt x="13791" y="17314"/>
                </a:cubicBezTo>
                <a:cubicBezTo>
                  <a:pt x="13770" y="17518"/>
                  <a:pt x="13848" y="17692"/>
                  <a:pt x="13891" y="17884"/>
                </a:cubicBezTo>
                <a:cubicBezTo>
                  <a:pt x="13911" y="17973"/>
                  <a:pt x="13962" y="18326"/>
                  <a:pt x="14089" y="18355"/>
                </a:cubicBezTo>
                <a:cubicBezTo>
                  <a:pt x="14201" y="18381"/>
                  <a:pt x="14217" y="18318"/>
                  <a:pt x="14312" y="18256"/>
                </a:cubicBezTo>
                <a:cubicBezTo>
                  <a:pt x="14449" y="18167"/>
                  <a:pt x="14539" y="18020"/>
                  <a:pt x="14660" y="17909"/>
                </a:cubicBezTo>
                <a:cubicBezTo>
                  <a:pt x="14777" y="17801"/>
                  <a:pt x="14888" y="17694"/>
                  <a:pt x="14982" y="17562"/>
                </a:cubicBezTo>
                <a:cubicBezTo>
                  <a:pt x="15065" y="17445"/>
                  <a:pt x="15055" y="17350"/>
                  <a:pt x="15081" y="172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Ink 14"/>
          <p:cNvSpPr/>
          <p:nvPr/>
        </p:nvSpPr>
        <p:spPr>
          <a:xfrm>
            <a:off x="2857680" y="5214960"/>
            <a:ext cx="1258560" cy="1027080"/>
          </a:xfrm>
          <a:custGeom>
            <a:avLst/>
            <a:gdLst/>
            <a:ahLst/>
            <a:rect l="l" t="t" r="r" b="b"/>
            <a:pathLst>
              <a:path w="3498" h="2853">
                <a:moveTo>
                  <a:pt x="8235" y="14560"/>
                </a:moveTo>
                <a:cubicBezTo>
                  <a:pt x="8255" y="14621"/>
                  <a:pt x="8253" y="14656"/>
                  <a:pt x="8285" y="14610"/>
                </a:cubicBezTo>
                <a:cubicBezTo>
                  <a:pt x="8216" y="14500"/>
                  <a:pt x="8205" y="14500"/>
                  <a:pt x="8086" y="14511"/>
                </a:cubicBezTo>
                <a:cubicBezTo>
                  <a:pt x="8016" y="14518"/>
                  <a:pt x="7995" y="14571"/>
                  <a:pt x="7962" y="14635"/>
                </a:cubicBezTo>
                <a:cubicBezTo>
                  <a:pt x="7926" y="14704"/>
                  <a:pt x="7934" y="14859"/>
                  <a:pt x="7962" y="14932"/>
                </a:cubicBezTo>
                <a:cubicBezTo>
                  <a:pt x="7995" y="15020"/>
                  <a:pt x="8105" y="15158"/>
                  <a:pt x="8186" y="15205"/>
                </a:cubicBezTo>
                <a:cubicBezTo>
                  <a:pt x="8258" y="15247"/>
                  <a:pt x="8356" y="15230"/>
                  <a:pt x="8434" y="15230"/>
                </a:cubicBezTo>
              </a:path>
              <a:path w="3498" h="2853">
                <a:moveTo>
                  <a:pt x="8632" y="14784"/>
                </a:moveTo>
                <a:cubicBezTo>
                  <a:pt x="8624" y="14751"/>
                  <a:pt x="8615" y="14717"/>
                  <a:pt x="8607" y="14684"/>
                </a:cubicBezTo>
                <a:cubicBezTo>
                  <a:pt x="8563" y="14739"/>
                  <a:pt x="8536" y="14787"/>
                  <a:pt x="8533" y="14858"/>
                </a:cubicBezTo>
                <a:cubicBezTo>
                  <a:pt x="8528" y="14965"/>
                  <a:pt x="8548" y="15102"/>
                  <a:pt x="8632" y="15180"/>
                </a:cubicBezTo>
                <a:cubicBezTo>
                  <a:pt x="8716" y="15259"/>
                  <a:pt x="8759" y="15278"/>
                  <a:pt x="8855" y="15230"/>
                </a:cubicBezTo>
                <a:cubicBezTo>
                  <a:pt x="8926" y="15194"/>
                  <a:pt x="8928" y="15070"/>
                  <a:pt x="8930" y="15007"/>
                </a:cubicBezTo>
                <a:cubicBezTo>
                  <a:pt x="8934" y="14908"/>
                  <a:pt x="8928" y="14822"/>
                  <a:pt x="8880" y="14734"/>
                </a:cubicBezTo>
                <a:cubicBezTo>
                  <a:pt x="8839" y="14658"/>
                  <a:pt x="8778" y="14603"/>
                  <a:pt x="8706" y="14560"/>
                </a:cubicBezTo>
                <a:cubicBezTo>
                  <a:pt x="8650" y="14532"/>
                  <a:pt x="8626" y="14527"/>
                  <a:pt x="8582" y="14560"/>
                </a:cubicBezTo>
                <a:cubicBezTo>
                  <a:pt x="8588" y="14655"/>
                  <a:pt x="8594" y="14698"/>
                  <a:pt x="8632" y="14784"/>
                </a:cubicBezTo>
              </a:path>
              <a:path w="3498" h="2853">
                <a:moveTo>
                  <a:pt x="9302" y="14808"/>
                </a:moveTo>
                <a:cubicBezTo>
                  <a:pt x="9237" y="14731"/>
                  <a:pt x="9221" y="14714"/>
                  <a:pt x="9153" y="14660"/>
                </a:cubicBezTo>
                <a:cubicBezTo>
                  <a:pt x="9103" y="14775"/>
                  <a:pt x="9155" y="14811"/>
                  <a:pt x="9227" y="14908"/>
                </a:cubicBezTo>
                <a:cubicBezTo>
                  <a:pt x="9315" y="15026"/>
                  <a:pt x="9356" y="15141"/>
                  <a:pt x="9401" y="15280"/>
                </a:cubicBezTo>
                <a:cubicBezTo>
                  <a:pt x="9417" y="15330"/>
                  <a:pt x="9462" y="15457"/>
                  <a:pt x="9351" y="15453"/>
                </a:cubicBezTo>
                <a:cubicBezTo>
                  <a:pt x="9228" y="15449"/>
                  <a:pt x="9149" y="15374"/>
                  <a:pt x="9103" y="15280"/>
                </a:cubicBezTo>
                <a:cubicBezTo>
                  <a:pt x="9060" y="15193"/>
                  <a:pt x="9091" y="15140"/>
                  <a:pt x="9128" y="15056"/>
                </a:cubicBezTo>
              </a:path>
              <a:path w="3498" h="2853">
                <a:moveTo>
                  <a:pt x="9277" y="15999"/>
                </a:moveTo>
                <a:cubicBezTo>
                  <a:pt x="9241" y="16059"/>
                  <a:pt x="9252" y="16122"/>
                  <a:pt x="9252" y="16197"/>
                </a:cubicBezTo>
                <a:cubicBezTo>
                  <a:pt x="9252" y="16306"/>
                  <a:pt x="9282" y="16398"/>
                  <a:pt x="9327" y="16495"/>
                </a:cubicBezTo>
                <a:cubicBezTo>
                  <a:pt x="9358" y="16562"/>
                  <a:pt x="9348" y="16582"/>
                  <a:pt x="9401" y="16570"/>
                </a:cubicBezTo>
              </a:path>
              <a:path w="3498" h="2853">
                <a:moveTo>
                  <a:pt x="9847" y="16421"/>
                </a:moveTo>
                <a:cubicBezTo>
                  <a:pt x="9792" y="16491"/>
                  <a:pt x="9779" y="16484"/>
                  <a:pt x="9699" y="16520"/>
                </a:cubicBezTo>
                <a:cubicBezTo>
                  <a:pt x="9621" y="16555"/>
                  <a:pt x="9534" y="16553"/>
                  <a:pt x="9451" y="16570"/>
                </a:cubicBezTo>
                <a:cubicBezTo>
                  <a:pt x="9361" y="16588"/>
                  <a:pt x="9268" y="16606"/>
                  <a:pt x="9178" y="16619"/>
                </a:cubicBezTo>
                <a:cubicBezTo>
                  <a:pt x="9117" y="16628"/>
                  <a:pt x="8991" y="16620"/>
                  <a:pt x="8979" y="16694"/>
                </a:cubicBezTo>
                <a:cubicBezTo>
                  <a:pt x="8987" y="16694"/>
                  <a:pt x="8996" y="16694"/>
                  <a:pt x="9004" y="16694"/>
                </a:cubicBezTo>
              </a:path>
              <a:path w="3498" h="2853">
                <a:moveTo>
                  <a:pt x="9525" y="16892"/>
                </a:moveTo>
                <a:cubicBezTo>
                  <a:pt x="9515" y="16821"/>
                  <a:pt x="9504" y="16796"/>
                  <a:pt x="9426" y="16793"/>
                </a:cubicBezTo>
                <a:cubicBezTo>
                  <a:pt x="9317" y="16789"/>
                  <a:pt x="9318" y="16801"/>
                  <a:pt x="9252" y="16867"/>
                </a:cubicBezTo>
                <a:cubicBezTo>
                  <a:pt x="9196" y="16923"/>
                  <a:pt x="9186" y="17013"/>
                  <a:pt x="9203" y="17090"/>
                </a:cubicBezTo>
                <a:cubicBezTo>
                  <a:pt x="9214" y="17141"/>
                  <a:pt x="9264" y="17259"/>
                  <a:pt x="9302" y="17289"/>
                </a:cubicBezTo>
                <a:cubicBezTo>
                  <a:pt x="9351" y="17314"/>
                  <a:pt x="9368" y="17322"/>
                  <a:pt x="9401" y="17338"/>
                </a:cubicBezTo>
              </a:path>
              <a:path w="3498" h="2853">
                <a:moveTo>
                  <a:pt x="9748" y="16892"/>
                </a:moveTo>
                <a:cubicBezTo>
                  <a:pt x="9690" y="16942"/>
                  <a:pt x="9649" y="17002"/>
                  <a:pt x="9674" y="17090"/>
                </a:cubicBezTo>
                <a:cubicBezTo>
                  <a:pt x="9701" y="17186"/>
                  <a:pt x="9763" y="17228"/>
                  <a:pt x="9823" y="17264"/>
                </a:cubicBezTo>
                <a:cubicBezTo>
                  <a:pt x="9863" y="17288"/>
                  <a:pt x="9954" y="17259"/>
                  <a:pt x="9996" y="17214"/>
                </a:cubicBezTo>
                <a:cubicBezTo>
                  <a:pt x="10041" y="17166"/>
                  <a:pt x="10083" y="17055"/>
                  <a:pt x="10071" y="16991"/>
                </a:cubicBezTo>
                <a:cubicBezTo>
                  <a:pt x="10058" y="16924"/>
                  <a:pt x="10023" y="16817"/>
                  <a:pt x="9971" y="16768"/>
                </a:cubicBezTo>
                <a:cubicBezTo>
                  <a:pt x="9904" y="16705"/>
                  <a:pt x="9801" y="16706"/>
                  <a:pt x="9723" y="16743"/>
                </a:cubicBezTo>
                <a:cubicBezTo>
                  <a:pt x="9676" y="16765"/>
                  <a:pt x="9699" y="16875"/>
                  <a:pt x="9699" y="16917"/>
                </a:cubicBezTo>
              </a:path>
              <a:path w="3498" h="2853">
                <a:moveTo>
                  <a:pt x="10244" y="16718"/>
                </a:moveTo>
                <a:cubicBezTo>
                  <a:pt x="10255" y="16813"/>
                  <a:pt x="10288" y="16899"/>
                  <a:pt x="10319" y="16991"/>
                </a:cubicBezTo>
                <a:cubicBezTo>
                  <a:pt x="10339" y="17052"/>
                  <a:pt x="10367" y="17261"/>
                  <a:pt x="10294" y="17289"/>
                </a:cubicBezTo>
                <a:cubicBezTo>
                  <a:pt x="10244" y="17308"/>
                  <a:pt x="10154" y="17278"/>
                  <a:pt x="10120" y="17239"/>
                </a:cubicBezTo>
                <a:cubicBezTo>
                  <a:pt x="10071" y="17182"/>
                  <a:pt x="10104" y="17127"/>
                  <a:pt x="10120" y="17066"/>
                </a:cubicBezTo>
              </a:path>
              <a:path w="3498" h="2853">
                <a:moveTo>
                  <a:pt x="11013" y="16197"/>
                </a:moveTo>
                <a:cubicBezTo>
                  <a:pt x="11127" y="16183"/>
                  <a:pt x="11203" y="16173"/>
                  <a:pt x="11311" y="16173"/>
                </a:cubicBezTo>
              </a:path>
              <a:path w="3498" h="2853">
                <a:moveTo>
                  <a:pt x="11063" y="16371"/>
                </a:moveTo>
                <a:cubicBezTo>
                  <a:pt x="11171" y="16404"/>
                  <a:pt x="11296" y="16462"/>
                  <a:pt x="11410" y="16470"/>
                </a:cubicBezTo>
                <a:cubicBezTo>
                  <a:pt x="11418" y="16470"/>
                  <a:pt x="11427" y="16470"/>
                  <a:pt x="11435" y="164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Ink 15"/>
          <p:cNvSpPr/>
          <p:nvPr/>
        </p:nvSpPr>
        <p:spPr>
          <a:xfrm>
            <a:off x="3357720" y="6384960"/>
            <a:ext cx="447480" cy="330120"/>
          </a:xfrm>
          <a:custGeom>
            <a:avLst/>
            <a:gdLst/>
            <a:ahLst/>
            <a:rect l="l" t="t" r="r" b="b"/>
            <a:pathLst>
              <a:path w="1241" h="919">
                <a:moveTo>
                  <a:pt x="9649" y="17785"/>
                </a:moveTo>
                <a:cubicBezTo>
                  <a:pt x="9604" y="17740"/>
                  <a:pt x="9595" y="17723"/>
                  <a:pt x="9550" y="17735"/>
                </a:cubicBezTo>
                <a:cubicBezTo>
                  <a:pt x="9518" y="17820"/>
                  <a:pt x="9526" y="17850"/>
                  <a:pt x="9550" y="17934"/>
                </a:cubicBezTo>
                <a:cubicBezTo>
                  <a:pt x="9590" y="18073"/>
                  <a:pt x="9667" y="18214"/>
                  <a:pt x="9624" y="18355"/>
                </a:cubicBezTo>
                <a:cubicBezTo>
                  <a:pt x="9597" y="18444"/>
                  <a:pt x="9552" y="18465"/>
                  <a:pt x="9475" y="18504"/>
                </a:cubicBezTo>
                <a:cubicBezTo>
                  <a:pt x="9365" y="18559"/>
                  <a:pt x="9338" y="18538"/>
                  <a:pt x="9327" y="18430"/>
                </a:cubicBezTo>
              </a:path>
              <a:path w="1241" h="919">
                <a:moveTo>
                  <a:pt x="9847" y="18132"/>
                </a:moveTo>
                <a:cubicBezTo>
                  <a:pt x="9957" y="18119"/>
                  <a:pt x="10119" y="18124"/>
                  <a:pt x="10220" y="18058"/>
                </a:cubicBezTo>
                <a:cubicBezTo>
                  <a:pt x="10253" y="18024"/>
                  <a:pt x="10261" y="18002"/>
                  <a:pt x="10244" y="17959"/>
                </a:cubicBezTo>
                <a:cubicBezTo>
                  <a:pt x="10144" y="17891"/>
                  <a:pt x="10093" y="17896"/>
                  <a:pt x="9996" y="17983"/>
                </a:cubicBezTo>
                <a:cubicBezTo>
                  <a:pt x="9904" y="18066"/>
                  <a:pt x="9883" y="18131"/>
                  <a:pt x="9872" y="18256"/>
                </a:cubicBezTo>
                <a:cubicBezTo>
                  <a:pt x="9859" y="18405"/>
                  <a:pt x="9874" y="18447"/>
                  <a:pt x="9971" y="18554"/>
                </a:cubicBezTo>
              </a:path>
              <a:path w="1241" h="919">
                <a:moveTo>
                  <a:pt x="10567" y="17983"/>
                </a:moveTo>
                <a:cubicBezTo>
                  <a:pt x="10463" y="17999"/>
                  <a:pt x="10404" y="18024"/>
                  <a:pt x="10393" y="18157"/>
                </a:cubicBezTo>
                <a:cubicBezTo>
                  <a:pt x="10382" y="18295"/>
                  <a:pt x="10374" y="18475"/>
                  <a:pt x="10443" y="18604"/>
                </a:cubicBezTo>
                <a:cubicBezTo>
                  <a:pt x="10478" y="18638"/>
                  <a:pt x="10501" y="18651"/>
                  <a:pt x="10542" y="186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Ink 16"/>
          <p:cNvSpPr/>
          <p:nvPr/>
        </p:nvSpPr>
        <p:spPr>
          <a:xfrm>
            <a:off x="4027320" y="6392880"/>
            <a:ext cx="615960" cy="403200"/>
          </a:xfrm>
          <a:custGeom>
            <a:avLst/>
            <a:gdLst/>
            <a:ahLst/>
            <a:rect l="l" t="t" r="r" b="b"/>
            <a:pathLst>
              <a:path w="1712" h="1117">
                <a:moveTo>
                  <a:pt x="11237" y="18008"/>
                </a:moveTo>
                <a:cubicBezTo>
                  <a:pt x="11353" y="18023"/>
                  <a:pt x="11446" y="18033"/>
                  <a:pt x="11559" y="18033"/>
                </a:cubicBezTo>
              </a:path>
              <a:path w="1712" h="1117">
                <a:moveTo>
                  <a:pt x="11187" y="18207"/>
                </a:moveTo>
                <a:cubicBezTo>
                  <a:pt x="11300" y="18305"/>
                  <a:pt x="11319" y="18331"/>
                  <a:pt x="11460" y="18331"/>
                </a:cubicBezTo>
              </a:path>
              <a:path w="1712" h="1117">
                <a:moveTo>
                  <a:pt x="12179" y="17934"/>
                </a:moveTo>
                <a:cubicBezTo>
                  <a:pt x="12173" y="17857"/>
                  <a:pt x="12172" y="17824"/>
                  <a:pt x="12129" y="17760"/>
                </a:cubicBezTo>
                <a:cubicBezTo>
                  <a:pt x="12026" y="17775"/>
                  <a:pt x="12020" y="17816"/>
                  <a:pt x="12005" y="17934"/>
                </a:cubicBezTo>
                <a:cubicBezTo>
                  <a:pt x="11989" y="18057"/>
                  <a:pt x="12051" y="18178"/>
                  <a:pt x="12030" y="18306"/>
                </a:cubicBezTo>
                <a:cubicBezTo>
                  <a:pt x="12023" y="18347"/>
                  <a:pt x="11985" y="18464"/>
                  <a:pt x="11931" y="18479"/>
                </a:cubicBezTo>
                <a:cubicBezTo>
                  <a:pt x="11901" y="18487"/>
                  <a:pt x="11779" y="18451"/>
                  <a:pt x="11782" y="18405"/>
                </a:cubicBezTo>
                <a:cubicBezTo>
                  <a:pt x="11812" y="18345"/>
                  <a:pt x="11827" y="18319"/>
                  <a:pt x="11857" y="18281"/>
                </a:cubicBezTo>
              </a:path>
              <a:path w="1712" h="1117">
                <a:moveTo>
                  <a:pt x="12254" y="18083"/>
                </a:moveTo>
                <a:cubicBezTo>
                  <a:pt x="12353" y="18078"/>
                  <a:pt x="12487" y="18088"/>
                  <a:pt x="12576" y="18033"/>
                </a:cubicBezTo>
                <a:cubicBezTo>
                  <a:pt x="12601" y="18008"/>
                  <a:pt x="12609" y="18000"/>
                  <a:pt x="12626" y="17983"/>
                </a:cubicBezTo>
                <a:cubicBezTo>
                  <a:pt x="12568" y="17927"/>
                  <a:pt x="12554" y="17926"/>
                  <a:pt x="12477" y="17959"/>
                </a:cubicBezTo>
                <a:cubicBezTo>
                  <a:pt x="12365" y="18008"/>
                  <a:pt x="12343" y="18116"/>
                  <a:pt x="12328" y="18231"/>
                </a:cubicBezTo>
                <a:cubicBezTo>
                  <a:pt x="12314" y="18337"/>
                  <a:pt x="12363" y="18405"/>
                  <a:pt x="12427" y="18479"/>
                </a:cubicBezTo>
              </a:path>
              <a:path w="1712" h="1117">
                <a:moveTo>
                  <a:pt x="12898" y="17959"/>
                </a:moveTo>
                <a:cubicBezTo>
                  <a:pt x="12836" y="18084"/>
                  <a:pt x="12849" y="18190"/>
                  <a:pt x="12849" y="18331"/>
                </a:cubicBezTo>
                <a:cubicBezTo>
                  <a:pt x="12849" y="18513"/>
                  <a:pt x="12849" y="18694"/>
                  <a:pt x="12849" y="188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Ink 17"/>
          <p:cNvSpPr/>
          <p:nvPr/>
        </p:nvSpPr>
        <p:spPr>
          <a:xfrm>
            <a:off x="5375160" y="4276800"/>
            <a:ext cx="366840" cy="376200"/>
          </a:xfrm>
          <a:custGeom>
            <a:avLst/>
            <a:gdLst/>
            <a:ahLst/>
            <a:rect l="l" t="t" r="r" b="b"/>
            <a:pathLst>
              <a:path w="1018" h="1043">
                <a:moveTo>
                  <a:pt x="14982" y="11906"/>
                </a:moveTo>
                <a:cubicBezTo>
                  <a:pt x="14941" y="11926"/>
                  <a:pt x="14979" y="12031"/>
                  <a:pt x="15007" y="12154"/>
                </a:cubicBezTo>
                <a:cubicBezTo>
                  <a:pt x="15033" y="12269"/>
                  <a:pt x="15079" y="12398"/>
                  <a:pt x="15131" y="12502"/>
                </a:cubicBezTo>
                <a:cubicBezTo>
                  <a:pt x="15179" y="12598"/>
                  <a:pt x="15201" y="12706"/>
                  <a:pt x="15255" y="12799"/>
                </a:cubicBezTo>
                <a:cubicBezTo>
                  <a:pt x="15304" y="12883"/>
                  <a:pt x="15358" y="12918"/>
                  <a:pt x="15453" y="12923"/>
                </a:cubicBezTo>
                <a:cubicBezTo>
                  <a:pt x="15543" y="12928"/>
                  <a:pt x="15588" y="12828"/>
                  <a:pt x="15652" y="12774"/>
                </a:cubicBezTo>
                <a:cubicBezTo>
                  <a:pt x="15721" y="12715"/>
                  <a:pt x="15910" y="12570"/>
                  <a:pt x="15949" y="12477"/>
                </a:cubicBezTo>
                <a:cubicBezTo>
                  <a:pt x="15949" y="12452"/>
                  <a:pt x="15949" y="12427"/>
                  <a:pt x="15949" y="124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Ink 18"/>
          <p:cNvSpPr/>
          <p:nvPr/>
        </p:nvSpPr>
        <p:spPr>
          <a:xfrm>
            <a:off x="4822920" y="3384720"/>
            <a:ext cx="133200" cy="9360"/>
          </a:xfrm>
          <a:custGeom>
            <a:avLst/>
            <a:gdLst/>
            <a:ahLst/>
            <a:rect l="l" t="t" r="r" b="b"/>
            <a:pathLst>
              <a:path w="373" h="26">
                <a:moveTo>
                  <a:pt x="13395" y="9401"/>
                </a:moveTo>
                <a:cubicBezTo>
                  <a:pt x="13525" y="9401"/>
                  <a:pt x="13642" y="9412"/>
                  <a:pt x="13767" y="94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Ink 19"/>
          <p:cNvSpPr/>
          <p:nvPr/>
        </p:nvSpPr>
        <p:spPr>
          <a:xfrm>
            <a:off x="4894200" y="3517920"/>
            <a:ext cx="98640" cy="27000"/>
          </a:xfrm>
          <a:custGeom>
            <a:avLst/>
            <a:gdLst/>
            <a:ahLst/>
            <a:rect l="l" t="t" r="r" b="b"/>
            <a:pathLst>
              <a:path w="274" h="75">
                <a:moveTo>
                  <a:pt x="13593" y="9773"/>
                </a:moveTo>
                <a:cubicBezTo>
                  <a:pt x="13690" y="9809"/>
                  <a:pt x="13763" y="9839"/>
                  <a:pt x="13866" y="98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Ink 20"/>
          <p:cNvSpPr/>
          <p:nvPr/>
        </p:nvSpPr>
        <p:spPr>
          <a:xfrm>
            <a:off x="5295960" y="1911240"/>
            <a:ext cx="222120" cy="2562480"/>
          </a:xfrm>
          <a:custGeom>
            <a:avLst/>
            <a:gdLst/>
            <a:ahLst/>
            <a:rect l="l" t="t" r="r" b="b"/>
            <a:pathLst>
              <a:path w="621" h="7120">
                <a:moveTo>
                  <a:pt x="14709" y="5308"/>
                </a:moveTo>
                <a:cubicBezTo>
                  <a:pt x="14756" y="5485"/>
                  <a:pt x="14781" y="5645"/>
                  <a:pt x="14784" y="5829"/>
                </a:cubicBezTo>
                <a:cubicBezTo>
                  <a:pt x="14789" y="6138"/>
                  <a:pt x="14802" y="6440"/>
                  <a:pt x="14833" y="6747"/>
                </a:cubicBezTo>
                <a:cubicBezTo>
                  <a:pt x="14867" y="7080"/>
                  <a:pt x="14939" y="7407"/>
                  <a:pt x="14982" y="7739"/>
                </a:cubicBezTo>
                <a:cubicBezTo>
                  <a:pt x="15022" y="8051"/>
                  <a:pt x="15024" y="8368"/>
                  <a:pt x="15056" y="8682"/>
                </a:cubicBezTo>
                <a:cubicBezTo>
                  <a:pt x="15091" y="9030"/>
                  <a:pt x="15166" y="9372"/>
                  <a:pt x="15180" y="9723"/>
                </a:cubicBezTo>
                <a:cubicBezTo>
                  <a:pt x="15198" y="10162"/>
                  <a:pt x="15214" y="10600"/>
                  <a:pt x="15255" y="11038"/>
                </a:cubicBezTo>
                <a:cubicBezTo>
                  <a:pt x="15281" y="11318"/>
                  <a:pt x="15312" y="11601"/>
                  <a:pt x="15329" y="11881"/>
                </a:cubicBezTo>
                <a:cubicBezTo>
                  <a:pt x="15339" y="12041"/>
                  <a:pt x="15334" y="12199"/>
                  <a:pt x="15304" y="12353"/>
                </a:cubicBezTo>
                <a:cubicBezTo>
                  <a:pt x="15304" y="12397"/>
                  <a:pt x="15307" y="12410"/>
                  <a:pt x="15280" y="124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6d8c0"/>
                </a:solidFill>
                <a:latin typeface="Arial"/>
              </a:rPr>
              <a:t>Lesson 5.2</a:t>
            </a:r>
            <a:br>
              <a:rPr sz="8500"/>
            </a:br>
            <a:r>
              <a:rPr b="0" lang="en-US" sz="8500" spc="-1" strike="noStrike">
                <a:solidFill>
                  <a:srgbClr val="d6d8c0"/>
                </a:solidFill>
                <a:latin typeface="Arial"/>
              </a:rPr>
              <a:t>part two</a:t>
            </a:r>
            <a:endParaRPr b="0" lang="en-US" sz="8500" spc="-1" strike="noStrike">
              <a:solidFill>
                <a:srgbClr val="d6d8c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8c0"/>
                </a:solidFill>
                <a:latin typeface="Arial"/>
              </a:rPr>
              <a:t>Find the error in the verification:</a:t>
            </a: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os x(Tan</a:t>
            </a:r>
            <a:r>
              <a:rPr b="0" lang="en-US" sz="45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 x + 1)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os x (Sec</a:t>
            </a:r>
            <a:r>
              <a:rPr b="0" lang="en-US" sz="45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x)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os x </a:t>
            </a:r>
            <a:r>
              <a:rPr b="0" lang="en-US" sz="45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500" spc="-1" strike="noStrike" baseline="30000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Verdana"/>
              </a:rPr>
              <a:t>cos x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98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98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Verify: tan</a:t>
            </a:r>
            <a:r>
              <a:rPr b="0" lang="en-US" sz="4000" spc="-1" strike="noStrike" baseline="30000">
                <a:solidFill>
                  <a:srgbClr val="d6d8c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x = tan</a:t>
            </a:r>
            <a:r>
              <a:rPr b="0" lang="en-US" sz="4000" spc="-1" strike="noStrike" baseline="30000">
                <a:solidFill>
                  <a:srgbClr val="d6d8c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x sec</a:t>
            </a:r>
            <a:r>
              <a:rPr b="0" lang="en-US" sz="4000" spc="-1" strike="noStrike" baseline="30000">
                <a:solidFill>
                  <a:srgbClr val="d6d8c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x – tan</a:t>
            </a:r>
            <a:r>
              <a:rPr b="0" lang="en-US" sz="4000" spc="-1" strike="noStrike" baseline="30000">
                <a:solidFill>
                  <a:srgbClr val="d6d8c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246" name="Ink 3"/>
          <p:cNvSpPr/>
          <p:nvPr/>
        </p:nvSpPr>
        <p:spPr>
          <a:xfrm>
            <a:off x="4062240" y="973080"/>
            <a:ext cx="4367520" cy="206280"/>
          </a:xfrm>
          <a:custGeom>
            <a:avLst/>
            <a:gdLst/>
            <a:ahLst/>
            <a:rect l="l" t="t" r="r" b="b"/>
            <a:pathLst>
              <a:path w="12131" h="571">
                <a:moveTo>
                  <a:pt x="11385" y="2704"/>
                </a:moveTo>
                <a:cubicBezTo>
                  <a:pt x="11374" y="2778"/>
                  <a:pt x="11351" y="2850"/>
                  <a:pt x="11336" y="2927"/>
                </a:cubicBezTo>
                <a:cubicBezTo>
                  <a:pt x="11318" y="3019"/>
                  <a:pt x="11283" y="3103"/>
                  <a:pt x="11286" y="3200"/>
                </a:cubicBezTo>
                <a:cubicBezTo>
                  <a:pt x="11294" y="3208"/>
                  <a:pt x="11303" y="3217"/>
                  <a:pt x="11311" y="3225"/>
                </a:cubicBezTo>
                <a:cubicBezTo>
                  <a:pt x="11377" y="3213"/>
                  <a:pt x="11442" y="3212"/>
                  <a:pt x="11509" y="3200"/>
                </a:cubicBezTo>
                <a:cubicBezTo>
                  <a:pt x="11595" y="3184"/>
                  <a:pt x="11672" y="3164"/>
                  <a:pt x="11757" y="3150"/>
                </a:cubicBezTo>
                <a:cubicBezTo>
                  <a:pt x="11876" y="3130"/>
                  <a:pt x="11986" y="3138"/>
                  <a:pt x="12105" y="3125"/>
                </a:cubicBezTo>
                <a:cubicBezTo>
                  <a:pt x="12205" y="3114"/>
                  <a:pt x="12298" y="3103"/>
                  <a:pt x="12402" y="3101"/>
                </a:cubicBezTo>
                <a:cubicBezTo>
                  <a:pt x="13262" y="3087"/>
                  <a:pt x="14123" y="3116"/>
                  <a:pt x="14982" y="3076"/>
                </a:cubicBezTo>
                <a:cubicBezTo>
                  <a:pt x="15737" y="3041"/>
                  <a:pt x="16515" y="3063"/>
                  <a:pt x="17264" y="3101"/>
                </a:cubicBezTo>
                <a:cubicBezTo>
                  <a:pt x="17487" y="3112"/>
                  <a:pt x="17714" y="3114"/>
                  <a:pt x="17934" y="3125"/>
                </a:cubicBezTo>
                <a:cubicBezTo>
                  <a:pt x="18057" y="3131"/>
                  <a:pt x="18231" y="3150"/>
                  <a:pt x="18281" y="3076"/>
                </a:cubicBezTo>
                <a:cubicBezTo>
                  <a:pt x="18319" y="3020"/>
                  <a:pt x="18300" y="2970"/>
                  <a:pt x="18306" y="2902"/>
                </a:cubicBezTo>
                <a:cubicBezTo>
                  <a:pt x="18306" y="2844"/>
                  <a:pt x="18306" y="2819"/>
                  <a:pt x="18306" y="2778"/>
                </a:cubicBezTo>
              </a:path>
              <a:path w="12131" h="571">
                <a:moveTo>
                  <a:pt x="19769" y="2803"/>
                </a:moveTo>
                <a:cubicBezTo>
                  <a:pt x="19765" y="2871"/>
                  <a:pt x="19760" y="2915"/>
                  <a:pt x="19745" y="2977"/>
                </a:cubicBezTo>
                <a:cubicBezTo>
                  <a:pt x="19730" y="3039"/>
                  <a:pt x="19711" y="3108"/>
                  <a:pt x="19720" y="3175"/>
                </a:cubicBezTo>
                <a:cubicBezTo>
                  <a:pt x="19731" y="3256"/>
                  <a:pt x="19743" y="3259"/>
                  <a:pt x="19819" y="3274"/>
                </a:cubicBezTo>
                <a:cubicBezTo>
                  <a:pt x="19954" y="3301"/>
                  <a:pt x="20123" y="3258"/>
                  <a:pt x="20241" y="3249"/>
                </a:cubicBezTo>
                <a:cubicBezTo>
                  <a:pt x="20356" y="3240"/>
                  <a:pt x="20479" y="3234"/>
                  <a:pt x="20588" y="3225"/>
                </a:cubicBezTo>
                <a:cubicBezTo>
                  <a:pt x="20942" y="3195"/>
                  <a:pt x="21301" y="3249"/>
                  <a:pt x="21654" y="3249"/>
                </a:cubicBezTo>
                <a:cubicBezTo>
                  <a:pt x="21774" y="3249"/>
                  <a:pt x="21884" y="3270"/>
                  <a:pt x="22002" y="3274"/>
                </a:cubicBezTo>
                <a:cubicBezTo>
                  <a:pt x="22211" y="3282"/>
                  <a:pt x="22423" y="3266"/>
                  <a:pt x="22622" y="3249"/>
                </a:cubicBezTo>
                <a:cubicBezTo>
                  <a:pt x="22722" y="3241"/>
                  <a:pt x="22823" y="3234"/>
                  <a:pt x="22920" y="3225"/>
                </a:cubicBezTo>
                <a:cubicBezTo>
                  <a:pt x="23000" y="3218"/>
                  <a:pt x="23066" y="3218"/>
                  <a:pt x="23143" y="3200"/>
                </a:cubicBezTo>
                <a:cubicBezTo>
                  <a:pt x="23192" y="3188"/>
                  <a:pt x="23238" y="3180"/>
                  <a:pt x="23267" y="3125"/>
                </a:cubicBezTo>
                <a:cubicBezTo>
                  <a:pt x="23294" y="3073"/>
                  <a:pt x="23276" y="3001"/>
                  <a:pt x="23316" y="2952"/>
                </a:cubicBezTo>
                <a:cubicBezTo>
                  <a:pt x="23342" y="2920"/>
                  <a:pt x="23383" y="2901"/>
                  <a:pt x="23416" y="28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Ink 4"/>
          <p:cNvSpPr/>
          <p:nvPr/>
        </p:nvSpPr>
        <p:spPr>
          <a:xfrm>
            <a:off x="3606840" y="1231920"/>
            <a:ext cx="3206880" cy="608040"/>
          </a:xfrm>
          <a:custGeom>
            <a:avLst/>
            <a:gdLst/>
            <a:ahLst/>
            <a:rect l="l" t="t" r="r" b="b"/>
            <a:pathLst>
              <a:path w="8906" h="1688">
                <a:moveTo>
                  <a:pt x="10021" y="4316"/>
                </a:moveTo>
                <a:cubicBezTo>
                  <a:pt x="10211" y="4316"/>
                  <a:pt x="10402" y="4316"/>
                  <a:pt x="10592" y="4316"/>
                </a:cubicBezTo>
                <a:cubicBezTo>
                  <a:pt x="10540" y="4316"/>
                  <a:pt x="10522" y="4317"/>
                  <a:pt x="10492" y="4341"/>
                </a:cubicBezTo>
              </a:path>
              <a:path w="8906" h="1688">
                <a:moveTo>
                  <a:pt x="10021" y="4564"/>
                </a:moveTo>
                <a:cubicBezTo>
                  <a:pt x="10088" y="4604"/>
                  <a:pt x="10098" y="4567"/>
                  <a:pt x="10170" y="4564"/>
                </a:cubicBezTo>
                <a:cubicBezTo>
                  <a:pt x="10297" y="4558"/>
                  <a:pt x="10419" y="4553"/>
                  <a:pt x="10542" y="4539"/>
                </a:cubicBezTo>
                <a:cubicBezTo>
                  <a:pt x="10621" y="4530"/>
                  <a:pt x="10625" y="4571"/>
                  <a:pt x="10641" y="4539"/>
                </a:cubicBezTo>
              </a:path>
              <a:path w="8906" h="1688">
                <a:moveTo>
                  <a:pt x="11112" y="3671"/>
                </a:moveTo>
                <a:cubicBezTo>
                  <a:pt x="11130" y="3702"/>
                  <a:pt x="11165" y="3808"/>
                  <a:pt x="11162" y="3845"/>
                </a:cubicBezTo>
                <a:cubicBezTo>
                  <a:pt x="11153" y="3951"/>
                  <a:pt x="11120" y="4055"/>
                  <a:pt x="11137" y="4167"/>
                </a:cubicBezTo>
                <a:cubicBezTo>
                  <a:pt x="11157" y="4298"/>
                  <a:pt x="11176" y="4431"/>
                  <a:pt x="11187" y="4564"/>
                </a:cubicBezTo>
                <a:cubicBezTo>
                  <a:pt x="11189" y="4590"/>
                  <a:pt x="11206" y="4813"/>
                  <a:pt x="11162" y="4812"/>
                </a:cubicBezTo>
                <a:cubicBezTo>
                  <a:pt x="11162" y="4804"/>
                  <a:pt x="11162" y="4795"/>
                  <a:pt x="11162" y="4787"/>
                </a:cubicBezTo>
              </a:path>
              <a:path w="8906" h="1688">
                <a:moveTo>
                  <a:pt x="10840" y="4167"/>
                </a:moveTo>
                <a:cubicBezTo>
                  <a:pt x="11009" y="4167"/>
                  <a:pt x="11171" y="4175"/>
                  <a:pt x="11336" y="4192"/>
                </a:cubicBezTo>
                <a:cubicBezTo>
                  <a:pt x="11434" y="4202"/>
                  <a:pt x="11516" y="4186"/>
                  <a:pt x="11609" y="4217"/>
                </a:cubicBezTo>
              </a:path>
              <a:path w="8906" h="1688">
                <a:moveTo>
                  <a:pt x="12005" y="4390"/>
                </a:moveTo>
                <a:cubicBezTo>
                  <a:pt x="12067" y="4422"/>
                  <a:pt x="11982" y="4303"/>
                  <a:pt x="11956" y="4266"/>
                </a:cubicBezTo>
                <a:cubicBezTo>
                  <a:pt x="11916" y="4209"/>
                  <a:pt x="11855" y="4204"/>
                  <a:pt x="11807" y="4242"/>
                </a:cubicBezTo>
                <a:cubicBezTo>
                  <a:pt x="11740" y="4294"/>
                  <a:pt x="11676" y="4368"/>
                  <a:pt x="11633" y="4440"/>
                </a:cubicBezTo>
                <a:cubicBezTo>
                  <a:pt x="11583" y="4524"/>
                  <a:pt x="11569" y="4643"/>
                  <a:pt x="11559" y="4738"/>
                </a:cubicBezTo>
                <a:cubicBezTo>
                  <a:pt x="11546" y="4866"/>
                  <a:pt x="11592" y="4974"/>
                  <a:pt x="11733" y="4936"/>
                </a:cubicBezTo>
                <a:cubicBezTo>
                  <a:pt x="11816" y="4914"/>
                  <a:pt x="11812" y="4820"/>
                  <a:pt x="11857" y="4762"/>
                </a:cubicBezTo>
                <a:cubicBezTo>
                  <a:pt x="11917" y="4685"/>
                  <a:pt x="11951" y="4642"/>
                  <a:pt x="11956" y="4539"/>
                </a:cubicBezTo>
                <a:cubicBezTo>
                  <a:pt x="11959" y="4476"/>
                  <a:pt x="11975" y="4430"/>
                  <a:pt x="11981" y="4366"/>
                </a:cubicBezTo>
                <a:cubicBezTo>
                  <a:pt x="11959" y="4447"/>
                  <a:pt x="11956" y="4506"/>
                  <a:pt x="11956" y="4589"/>
                </a:cubicBezTo>
                <a:cubicBezTo>
                  <a:pt x="11956" y="4661"/>
                  <a:pt x="11959" y="4724"/>
                  <a:pt x="11981" y="4787"/>
                </a:cubicBezTo>
                <a:cubicBezTo>
                  <a:pt x="11996" y="4829"/>
                  <a:pt x="12041" y="4942"/>
                  <a:pt x="12105" y="4936"/>
                </a:cubicBezTo>
                <a:cubicBezTo>
                  <a:pt x="12132" y="4908"/>
                  <a:pt x="12140" y="4894"/>
                  <a:pt x="12129" y="4862"/>
                </a:cubicBezTo>
              </a:path>
              <a:path w="8906" h="1688">
                <a:moveTo>
                  <a:pt x="12179" y="4366"/>
                </a:moveTo>
                <a:cubicBezTo>
                  <a:pt x="12179" y="4472"/>
                  <a:pt x="12159" y="4562"/>
                  <a:pt x="12154" y="4663"/>
                </a:cubicBezTo>
                <a:cubicBezTo>
                  <a:pt x="12150" y="4738"/>
                  <a:pt x="12175" y="4791"/>
                  <a:pt x="12179" y="4862"/>
                </a:cubicBezTo>
                <a:cubicBezTo>
                  <a:pt x="12179" y="4878"/>
                  <a:pt x="12179" y="4895"/>
                  <a:pt x="12179" y="4911"/>
                </a:cubicBezTo>
                <a:cubicBezTo>
                  <a:pt x="12179" y="4766"/>
                  <a:pt x="12189" y="4634"/>
                  <a:pt x="12204" y="4490"/>
                </a:cubicBezTo>
                <a:cubicBezTo>
                  <a:pt x="12213" y="4407"/>
                  <a:pt x="12215" y="4369"/>
                  <a:pt x="12254" y="4291"/>
                </a:cubicBezTo>
                <a:cubicBezTo>
                  <a:pt x="12298" y="4201"/>
                  <a:pt x="12310" y="4186"/>
                  <a:pt x="12402" y="4167"/>
                </a:cubicBezTo>
                <a:cubicBezTo>
                  <a:pt x="12448" y="4213"/>
                  <a:pt x="12473" y="4257"/>
                  <a:pt x="12502" y="4316"/>
                </a:cubicBezTo>
                <a:cubicBezTo>
                  <a:pt x="12540" y="4393"/>
                  <a:pt x="12526" y="4479"/>
                  <a:pt x="12526" y="4564"/>
                </a:cubicBezTo>
                <a:cubicBezTo>
                  <a:pt x="12526" y="4632"/>
                  <a:pt x="12571" y="4691"/>
                  <a:pt x="12551" y="4762"/>
                </a:cubicBezTo>
                <a:cubicBezTo>
                  <a:pt x="12514" y="4895"/>
                  <a:pt x="12541" y="4851"/>
                  <a:pt x="12551" y="4738"/>
                </a:cubicBezTo>
              </a:path>
              <a:path w="8906" h="1688">
                <a:moveTo>
                  <a:pt x="12700" y="3696"/>
                </a:moveTo>
                <a:cubicBezTo>
                  <a:pt x="12733" y="3638"/>
                  <a:pt x="12768" y="3579"/>
                  <a:pt x="12849" y="3597"/>
                </a:cubicBezTo>
                <a:cubicBezTo>
                  <a:pt x="12942" y="3617"/>
                  <a:pt x="12936" y="3732"/>
                  <a:pt x="12898" y="3795"/>
                </a:cubicBezTo>
                <a:cubicBezTo>
                  <a:pt x="12869" y="3842"/>
                  <a:pt x="12793" y="3862"/>
                  <a:pt x="12750" y="3894"/>
                </a:cubicBezTo>
                <a:cubicBezTo>
                  <a:pt x="12722" y="3922"/>
                  <a:pt x="12713" y="3936"/>
                  <a:pt x="12725" y="3969"/>
                </a:cubicBezTo>
                <a:cubicBezTo>
                  <a:pt x="12813" y="4002"/>
                  <a:pt x="12920" y="3994"/>
                  <a:pt x="13022" y="3994"/>
                </a:cubicBezTo>
              </a:path>
              <a:path w="8906" h="1688">
                <a:moveTo>
                  <a:pt x="13146" y="4167"/>
                </a:moveTo>
                <a:cubicBezTo>
                  <a:pt x="13192" y="4288"/>
                  <a:pt x="13240" y="4398"/>
                  <a:pt x="13295" y="4514"/>
                </a:cubicBezTo>
                <a:cubicBezTo>
                  <a:pt x="13329" y="4587"/>
                  <a:pt x="13390" y="4654"/>
                  <a:pt x="13444" y="4713"/>
                </a:cubicBezTo>
                <a:cubicBezTo>
                  <a:pt x="13488" y="4761"/>
                  <a:pt x="13480" y="4780"/>
                  <a:pt x="13494" y="4713"/>
                </a:cubicBezTo>
              </a:path>
              <a:path w="8906" h="1688">
                <a:moveTo>
                  <a:pt x="13519" y="4142"/>
                </a:moveTo>
                <a:cubicBezTo>
                  <a:pt x="13460" y="4251"/>
                  <a:pt x="13399" y="4368"/>
                  <a:pt x="13320" y="4465"/>
                </a:cubicBezTo>
                <a:cubicBezTo>
                  <a:pt x="13256" y="4544"/>
                  <a:pt x="13211" y="4631"/>
                  <a:pt x="13146" y="4713"/>
                </a:cubicBezTo>
                <a:cubicBezTo>
                  <a:pt x="13094" y="4778"/>
                  <a:pt x="13079" y="4930"/>
                  <a:pt x="12998" y="4911"/>
                </a:cubicBezTo>
                <a:cubicBezTo>
                  <a:pt x="12998" y="4903"/>
                  <a:pt x="12998" y="4895"/>
                  <a:pt x="12998" y="4887"/>
                </a:cubicBezTo>
              </a:path>
              <a:path w="8906" h="1688">
                <a:moveTo>
                  <a:pt x="14163" y="3423"/>
                </a:moveTo>
                <a:cubicBezTo>
                  <a:pt x="14104" y="3530"/>
                  <a:pt x="14061" y="3670"/>
                  <a:pt x="13990" y="3770"/>
                </a:cubicBezTo>
                <a:cubicBezTo>
                  <a:pt x="13906" y="3889"/>
                  <a:pt x="13866" y="4002"/>
                  <a:pt x="13816" y="4142"/>
                </a:cubicBezTo>
                <a:cubicBezTo>
                  <a:pt x="13774" y="4260"/>
                  <a:pt x="13791" y="4390"/>
                  <a:pt x="13791" y="4514"/>
                </a:cubicBezTo>
                <a:cubicBezTo>
                  <a:pt x="13791" y="4679"/>
                  <a:pt x="13830" y="4815"/>
                  <a:pt x="13940" y="4936"/>
                </a:cubicBezTo>
                <a:cubicBezTo>
                  <a:pt x="13947" y="4944"/>
                  <a:pt x="14067" y="5072"/>
                  <a:pt x="14064" y="5085"/>
                </a:cubicBezTo>
                <a:cubicBezTo>
                  <a:pt x="14056" y="5085"/>
                  <a:pt x="14047" y="5085"/>
                  <a:pt x="14039" y="5085"/>
                </a:cubicBezTo>
              </a:path>
              <a:path w="8906" h="1688">
                <a:moveTo>
                  <a:pt x="14635" y="4093"/>
                </a:moveTo>
                <a:cubicBezTo>
                  <a:pt x="14578" y="4101"/>
                  <a:pt x="14489" y="4119"/>
                  <a:pt x="14436" y="4142"/>
                </a:cubicBezTo>
                <a:cubicBezTo>
                  <a:pt x="14396" y="4160"/>
                  <a:pt x="14326" y="4216"/>
                  <a:pt x="14288" y="4242"/>
                </a:cubicBezTo>
                <a:cubicBezTo>
                  <a:pt x="14243" y="4273"/>
                  <a:pt x="14208" y="4324"/>
                  <a:pt x="14263" y="4366"/>
                </a:cubicBezTo>
                <a:cubicBezTo>
                  <a:pt x="14315" y="4406"/>
                  <a:pt x="14379" y="4400"/>
                  <a:pt x="14436" y="4440"/>
                </a:cubicBezTo>
                <a:cubicBezTo>
                  <a:pt x="14513" y="4494"/>
                  <a:pt x="14611" y="4507"/>
                  <a:pt x="14684" y="4564"/>
                </a:cubicBezTo>
                <a:cubicBezTo>
                  <a:pt x="14735" y="4604"/>
                  <a:pt x="14769" y="4689"/>
                  <a:pt x="14734" y="4738"/>
                </a:cubicBezTo>
                <a:cubicBezTo>
                  <a:pt x="14687" y="4804"/>
                  <a:pt x="14557" y="4809"/>
                  <a:pt x="14486" y="4812"/>
                </a:cubicBezTo>
                <a:cubicBezTo>
                  <a:pt x="14422" y="4815"/>
                  <a:pt x="14329" y="4823"/>
                  <a:pt x="14288" y="4762"/>
                </a:cubicBezTo>
                <a:cubicBezTo>
                  <a:pt x="14288" y="4754"/>
                  <a:pt x="14288" y="4746"/>
                  <a:pt x="14288" y="4738"/>
                </a:cubicBezTo>
              </a:path>
              <a:path w="8906" h="1688">
                <a:moveTo>
                  <a:pt x="14784" y="4390"/>
                </a:moveTo>
                <a:cubicBezTo>
                  <a:pt x="14895" y="4390"/>
                  <a:pt x="14972" y="4358"/>
                  <a:pt x="15081" y="4341"/>
                </a:cubicBezTo>
                <a:cubicBezTo>
                  <a:pt x="15155" y="4329"/>
                  <a:pt x="15173" y="4299"/>
                  <a:pt x="15230" y="4242"/>
                </a:cubicBezTo>
                <a:cubicBezTo>
                  <a:pt x="15263" y="4209"/>
                  <a:pt x="15296" y="4175"/>
                  <a:pt x="15329" y="4142"/>
                </a:cubicBezTo>
                <a:cubicBezTo>
                  <a:pt x="15260" y="4075"/>
                  <a:pt x="15242" y="4083"/>
                  <a:pt x="15156" y="4142"/>
                </a:cubicBezTo>
                <a:cubicBezTo>
                  <a:pt x="15100" y="4181"/>
                  <a:pt x="15025" y="4210"/>
                  <a:pt x="14982" y="4266"/>
                </a:cubicBezTo>
                <a:cubicBezTo>
                  <a:pt x="14941" y="4319"/>
                  <a:pt x="14895" y="4385"/>
                  <a:pt x="14858" y="4440"/>
                </a:cubicBezTo>
                <a:cubicBezTo>
                  <a:pt x="14813" y="4507"/>
                  <a:pt x="14808" y="4560"/>
                  <a:pt x="14808" y="4638"/>
                </a:cubicBezTo>
                <a:cubicBezTo>
                  <a:pt x="14808" y="4732"/>
                  <a:pt x="14858" y="4719"/>
                  <a:pt x="14932" y="4738"/>
                </a:cubicBezTo>
                <a:cubicBezTo>
                  <a:pt x="15017" y="4759"/>
                  <a:pt x="15081" y="4751"/>
                  <a:pt x="15156" y="4713"/>
                </a:cubicBezTo>
              </a:path>
              <a:path w="8906" h="1688">
                <a:moveTo>
                  <a:pt x="15577" y="4068"/>
                </a:moveTo>
                <a:cubicBezTo>
                  <a:pt x="15549" y="4118"/>
                  <a:pt x="15501" y="4167"/>
                  <a:pt x="15478" y="4217"/>
                </a:cubicBezTo>
                <a:cubicBezTo>
                  <a:pt x="15442" y="4296"/>
                  <a:pt x="15375" y="4381"/>
                  <a:pt x="15354" y="4465"/>
                </a:cubicBezTo>
                <a:cubicBezTo>
                  <a:pt x="15333" y="4547"/>
                  <a:pt x="15349" y="4627"/>
                  <a:pt x="15404" y="4688"/>
                </a:cubicBezTo>
                <a:cubicBezTo>
                  <a:pt x="15447" y="4736"/>
                  <a:pt x="15485" y="4753"/>
                  <a:pt x="15553" y="4738"/>
                </a:cubicBezTo>
                <a:cubicBezTo>
                  <a:pt x="15613" y="4718"/>
                  <a:pt x="15628" y="4719"/>
                  <a:pt x="15652" y="4688"/>
                </a:cubicBezTo>
              </a:path>
              <a:path w="8906" h="1688">
                <a:moveTo>
                  <a:pt x="15776" y="3746"/>
                </a:moveTo>
                <a:cubicBezTo>
                  <a:pt x="15838" y="3668"/>
                  <a:pt x="15906" y="3593"/>
                  <a:pt x="16024" y="3621"/>
                </a:cubicBezTo>
                <a:cubicBezTo>
                  <a:pt x="16099" y="3639"/>
                  <a:pt x="16068" y="3732"/>
                  <a:pt x="16049" y="3770"/>
                </a:cubicBezTo>
                <a:cubicBezTo>
                  <a:pt x="16020" y="3828"/>
                  <a:pt x="15971" y="3888"/>
                  <a:pt x="15925" y="3944"/>
                </a:cubicBezTo>
                <a:cubicBezTo>
                  <a:pt x="15881" y="3997"/>
                  <a:pt x="15832" y="3995"/>
                  <a:pt x="15875" y="4068"/>
                </a:cubicBezTo>
                <a:cubicBezTo>
                  <a:pt x="15915" y="4136"/>
                  <a:pt x="15981" y="4118"/>
                  <a:pt x="16049" y="4118"/>
                </a:cubicBezTo>
              </a:path>
              <a:path w="8906" h="1688">
                <a:moveTo>
                  <a:pt x="16148" y="4142"/>
                </a:moveTo>
                <a:cubicBezTo>
                  <a:pt x="16148" y="4300"/>
                  <a:pt x="16192" y="4325"/>
                  <a:pt x="16272" y="4465"/>
                </a:cubicBezTo>
                <a:cubicBezTo>
                  <a:pt x="16301" y="4516"/>
                  <a:pt x="16370" y="4578"/>
                  <a:pt x="16421" y="4614"/>
                </a:cubicBezTo>
                <a:cubicBezTo>
                  <a:pt x="16490" y="4663"/>
                  <a:pt x="16538" y="4693"/>
                  <a:pt x="16619" y="4663"/>
                </a:cubicBezTo>
                <a:cubicBezTo>
                  <a:pt x="16667" y="4639"/>
                  <a:pt x="16684" y="4633"/>
                  <a:pt x="16669" y="4589"/>
                </a:cubicBezTo>
              </a:path>
              <a:path w="8906" h="1688">
                <a:moveTo>
                  <a:pt x="16570" y="4043"/>
                </a:moveTo>
                <a:cubicBezTo>
                  <a:pt x="16472" y="4141"/>
                  <a:pt x="16425" y="4231"/>
                  <a:pt x="16346" y="4341"/>
                </a:cubicBezTo>
                <a:cubicBezTo>
                  <a:pt x="16284" y="4427"/>
                  <a:pt x="16210" y="4503"/>
                  <a:pt x="16148" y="4589"/>
                </a:cubicBezTo>
                <a:cubicBezTo>
                  <a:pt x="16117" y="4632"/>
                  <a:pt x="16066" y="4711"/>
                  <a:pt x="16049" y="4762"/>
                </a:cubicBezTo>
                <a:cubicBezTo>
                  <a:pt x="16049" y="4770"/>
                  <a:pt x="16049" y="4779"/>
                  <a:pt x="16049" y="4787"/>
                </a:cubicBezTo>
              </a:path>
              <a:path w="8906" h="1688">
                <a:moveTo>
                  <a:pt x="16942" y="4291"/>
                </a:moveTo>
                <a:cubicBezTo>
                  <a:pt x="17038" y="4310"/>
                  <a:pt x="17117" y="4316"/>
                  <a:pt x="17214" y="4316"/>
                </a:cubicBezTo>
                <a:cubicBezTo>
                  <a:pt x="17301" y="4316"/>
                  <a:pt x="17390" y="4328"/>
                  <a:pt x="17462" y="4291"/>
                </a:cubicBezTo>
              </a:path>
              <a:path w="8906" h="1688">
                <a:moveTo>
                  <a:pt x="18033" y="3870"/>
                </a:moveTo>
                <a:cubicBezTo>
                  <a:pt x="18049" y="3941"/>
                  <a:pt x="18052" y="4061"/>
                  <a:pt x="18033" y="4142"/>
                </a:cubicBezTo>
                <a:cubicBezTo>
                  <a:pt x="18014" y="4223"/>
                  <a:pt x="18025" y="4308"/>
                  <a:pt x="18008" y="4390"/>
                </a:cubicBezTo>
                <a:cubicBezTo>
                  <a:pt x="17989" y="4479"/>
                  <a:pt x="18003" y="4576"/>
                  <a:pt x="17983" y="4663"/>
                </a:cubicBezTo>
                <a:cubicBezTo>
                  <a:pt x="17976" y="4696"/>
                  <a:pt x="17960" y="4887"/>
                  <a:pt x="17909" y="4887"/>
                </a:cubicBezTo>
                <a:cubicBezTo>
                  <a:pt x="17909" y="4879"/>
                  <a:pt x="17909" y="4870"/>
                  <a:pt x="17909" y="4862"/>
                </a:cubicBezTo>
              </a:path>
              <a:path w="8906" h="1688">
                <a:moveTo>
                  <a:pt x="18380" y="3522"/>
                </a:moveTo>
                <a:cubicBezTo>
                  <a:pt x="18525" y="3605"/>
                  <a:pt x="18498" y="3663"/>
                  <a:pt x="18604" y="3770"/>
                </a:cubicBezTo>
                <a:cubicBezTo>
                  <a:pt x="18720" y="3887"/>
                  <a:pt x="18792" y="4032"/>
                  <a:pt x="18852" y="4192"/>
                </a:cubicBezTo>
                <a:cubicBezTo>
                  <a:pt x="18904" y="4329"/>
                  <a:pt x="18926" y="4469"/>
                  <a:pt x="18926" y="4614"/>
                </a:cubicBezTo>
                <a:cubicBezTo>
                  <a:pt x="18926" y="4706"/>
                  <a:pt x="18898" y="4820"/>
                  <a:pt x="18827" y="4887"/>
                </a:cubicBezTo>
                <a:cubicBezTo>
                  <a:pt x="18762" y="4948"/>
                  <a:pt x="18704" y="4986"/>
                  <a:pt x="18628" y="5035"/>
                </a:cubicBezTo>
                <a:cubicBezTo>
                  <a:pt x="18595" y="5060"/>
                  <a:pt x="18562" y="5085"/>
                  <a:pt x="18529" y="51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Ink 5"/>
          <p:cNvSpPr/>
          <p:nvPr/>
        </p:nvSpPr>
        <p:spPr>
          <a:xfrm>
            <a:off x="3527280" y="2428920"/>
            <a:ext cx="196920" cy="81000"/>
          </a:xfrm>
          <a:custGeom>
            <a:avLst/>
            <a:gdLst/>
            <a:ahLst/>
            <a:rect l="l" t="t" r="r" b="b"/>
            <a:pathLst>
              <a:path w="547" h="224">
                <a:moveTo>
                  <a:pt x="9798" y="6747"/>
                </a:moveTo>
                <a:cubicBezTo>
                  <a:pt x="9947" y="6747"/>
                  <a:pt x="10221" y="6698"/>
                  <a:pt x="10344" y="6772"/>
                </a:cubicBezTo>
              </a:path>
              <a:path w="547" h="224">
                <a:moveTo>
                  <a:pt x="9872" y="6945"/>
                </a:moveTo>
                <a:cubicBezTo>
                  <a:pt x="9976" y="6966"/>
                  <a:pt x="10064" y="6970"/>
                  <a:pt x="10170" y="6970"/>
                </a:cubicBezTo>
                <a:cubicBezTo>
                  <a:pt x="10203" y="6970"/>
                  <a:pt x="10236" y="6970"/>
                  <a:pt x="10269" y="69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Ink 6"/>
          <p:cNvSpPr/>
          <p:nvPr/>
        </p:nvSpPr>
        <p:spPr>
          <a:xfrm>
            <a:off x="3902040" y="2232000"/>
            <a:ext cx="1170000" cy="438120"/>
          </a:xfrm>
          <a:custGeom>
            <a:avLst/>
            <a:gdLst/>
            <a:ahLst/>
            <a:rect l="l" t="t" r="r" b="b"/>
            <a:pathLst>
              <a:path w="3250" h="1217">
                <a:moveTo>
                  <a:pt x="11237" y="6350"/>
                </a:moveTo>
                <a:cubicBezTo>
                  <a:pt x="11237" y="6333"/>
                  <a:pt x="11237" y="6317"/>
                  <a:pt x="11237" y="6300"/>
                </a:cubicBezTo>
                <a:cubicBezTo>
                  <a:pt x="11237" y="6405"/>
                  <a:pt x="11225" y="6500"/>
                  <a:pt x="11212" y="6598"/>
                </a:cubicBezTo>
                <a:cubicBezTo>
                  <a:pt x="11200" y="6686"/>
                  <a:pt x="11237" y="6779"/>
                  <a:pt x="11237" y="6871"/>
                </a:cubicBezTo>
                <a:cubicBezTo>
                  <a:pt x="11237" y="6993"/>
                  <a:pt x="11272" y="7192"/>
                  <a:pt x="11212" y="7293"/>
                </a:cubicBezTo>
              </a:path>
              <a:path w="3250" h="1217">
                <a:moveTo>
                  <a:pt x="10840" y="6747"/>
                </a:moveTo>
                <a:cubicBezTo>
                  <a:pt x="11033" y="6747"/>
                  <a:pt x="11218" y="6755"/>
                  <a:pt x="11410" y="6772"/>
                </a:cubicBezTo>
                <a:cubicBezTo>
                  <a:pt x="11486" y="6772"/>
                  <a:pt x="11512" y="6772"/>
                  <a:pt x="11559" y="6796"/>
                </a:cubicBezTo>
              </a:path>
              <a:path w="3250" h="1217">
                <a:moveTo>
                  <a:pt x="12055" y="6945"/>
                </a:moveTo>
                <a:cubicBezTo>
                  <a:pt x="12055" y="7024"/>
                  <a:pt x="11994" y="6913"/>
                  <a:pt x="11956" y="6871"/>
                </a:cubicBezTo>
                <a:cubicBezTo>
                  <a:pt x="11914" y="6824"/>
                  <a:pt x="11895" y="6800"/>
                  <a:pt x="11832" y="6796"/>
                </a:cubicBezTo>
                <a:cubicBezTo>
                  <a:pt x="11757" y="6792"/>
                  <a:pt x="11734" y="6795"/>
                  <a:pt x="11683" y="6846"/>
                </a:cubicBezTo>
                <a:cubicBezTo>
                  <a:pt x="11639" y="6890"/>
                  <a:pt x="11596" y="6959"/>
                  <a:pt x="11584" y="7020"/>
                </a:cubicBezTo>
                <a:cubicBezTo>
                  <a:pt x="11572" y="7078"/>
                  <a:pt x="11542" y="7156"/>
                  <a:pt x="11559" y="7218"/>
                </a:cubicBezTo>
                <a:cubicBezTo>
                  <a:pt x="11568" y="7250"/>
                  <a:pt x="11616" y="7358"/>
                  <a:pt x="11658" y="7367"/>
                </a:cubicBezTo>
                <a:cubicBezTo>
                  <a:pt x="11689" y="7374"/>
                  <a:pt x="11810" y="7336"/>
                  <a:pt x="11832" y="7317"/>
                </a:cubicBezTo>
                <a:cubicBezTo>
                  <a:pt x="11862" y="7290"/>
                  <a:pt x="11945" y="7211"/>
                  <a:pt x="11956" y="7169"/>
                </a:cubicBezTo>
                <a:cubicBezTo>
                  <a:pt x="11974" y="7101"/>
                  <a:pt x="11976" y="7031"/>
                  <a:pt x="12005" y="6970"/>
                </a:cubicBezTo>
                <a:cubicBezTo>
                  <a:pt x="11940" y="6871"/>
                  <a:pt x="12005" y="7034"/>
                  <a:pt x="12005" y="7094"/>
                </a:cubicBezTo>
                <a:cubicBezTo>
                  <a:pt x="12005" y="7194"/>
                  <a:pt x="12064" y="7258"/>
                  <a:pt x="12129" y="7342"/>
                </a:cubicBezTo>
                <a:cubicBezTo>
                  <a:pt x="12158" y="7379"/>
                  <a:pt x="12187" y="7367"/>
                  <a:pt x="12229" y="7367"/>
                </a:cubicBezTo>
              </a:path>
              <a:path w="3250" h="1217">
                <a:moveTo>
                  <a:pt x="12303" y="6921"/>
                </a:moveTo>
                <a:cubicBezTo>
                  <a:pt x="12303" y="7059"/>
                  <a:pt x="12285" y="7213"/>
                  <a:pt x="12328" y="7342"/>
                </a:cubicBezTo>
                <a:cubicBezTo>
                  <a:pt x="12336" y="7278"/>
                  <a:pt x="12332" y="7178"/>
                  <a:pt x="12353" y="7119"/>
                </a:cubicBezTo>
                <a:cubicBezTo>
                  <a:pt x="12373" y="7064"/>
                  <a:pt x="12373" y="6999"/>
                  <a:pt x="12402" y="6945"/>
                </a:cubicBezTo>
                <a:cubicBezTo>
                  <a:pt x="12437" y="6879"/>
                  <a:pt x="12448" y="6824"/>
                  <a:pt x="12502" y="6772"/>
                </a:cubicBezTo>
                <a:cubicBezTo>
                  <a:pt x="12597" y="6793"/>
                  <a:pt x="12641" y="6825"/>
                  <a:pt x="12700" y="6896"/>
                </a:cubicBezTo>
                <a:cubicBezTo>
                  <a:pt x="12735" y="6939"/>
                  <a:pt x="12747" y="7011"/>
                  <a:pt x="12750" y="7069"/>
                </a:cubicBezTo>
                <a:cubicBezTo>
                  <a:pt x="12754" y="7141"/>
                  <a:pt x="12770" y="7199"/>
                  <a:pt x="12774" y="7268"/>
                </a:cubicBezTo>
                <a:cubicBezTo>
                  <a:pt x="12776" y="7299"/>
                  <a:pt x="12774" y="7469"/>
                  <a:pt x="12774" y="7293"/>
                </a:cubicBezTo>
              </a:path>
              <a:path w="3250" h="1217">
                <a:moveTo>
                  <a:pt x="12725" y="6350"/>
                </a:moveTo>
                <a:cubicBezTo>
                  <a:pt x="12759" y="6247"/>
                  <a:pt x="12785" y="6156"/>
                  <a:pt x="12923" y="6226"/>
                </a:cubicBezTo>
                <a:cubicBezTo>
                  <a:pt x="13014" y="6272"/>
                  <a:pt x="12944" y="6365"/>
                  <a:pt x="12923" y="6424"/>
                </a:cubicBezTo>
                <a:cubicBezTo>
                  <a:pt x="12895" y="6500"/>
                  <a:pt x="12847" y="6534"/>
                  <a:pt x="12799" y="6598"/>
                </a:cubicBezTo>
                <a:cubicBezTo>
                  <a:pt x="12757" y="6654"/>
                  <a:pt x="12772" y="6704"/>
                  <a:pt x="12849" y="6722"/>
                </a:cubicBezTo>
                <a:cubicBezTo>
                  <a:pt x="12921" y="6739"/>
                  <a:pt x="13022" y="6722"/>
                  <a:pt x="13097" y="6722"/>
                </a:cubicBezTo>
              </a:path>
              <a:path w="3250" h="1217">
                <a:moveTo>
                  <a:pt x="13221" y="6772"/>
                </a:moveTo>
                <a:cubicBezTo>
                  <a:pt x="13247" y="6893"/>
                  <a:pt x="13273" y="6955"/>
                  <a:pt x="13320" y="7069"/>
                </a:cubicBezTo>
                <a:cubicBezTo>
                  <a:pt x="13357" y="7159"/>
                  <a:pt x="13400" y="7220"/>
                  <a:pt x="13469" y="7293"/>
                </a:cubicBezTo>
                <a:cubicBezTo>
                  <a:pt x="13511" y="7337"/>
                  <a:pt x="13570" y="7356"/>
                  <a:pt x="13618" y="7392"/>
                </a:cubicBezTo>
                <a:cubicBezTo>
                  <a:pt x="13666" y="7428"/>
                  <a:pt x="13670" y="7421"/>
                  <a:pt x="13717" y="7392"/>
                </a:cubicBezTo>
              </a:path>
              <a:path w="3250" h="1217">
                <a:moveTo>
                  <a:pt x="13519" y="6747"/>
                </a:moveTo>
                <a:cubicBezTo>
                  <a:pt x="13462" y="6824"/>
                  <a:pt x="13410" y="6900"/>
                  <a:pt x="13345" y="6970"/>
                </a:cubicBezTo>
                <a:cubicBezTo>
                  <a:pt x="13295" y="7023"/>
                  <a:pt x="13242" y="7106"/>
                  <a:pt x="13196" y="7169"/>
                </a:cubicBezTo>
                <a:cubicBezTo>
                  <a:pt x="13159" y="7219"/>
                  <a:pt x="13136" y="7314"/>
                  <a:pt x="13072" y="7342"/>
                </a:cubicBezTo>
                <a:cubicBezTo>
                  <a:pt x="13011" y="7369"/>
                  <a:pt x="13045" y="7380"/>
                  <a:pt x="13097" y="7367"/>
                </a:cubicBezTo>
              </a:path>
              <a:path w="3250" h="1217">
                <a:moveTo>
                  <a:pt x="14089" y="6921"/>
                </a:moveTo>
                <a:lnTo>
                  <a:pt x="14089" y="6921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Ink 7"/>
          <p:cNvSpPr/>
          <p:nvPr/>
        </p:nvSpPr>
        <p:spPr>
          <a:xfrm>
            <a:off x="5259240" y="2251080"/>
            <a:ext cx="1044720" cy="490680"/>
          </a:xfrm>
          <a:custGeom>
            <a:avLst/>
            <a:gdLst/>
            <a:ahLst/>
            <a:rect l="l" t="t" r="r" b="b"/>
            <a:pathLst>
              <a:path w="2903" h="1365">
                <a:moveTo>
                  <a:pt x="14908" y="6276"/>
                </a:moveTo>
                <a:cubicBezTo>
                  <a:pt x="14933" y="6346"/>
                  <a:pt x="14932" y="6399"/>
                  <a:pt x="14932" y="6474"/>
                </a:cubicBezTo>
                <a:cubicBezTo>
                  <a:pt x="14932" y="6627"/>
                  <a:pt x="14939" y="6771"/>
                  <a:pt x="14957" y="6921"/>
                </a:cubicBezTo>
                <a:cubicBezTo>
                  <a:pt x="14968" y="7008"/>
                  <a:pt x="14964" y="7108"/>
                  <a:pt x="14982" y="7193"/>
                </a:cubicBezTo>
                <a:cubicBezTo>
                  <a:pt x="14992" y="7241"/>
                  <a:pt x="15039" y="7372"/>
                  <a:pt x="15032" y="7417"/>
                </a:cubicBezTo>
                <a:cubicBezTo>
                  <a:pt x="15024" y="7425"/>
                  <a:pt x="15015" y="7433"/>
                  <a:pt x="15007" y="7441"/>
                </a:cubicBezTo>
              </a:path>
              <a:path w="2903" h="1365">
                <a:moveTo>
                  <a:pt x="14610" y="6896"/>
                </a:moveTo>
                <a:cubicBezTo>
                  <a:pt x="14670" y="6836"/>
                  <a:pt x="14696" y="6846"/>
                  <a:pt x="14784" y="6846"/>
                </a:cubicBezTo>
                <a:cubicBezTo>
                  <a:pt x="14922" y="6846"/>
                  <a:pt x="15046" y="6866"/>
                  <a:pt x="15180" y="6871"/>
                </a:cubicBezTo>
                <a:cubicBezTo>
                  <a:pt x="15197" y="6871"/>
                  <a:pt x="15213" y="6871"/>
                  <a:pt x="15230" y="6871"/>
                </a:cubicBezTo>
              </a:path>
              <a:path w="2903" h="1365">
                <a:moveTo>
                  <a:pt x="15701" y="6821"/>
                </a:moveTo>
                <a:cubicBezTo>
                  <a:pt x="15651" y="6862"/>
                  <a:pt x="15598" y="6909"/>
                  <a:pt x="15553" y="6945"/>
                </a:cubicBezTo>
                <a:cubicBezTo>
                  <a:pt x="15472" y="7010"/>
                  <a:pt x="15413" y="7038"/>
                  <a:pt x="15379" y="7144"/>
                </a:cubicBezTo>
                <a:cubicBezTo>
                  <a:pt x="15357" y="7213"/>
                  <a:pt x="15327" y="7361"/>
                  <a:pt x="15404" y="7417"/>
                </a:cubicBezTo>
                <a:cubicBezTo>
                  <a:pt x="15476" y="7470"/>
                  <a:pt x="15527" y="7442"/>
                  <a:pt x="15577" y="7392"/>
                </a:cubicBezTo>
                <a:cubicBezTo>
                  <a:pt x="15614" y="7354"/>
                  <a:pt x="15651" y="7313"/>
                  <a:pt x="15677" y="7268"/>
                </a:cubicBezTo>
                <a:cubicBezTo>
                  <a:pt x="15716" y="7202"/>
                  <a:pt x="15701" y="7119"/>
                  <a:pt x="15701" y="7045"/>
                </a:cubicBezTo>
                <a:cubicBezTo>
                  <a:pt x="15701" y="6993"/>
                  <a:pt x="15700" y="6975"/>
                  <a:pt x="15677" y="6945"/>
                </a:cubicBezTo>
                <a:cubicBezTo>
                  <a:pt x="15648" y="7022"/>
                  <a:pt x="15657" y="7066"/>
                  <a:pt x="15677" y="7144"/>
                </a:cubicBezTo>
                <a:cubicBezTo>
                  <a:pt x="15700" y="7235"/>
                  <a:pt x="15732" y="7295"/>
                  <a:pt x="15776" y="7367"/>
                </a:cubicBezTo>
                <a:cubicBezTo>
                  <a:pt x="15801" y="7417"/>
                  <a:pt x="15809" y="7434"/>
                  <a:pt x="15850" y="7392"/>
                </a:cubicBezTo>
              </a:path>
              <a:path w="2903" h="1365">
                <a:moveTo>
                  <a:pt x="15850" y="6970"/>
                </a:moveTo>
                <a:cubicBezTo>
                  <a:pt x="15823" y="7061"/>
                  <a:pt x="15834" y="7116"/>
                  <a:pt x="15850" y="7193"/>
                </a:cubicBezTo>
                <a:cubicBezTo>
                  <a:pt x="15863" y="7259"/>
                  <a:pt x="15861" y="7339"/>
                  <a:pt x="15900" y="7392"/>
                </a:cubicBezTo>
                <a:cubicBezTo>
                  <a:pt x="15908" y="7400"/>
                  <a:pt x="15917" y="7409"/>
                  <a:pt x="15925" y="7417"/>
                </a:cubicBezTo>
                <a:cubicBezTo>
                  <a:pt x="15925" y="7331"/>
                  <a:pt x="15883" y="7198"/>
                  <a:pt x="15900" y="7119"/>
                </a:cubicBezTo>
                <a:cubicBezTo>
                  <a:pt x="15915" y="7047"/>
                  <a:pt x="15939" y="6972"/>
                  <a:pt x="15949" y="6896"/>
                </a:cubicBezTo>
                <a:cubicBezTo>
                  <a:pt x="15959" y="6824"/>
                  <a:pt x="15972" y="6781"/>
                  <a:pt x="16049" y="6772"/>
                </a:cubicBezTo>
                <a:cubicBezTo>
                  <a:pt x="16106" y="6765"/>
                  <a:pt x="16159" y="6818"/>
                  <a:pt x="16173" y="6871"/>
                </a:cubicBezTo>
                <a:cubicBezTo>
                  <a:pt x="16192" y="6942"/>
                  <a:pt x="16233" y="7019"/>
                  <a:pt x="16247" y="7094"/>
                </a:cubicBezTo>
                <a:cubicBezTo>
                  <a:pt x="16264" y="7183"/>
                  <a:pt x="16286" y="7272"/>
                  <a:pt x="16297" y="7367"/>
                </a:cubicBezTo>
                <a:cubicBezTo>
                  <a:pt x="16305" y="7438"/>
                  <a:pt x="16304" y="7512"/>
                  <a:pt x="16321" y="7392"/>
                </a:cubicBezTo>
              </a:path>
              <a:path w="2903" h="1365">
                <a:moveTo>
                  <a:pt x="16321" y="6325"/>
                </a:moveTo>
                <a:cubicBezTo>
                  <a:pt x="16367" y="6245"/>
                  <a:pt x="16378" y="6251"/>
                  <a:pt x="16470" y="6251"/>
                </a:cubicBezTo>
                <a:cubicBezTo>
                  <a:pt x="16515" y="6251"/>
                  <a:pt x="16598" y="6285"/>
                  <a:pt x="16594" y="6350"/>
                </a:cubicBezTo>
                <a:cubicBezTo>
                  <a:pt x="16592" y="6382"/>
                  <a:pt x="16534" y="6497"/>
                  <a:pt x="16520" y="6524"/>
                </a:cubicBezTo>
                <a:cubicBezTo>
                  <a:pt x="16484" y="6596"/>
                  <a:pt x="16495" y="6651"/>
                  <a:pt x="16545" y="6722"/>
                </a:cubicBezTo>
                <a:cubicBezTo>
                  <a:pt x="16570" y="6758"/>
                  <a:pt x="16653" y="6764"/>
                  <a:pt x="16694" y="6772"/>
                </a:cubicBezTo>
              </a:path>
              <a:path w="2903" h="1365">
                <a:moveTo>
                  <a:pt x="16917" y="6846"/>
                </a:moveTo>
                <a:cubicBezTo>
                  <a:pt x="16923" y="6907"/>
                  <a:pt x="16927" y="6991"/>
                  <a:pt x="16966" y="7045"/>
                </a:cubicBezTo>
                <a:cubicBezTo>
                  <a:pt x="17010" y="7106"/>
                  <a:pt x="17069" y="7220"/>
                  <a:pt x="17115" y="7268"/>
                </a:cubicBezTo>
                <a:cubicBezTo>
                  <a:pt x="17184" y="7340"/>
                  <a:pt x="17300" y="7417"/>
                  <a:pt x="17388" y="7466"/>
                </a:cubicBezTo>
                <a:cubicBezTo>
                  <a:pt x="17443" y="7494"/>
                  <a:pt x="17466" y="7502"/>
                  <a:pt x="17512" y="7491"/>
                </a:cubicBezTo>
              </a:path>
              <a:path w="2903" h="1365">
                <a:moveTo>
                  <a:pt x="17338" y="6970"/>
                </a:moveTo>
                <a:cubicBezTo>
                  <a:pt x="17246" y="7063"/>
                  <a:pt x="17153" y="7150"/>
                  <a:pt x="17066" y="7243"/>
                </a:cubicBezTo>
                <a:cubicBezTo>
                  <a:pt x="16985" y="7330"/>
                  <a:pt x="16901" y="7406"/>
                  <a:pt x="16818" y="7491"/>
                </a:cubicBezTo>
                <a:cubicBezTo>
                  <a:pt x="16777" y="7532"/>
                  <a:pt x="16735" y="7574"/>
                  <a:pt x="16694" y="76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Ink 8"/>
          <p:cNvSpPr/>
          <p:nvPr/>
        </p:nvSpPr>
        <p:spPr>
          <a:xfrm>
            <a:off x="3670200" y="2955960"/>
            <a:ext cx="1571760" cy="561960"/>
          </a:xfrm>
          <a:custGeom>
            <a:avLst/>
            <a:gdLst/>
            <a:ahLst/>
            <a:rect l="l" t="t" r="r" b="b"/>
            <a:pathLst>
              <a:path w="4366" h="1564">
                <a:moveTo>
                  <a:pt x="10269" y="8756"/>
                </a:moveTo>
                <a:cubicBezTo>
                  <a:pt x="10385" y="8756"/>
                  <a:pt x="10500" y="8756"/>
                  <a:pt x="10616" y="8756"/>
                </a:cubicBezTo>
              </a:path>
              <a:path w="4366" h="1564">
                <a:moveTo>
                  <a:pt x="10195" y="8979"/>
                </a:moveTo>
                <a:cubicBezTo>
                  <a:pt x="10292" y="9003"/>
                  <a:pt x="10357" y="9014"/>
                  <a:pt x="10443" y="9004"/>
                </a:cubicBezTo>
                <a:cubicBezTo>
                  <a:pt x="10459" y="9004"/>
                  <a:pt x="10476" y="9004"/>
                  <a:pt x="10492" y="9004"/>
                </a:cubicBezTo>
              </a:path>
              <a:path w="4366" h="1564">
                <a:moveTo>
                  <a:pt x="11361" y="8384"/>
                </a:moveTo>
                <a:cubicBezTo>
                  <a:pt x="11383" y="8495"/>
                  <a:pt x="11385" y="8593"/>
                  <a:pt x="11385" y="8706"/>
                </a:cubicBezTo>
                <a:cubicBezTo>
                  <a:pt x="11385" y="8954"/>
                  <a:pt x="11385" y="9649"/>
                  <a:pt x="11385" y="9401"/>
                </a:cubicBezTo>
              </a:path>
              <a:path w="4366" h="1564">
                <a:moveTo>
                  <a:pt x="11063" y="8781"/>
                </a:moveTo>
                <a:cubicBezTo>
                  <a:pt x="11206" y="8781"/>
                  <a:pt x="11350" y="8792"/>
                  <a:pt x="11485" y="8806"/>
                </a:cubicBezTo>
                <a:cubicBezTo>
                  <a:pt x="11567" y="8806"/>
                  <a:pt x="11584" y="8806"/>
                  <a:pt x="11633" y="8806"/>
                </a:cubicBezTo>
              </a:path>
              <a:path w="4366" h="1564">
                <a:moveTo>
                  <a:pt x="12005" y="8806"/>
                </a:moveTo>
                <a:cubicBezTo>
                  <a:pt x="12107" y="8830"/>
                  <a:pt x="11957" y="8840"/>
                  <a:pt x="11906" y="8880"/>
                </a:cubicBezTo>
                <a:cubicBezTo>
                  <a:pt x="11839" y="8933"/>
                  <a:pt x="11796" y="9005"/>
                  <a:pt x="11757" y="9079"/>
                </a:cubicBezTo>
                <a:cubicBezTo>
                  <a:pt x="11729" y="9133"/>
                  <a:pt x="11720" y="9215"/>
                  <a:pt x="11733" y="9277"/>
                </a:cubicBezTo>
                <a:cubicBezTo>
                  <a:pt x="11755" y="9381"/>
                  <a:pt x="11827" y="9407"/>
                  <a:pt x="11931" y="9376"/>
                </a:cubicBezTo>
                <a:cubicBezTo>
                  <a:pt x="11978" y="9362"/>
                  <a:pt x="12038" y="9267"/>
                  <a:pt x="12055" y="9227"/>
                </a:cubicBezTo>
                <a:cubicBezTo>
                  <a:pt x="12088" y="9150"/>
                  <a:pt x="12086" y="9065"/>
                  <a:pt x="12080" y="9004"/>
                </a:cubicBezTo>
                <a:cubicBezTo>
                  <a:pt x="12080" y="8943"/>
                  <a:pt x="12089" y="8927"/>
                  <a:pt x="12055" y="8905"/>
                </a:cubicBezTo>
                <a:cubicBezTo>
                  <a:pt x="12055" y="9014"/>
                  <a:pt x="12080" y="9077"/>
                  <a:pt x="12129" y="9178"/>
                </a:cubicBezTo>
                <a:cubicBezTo>
                  <a:pt x="12156" y="9235"/>
                  <a:pt x="12146" y="9290"/>
                  <a:pt x="12204" y="9327"/>
                </a:cubicBezTo>
                <a:cubicBezTo>
                  <a:pt x="12281" y="9376"/>
                  <a:pt x="12324" y="9367"/>
                  <a:pt x="12402" y="9351"/>
                </a:cubicBezTo>
              </a:path>
              <a:path w="4366" h="1564">
                <a:moveTo>
                  <a:pt x="12402" y="8905"/>
                </a:moveTo>
                <a:cubicBezTo>
                  <a:pt x="12386" y="9000"/>
                  <a:pt x="12356" y="9128"/>
                  <a:pt x="12378" y="9227"/>
                </a:cubicBezTo>
                <a:cubicBezTo>
                  <a:pt x="12391" y="9285"/>
                  <a:pt x="12399" y="9354"/>
                  <a:pt x="12427" y="9401"/>
                </a:cubicBezTo>
                <a:cubicBezTo>
                  <a:pt x="12427" y="9309"/>
                  <a:pt x="12438" y="9237"/>
                  <a:pt x="12452" y="9153"/>
                </a:cubicBezTo>
                <a:cubicBezTo>
                  <a:pt x="12463" y="9085"/>
                  <a:pt x="12460" y="9020"/>
                  <a:pt x="12477" y="8954"/>
                </a:cubicBezTo>
                <a:cubicBezTo>
                  <a:pt x="12492" y="8896"/>
                  <a:pt x="12523" y="8840"/>
                  <a:pt x="12576" y="8806"/>
                </a:cubicBezTo>
                <a:cubicBezTo>
                  <a:pt x="12658" y="8754"/>
                  <a:pt x="12734" y="8811"/>
                  <a:pt x="12774" y="8880"/>
                </a:cubicBezTo>
                <a:cubicBezTo>
                  <a:pt x="12822" y="8963"/>
                  <a:pt x="12878" y="9059"/>
                  <a:pt x="12898" y="9153"/>
                </a:cubicBezTo>
                <a:cubicBezTo>
                  <a:pt x="12913" y="9223"/>
                  <a:pt x="12920" y="9305"/>
                  <a:pt x="12923" y="9376"/>
                </a:cubicBezTo>
                <a:cubicBezTo>
                  <a:pt x="12923" y="9426"/>
                  <a:pt x="12923" y="9443"/>
                  <a:pt x="12923" y="9376"/>
                </a:cubicBezTo>
              </a:path>
              <a:path w="4366" h="1564">
                <a:moveTo>
                  <a:pt x="13097" y="8409"/>
                </a:moveTo>
                <a:cubicBezTo>
                  <a:pt x="13090" y="8460"/>
                  <a:pt x="13050" y="8525"/>
                  <a:pt x="13072" y="8582"/>
                </a:cubicBezTo>
                <a:cubicBezTo>
                  <a:pt x="13096" y="8644"/>
                  <a:pt x="13195" y="8644"/>
                  <a:pt x="13246" y="8632"/>
                </a:cubicBezTo>
                <a:cubicBezTo>
                  <a:pt x="13286" y="8612"/>
                  <a:pt x="13292" y="8603"/>
                  <a:pt x="13320" y="8607"/>
                </a:cubicBezTo>
              </a:path>
              <a:path w="4366" h="1564">
                <a:moveTo>
                  <a:pt x="13345" y="8210"/>
                </a:moveTo>
                <a:cubicBezTo>
                  <a:pt x="13345" y="8284"/>
                  <a:pt x="13324" y="8338"/>
                  <a:pt x="13320" y="8409"/>
                </a:cubicBezTo>
                <a:cubicBezTo>
                  <a:pt x="13315" y="8498"/>
                  <a:pt x="13335" y="8576"/>
                  <a:pt x="13345" y="8657"/>
                </a:cubicBezTo>
                <a:cubicBezTo>
                  <a:pt x="13360" y="8777"/>
                  <a:pt x="13327" y="8891"/>
                  <a:pt x="13370" y="9004"/>
                </a:cubicBezTo>
              </a:path>
              <a:path w="4366" h="1564">
                <a:moveTo>
                  <a:pt x="13717" y="8880"/>
                </a:moveTo>
                <a:cubicBezTo>
                  <a:pt x="13767" y="8930"/>
                  <a:pt x="13808" y="8966"/>
                  <a:pt x="13841" y="9029"/>
                </a:cubicBezTo>
                <a:cubicBezTo>
                  <a:pt x="13889" y="9120"/>
                  <a:pt x="13927" y="9171"/>
                  <a:pt x="13990" y="9252"/>
                </a:cubicBezTo>
                <a:cubicBezTo>
                  <a:pt x="14054" y="9335"/>
                  <a:pt x="14111" y="9385"/>
                  <a:pt x="14188" y="9451"/>
                </a:cubicBezTo>
                <a:cubicBezTo>
                  <a:pt x="14257" y="9511"/>
                  <a:pt x="14327" y="9587"/>
                  <a:pt x="14412" y="9624"/>
                </a:cubicBezTo>
                <a:cubicBezTo>
                  <a:pt x="14504" y="9664"/>
                  <a:pt x="14496" y="9639"/>
                  <a:pt x="14560" y="9575"/>
                </a:cubicBezTo>
              </a:path>
              <a:path w="4366" h="1564">
                <a:moveTo>
                  <a:pt x="14263" y="8806"/>
                </a:moveTo>
                <a:cubicBezTo>
                  <a:pt x="14139" y="8957"/>
                  <a:pt x="14069" y="9072"/>
                  <a:pt x="13965" y="9227"/>
                </a:cubicBezTo>
                <a:cubicBezTo>
                  <a:pt x="13897" y="9328"/>
                  <a:pt x="13876" y="9451"/>
                  <a:pt x="13816" y="9550"/>
                </a:cubicBezTo>
                <a:cubicBezTo>
                  <a:pt x="13772" y="9624"/>
                  <a:pt x="13714" y="9697"/>
                  <a:pt x="13667" y="97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Ink 9"/>
          <p:cNvSpPr/>
          <p:nvPr/>
        </p:nvSpPr>
        <p:spPr>
          <a:xfrm>
            <a:off x="2517840" y="1258920"/>
            <a:ext cx="384120" cy="1778040"/>
          </a:xfrm>
          <a:custGeom>
            <a:avLst/>
            <a:gdLst/>
            <a:ahLst/>
            <a:rect l="l" t="t" r="r" b="b"/>
            <a:pathLst>
              <a:path w="1068" h="4938">
                <a:moveTo>
                  <a:pt x="6995" y="3497"/>
                </a:moveTo>
                <a:cubicBezTo>
                  <a:pt x="7013" y="3558"/>
                  <a:pt x="7061" y="3649"/>
                  <a:pt x="7069" y="3721"/>
                </a:cubicBezTo>
                <a:cubicBezTo>
                  <a:pt x="7084" y="3850"/>
                  <a:pt x="7091" y="3988"/>
                  <a:pt x="7094" y="4118"/>
                </a:cubicBezTo>
                <a:cubicBezTo>
                  <a:pt x="7099" y="4349"/>
                  <a:pt x="7132" y="4581"/>
                  <a:pt x="7144" y="4812"/>
                </a:cubicBezTo>
                <a:cubicBezTo>
                  <a:pt x="7155" y="5026"/>
                  <a:pt x="7153" y="5243"/>
                  <a:pt x="7169" y="5457"/>
                </a:cubicBezTo>
                <a:cubicBezTo>
                  <a:pt x="7192" y="5754"/>
                  <a:pt x="7224" y="6053"/>
                  <a:pt x="7243" y="6350"/>
                </a:cubicBezTo>
                <a:cubicBezTo>
                  <a:pt x="7257" y="6566"/>
                  <a:pt x="7262" y="6780"/>
                  <a:pt x="7293" y="6995"/>
                </a:cubicBezTo>
                <a:cubicBezTo>
                  <a:pt x="7317" y="7160"/>
                  <a:pt x="7337" y="7325"/>
                  <a:pt x="7342" y="7491"/>
                </a:cubicBezTo>
                <a:cubicBezTo>
                  <a:pt x="7345" y="7590"/>
                  <a:pt x="7373" y="7695"/>
                  <a:pt x="7367" y="7789"/>
                </a:cubicBezTo>
                <a:cubicBezTo>
                  <a:pt x="7363" y="7862"/>
                  <a:pt x="7328" y="7834"/>
                  <a:pt x="7317" y="7863"/>
                </a:cubicBezTo>
              </a:path>
              <a:path w="1068" h="4938">
                <a:moveTo>
                  <a:pt x="6995" y="7640"/>
                </a:moveTo>
                <a:cubicBezTo>
                  <a:pt x="7054" y="7742"/>
                  <a:pt x="7132" y="7836"/>
                  <a:pt x="7193" y="7938"/>
                </a:cubicBezTo>
                <a:cubicBezTo>
                  <a:pt x="7251" y="8035"/>
                  <a:pt x="7277" y="8143"/>
                  <a:pt x="7342" y="8235"/>
                </a:cubicBezTo>
                <a:cubicBezTo>
                  <a:pt x="7388" y="8300"/>
                  <a:pt x="7431" y="8358"/>
                  <a:pt x="7441" y="8434"/>
                </a:cubicBezTo>
                <a:cubicBezTo>
                  <a:pt x="7488" y="8339"/>
                  <a:pt x="7534" y="8244"/>
                  <a:pt x="7590" y="8136"/>
                </a:cubicBezTo>
                <a:cubicBezTo>
                  <a:pt x="7656" y="8007"/>
                  <a:pt x="7709" y="7920"/>
                  <a:pt x="7813" y="7813"/>
                </a:cubicBezTo>
                <a:cubicBezTo>
                  <a:pt x="7892" y="7732"/>
                  <a:pt x="7959" y="7704"/>
                  <a:pt x="8062" y="76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Ink 10"/>
          <p:cNvSpPr/>
          <p:nvPr/>
        </p:nvSpPr>
        <p:spPr>
          <a:xfrm>
            <a:off x="6858000" y="3973680"/>
            <a:ext cx="1206360" cy="349200"/>
          </a:xfrm>
          <a:custGeom>
            <a:avLst/>
            <a:gdLst/>
            <a:ahLst/>
            <a:rect l="l" t="t" r="r" b="b"/>
            <a:pathLst>
              <a:path w="3350" h="968">
                <a:moveTo>
                  <a:pt x="19298" y="11336"/>
                </a:moveTo>
                <a:cubicBezTo>
                  <a:pt x="19307" y="11266"/>
                  <a:pt x="19336" y="11176"/>
                  <a:pt x="19372" y="11112"/>
                </a:cubicBezTo>
                <a:cubicBezTo>
                  <a:pt x="19408" y="11048"/>
                  <a:pt x="19442" y="11021"/>
                  <a:pt x="19521" y="11038"/>
                </a:cubicBezTo>
                <a:cubicBezTo>
                  <a:pt x="19609" y="11057"/>
                  <a:pt x="19643" y="11129"/>
                  <a:pt x="19670" y="11212"/>
                </a:cubicBezTo>
                <a:cubicBezTo>
                  <a:pt x="19719" y="11366"/>
                  <a:pt x="19688" y="11466"/>
                  <a:pt x="19645" y="11609"/>
                </a:cubicBezTo>
                <a:cubicBezTo>
                  <a:pt x="19613" y="11715"/>
                  <a:pt x="19572" y="11817"/>
                  <a:pt x="19472" y="11881"/>
                </a:cubicBezTo>
                <a:cubicBezTo>
                  <a:pt x="19398" y="11928"/>
                  <a:pt x="19275" y="11992"/>
                  <a:pt x="19199" y="11931"/>
                </a:cubicBezTo>
                <a:cubicBezTo>
                  <a:pt x="19135" y="11879"/>
                  <a:pt x="19121" y="11849"/>
                  <a:pt x="19075" y="11782"/>
                </a:cubicBezTo>
                <a:cubicBezTo>
                  <a:pt x="19053" y="11750"/>
                  <a:pt x="19090" y="11596"/>
                  <a:pt x="19149" y="11584"/>
                </a:cubicBezTo>
                <a:cubicBezTo>
                  <a:pt x="19234" y="11566"/>
                  <a:pt x="19320" y="11615"/>
                  <a:pt x="19372" y="11683"/>
                </a:cubicBezTo>
                <a:cubicBezTo>
                  <a:pt x="19433" y="11764"/>
                  <a:pt x="19502" y="11830"/>
                  <a:pt x="19571" y="11906"/>
                </a:cubicBezTo>
                <a:cubicBezTo>
                  <a:pt x="19628" y="11968"/>
                  <a:pt x="19693" y="11975"/>
                  <a:pt x="19769" y="12005"/>
                </a:cubicBezTo>
              </a:path>
              <a:path w="3350" h="968">
                <a:moveTo>
                  <a:pt x="19968" y="11410"/>
                </a:moveTo>
                <a:cubicBezTo>
                  <a:pt x="20004" y="11517"/>
                  <a:pt x="20046" y="11619"/>
                  <a:pt x="20117" y="11708"/>
                </a:cubicBezTo>
                <a:cubicBezTo>
                  <a:pt x="20200" y="11812"/>
                  <a:pt x="20294" y="11910"/>
                  <a:pt x="20389" y="12005"/>
                </a:cubicBezTo>
              </a:path>
              <a:path w="3350" h="968">
                <a:moveTo>
                  <a:pt x="20389" y="11361"/>
                </a:moveTo>
                <a:cubicBezTo>
                  <a:pt x="20271" y="11434"/>
                  <a:pt x="20074" y="11533"/>
                  <a:pt x="19993" y="11658"/>
                </a:cubicBezTo>
                <a:cubicBezTo>
                  <a:pt x="19945" y="11732"/>
                  <a:pt x="19937" y="11809"/>
                  <a:pt x="19893" y="11881"/>
                </a:cubicBezTo>
                <a:cubicBezTo>
                  <a:pt x="19826" y="11992"/>
                  <a:pt x="19944" y="11935"/>
                  <a:pt x="19993" y="11906"/>
                </a:cubicBezTo>
              </a:path>
              <a:path w="3350" h="968">
                <a:moveTo>
                  <a:pt x="20786" y="11286"/>
                </a:moveTo>
                <a:cubicBezTo>
                  <a:pt x="20786" y="11402"/>
                  <a:pt x="20787" y="11521"/>
                  <a:pt x="20762" y="11633"/>
                </a:cubicBezTo>
                <a:cubicBezTo>
                  <a:pt x="20744" y="11715"/>
                  <a:pt x="20737" y="11773"/>
                  <a:pt x="20737" y="11857"/>
                </a:cubicBezTo>
              </a:path>
              <a:path w="3350" h="968">
                <a:moveTo>
                  <a:pt x="20563" y="11584"/>
                </a:moveTo>
                <a:cubicBezTo>
                  <a:pt x="20746" y="11558"/>
                  <a:pt x="20898" y="11574"/>
                  <a:pt x="21084" y="11584"/>
                </a:cubicBezTo>
              </a:path>
              <a:path w="3350" h="968">
                <a:moveTo>
                  <a:pt x="21530" y="11237"/>
                </a:moveTo>
                <a:cubicBezTo>
                  <a:pt x="21502" y="11323"/>
                  <a:pt x="21465" y="11420"/>
                  <a:pt x="21456" y="11509"/>
                </a:cubicBezTo>
                <a:cubicBezTo>
                  <a:pt x="21446" y="11609"/>
                  <a:pt x="21481" y="11703"/>
                  <a:pt x="21481" y="11807"/>
                </a:cubicBezTo>
                <a:cubicBezTo>
                  <a:pt x="21481" y="11865"/>
                  <a:pt x="21465" y="11889"/>
                  <a:pt x="21506" y="11881"/>
                </a:cubicBezTo>
              </a:path>
              <a:path w="3350" h="968">
                <a:moveTo>
                  <a:pt x="21903" y="11237"/>
                </a:moveTo>
                <a:cubicBezTo>
                  <a:pt x="21870" y="11325"/>
                  <a:pt x="21840" y="11437"/>
                  <a:pt x="21853" y="11534"/>
                </a:cubicBezTo>
                <a:cubicBezTo>
                  <a:pt x="21868" y="11642"/>
                  <a:pt x="21942" y="11725"/>
                  <a:pt x="22027" y="11782"/>
                </a:cubicBezTo>
                <a:cubicBezTo>
                  <a:pt x="22083" y="11819"/>
                  <a:pt x="22169" y="11822"/>
                  <a:pt x="22225" y="11782"/>
                </a:cubicBezTo>
                <a:cubicBezTo>
                  <a:pt x="22300" y="11728"/>
                  <a:pt x="22382" y="11600"/>
                  <a:pt x="22399" y="11509"/>
                </a:cubicBezTo>
                <a:cubicBezTo>
                  <a:pt x="22425" y="11371"/>
                  <a:pt x="22303" y="11208"/>
                  <a:pt x="22200" y="11137"/>
                </a:cubicBezTo>
                <a:cubicBezTo>
                  <a:pt x="22105" y="11072"/>
                  <a:pt x="22009" y="11088"/>
                  <a:pt x="21903" y="110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Ink 11"/>
          <p:cNvSpPr/>
          <p:nvPr/>
        </p:nvSpPr>
        <p:spPr>
          <a:xfrm>
            <a:off x="6643800" y="4456080"/>
            <a:ext cx="1295280" cy="428760"/>
          </a:xfrm>
          <a:custGeom>
            <a:avLst/>
            <a:gdLst/>
            <a:ahLst/>
            <a:rect l="l" t="t" r="r" b="b"/>
            <a:pathLst>
              <a:path w="3597" h="1191">
                <a:moveTo>
                  <a:pt x="18529" y="12675"/>
                </a:moveTo>
                <a:cubicBezTo>
                  <a:pt x="18579" y="12626"/>
                  <a:pt x="18600" y="12628"/>
                  <a:pt x="18653" y="12601"/>
                </a:cubicBezTo>
                <a:cubicBezTo>
                  <a:pt x="18726" y="12564"/>
                  <a:pt x="18733" y="12585"/>
                  <a:pt x="18802" y="12626"/>
                </a:cubicBezTo>
                <a:cubicBezTo>
                  <a:pt x="18876" y="12670"/>
                  <a:pt x="18910" y="12733"/>
                  <a:pt x="18901" y="12824"/>
                </a:cubicBezTo>
                <a:cubicBezTo>
                  <a:pt x="18892" y="12914"/>
                  <a:pt x="18866" y="13088"/>
                  <a:pt x="18777" y="13146"/>
                </a:cubicBezTo>
                <a:cubicBezTo>
                  <a:pt x="18683" y="13207"/>
                  <a:pt x="18570" y="13247"/>
                  <a:pt x="18479" y="13171"/>
                </a:cubicBezTo>
                <a:cubicBezTo>
                  <a:pt x="18396" y="13102"/>
                  <a:pt x="18501" y="13042"/>
                  <a:pt x="18554" y="13022"/>
                </a:cubicBezTo>
                <a:cubicBezTo>
                  <a:pt x="18589" y="13082"/>
                  <a:pt x="18634" y="13143"/>
                  <a:pt x="18678" y="13196"/>
                </a:cubicBezTo>
                <a:cubicBezTo>
                  <a:pt x="18730" y="13248"/>
                  <a:pt x="18749" y="13265"/>
                  <a:pt x="18802" y="13271"/>
                </a:cubicBezTo>
              </a:path>
              <a:path w="3597" h="1191">
                <a:moveTo>
                  <a:pt x="19447" y="12378"/>
                </a:moveTo>
                <a:cubicBezTo>
                  <a:pt x="19405" y="12444"/>
                  <a:pt x="19348" y="12499"/>
                  <a:pt x="19323" y="12576"/>
                </a:cubicBezTo>
                <a:cubicBezTo>
                  <a:pt x="19276" y="12721"/>
                  <a:pt x="19269" y="12823"/>
                  <a:pt x="19298" y="12973"/>
                </a:cubicBezTo>
                <a:cubicBezTo>
                  <a:pt x="19335" y="13166"/>
                  <a:pt x="19429" y="13316"/>
                  <a:pt x="19546" y="13469"/>
                </a:cubicBezTo>
              </a:path>
              <a:path w="3597" h="1191">
                <a:moveTo>
                  <a:pt x="21729" y="12477"/>
                </a:moveTo>
                <a:cubicBezTo>
                  <a:pt x="21916" y="12646"/>
                  <a:pt x="21973" y="12769"/>
                  <a:pt x="22027" y="13022"/>
                </a:cubicBezTo>
                <a:cubicBezTo>
                  <a:pt x="22061" y="13178"/>
                  <a:pt x="22067" y="13339"/>
                  <a:pt x="22027" y="13494"/>
                </a:cubicBezTo>
                <a:cubicBezTo>
                  <a:pt x="22019" y="13519"/>
                  <a:pt x="22010" y="13543"/>
                  <a:pt x="22002" y="13568"/>
                </a:cubicBezTo>
              </a:path>
              <a:path w="3597" h="1191">
                <a:moveTo>
                  <a:pt x="19745" y="12973"/>
                </a:moveTo>
                <a:cubicBezTo>
                  <a:pt x="19849" y="13118"/>
                  <a:pt x="19945" y="13222"/>
                  <a:pt x="20092" y="13320"/>
                </a:cubicBezTo>
                <a:cubicBezTo>
                  <a:pt x="20117" y="13337"/>
                  <a:pt x="20141" y="13353"/>
                  <a:pt x="20166" y="13370"/>
                </a:cubicBezTo>
              </a:path>
              <a:path w="3597" h="1191">
                <a:moveTo>
                  <a:pt x="20117" y="12849"/>
                </a:moveTo>
                <a:cubicBezTo>
                  <a:pt x="20014" y="12975"/>
                  <a:pt x="19886" y="13116"/>
                  <a:pt x="19819" y="13271"/>
                </a:cubicBezTo>
                <a:cubicBezTo>
                  <a:pt x="19780" y="13387"/>
                  <a:pt x="19778" y="13406"/>
                  <a:pt x="19745" y="13469"/>
                </a:cubicBezTo>
              </a:path>
              <a:path w="3597" h="1191">
                <a:moveTo>
                  <a:pt x="20439" y="13022"/>
                </a:moveTo>
                <a:cubicBezTo>
                  <a:pt x="20439" y="13118"/>
                  <a:pt x="20438" y="13157"/>
                  <a:pt x="20414" y="13246"/>
                </a:cubicBezTo>
              </a:path>
              <a:path w="3597" h="1191">
                <a:moveTo>
                  <a:pt x="20315" y="13171"/>
                </a:moveTo>
                <a:cubicBezTo>
                  <a:pt x="20433" y="13208"/>
                  <a:pt x="20515" y="13246"/>
                  <a:pt x="20638" y="13246"/>
                </a:cubicBezTo>
              </a:path>
              <a:path w="3597" h="1191">
                <a:moveTo>
                  <a:pt x="21084" y="12824"/>
                </a:moveTo>
                <a:cubicBezTo>
                  <a:pt x="21168" y="12824"/>
                  <a:pt x="21228" y="12839"/>
                  <a:pt x="21307" y="12849"/>
                </a:cubicBezTo>
              </a:path>
              <a:path w="3597" h="1191">
                <a:moveTo>
                  <a:pt x="21109" y="12750"/>
                </a:moveTo>
                <a:cubicBezTo>
                  <a:pt x="21040" y="12769"/>
                  <a:pt x="20900" y="12784"/>
                  <a:pt x="20935" y="12898"/>
                </a:cubicBezTo>
                <a:cubicBezTo>
                  <a:pt x="20950" y="12947"/>
                  <a:pt x="21045" y="12979"/>
                  <a:pt x="21084" y="12998"/>
                </a:cubicBezTo>
                <a:cubicBezTo>
                  <a:pt x="21155" y="13033"/>
                  <a:pt x="21241" y="13073"/>
                  <a:pt x="21282" y="13146"/>
                </a:cubicBezTo>
                <a:cubicBezTo>
                  <a:pt x="21324" y="13221"/>
                  <a:pt x="21377" y="13401"/>
                  <a:pt x="21258" y="13444"/>
                </a:cubicBezTo>
                <a:cubicBezTo>
                  <a:pt x="21160" y="13479"/>
                  <a:pt x="21137" y="13409"/>
                  <a:pt x="21059" y="13395"/>
                </a:cubicBezTo>
                <a:cubicBezTo>
                  <a:pt x="20943" y="13374"/>
                  <a:pt x="20852" y="13340"/>
                  <a:pt x="20737" y="132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Verify:  sin</a:t>
            </a:r>
            <a:r>
              <a:rPr b="0" lang="en-US" sz="4000" spc="-1" strike="noStrike" baseline="30000">
                <a:solidFill>
                  <a:srgbClr val="d6d8c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x + sin x cos</a:t>
            </a:r>
            <a:r>
              <a:rPr b="0" lang="en-US" sz="4000" spc="-1" strike="noStrike" baseline="30000">
                <a:solidFill>
                  <a:srgbClr val="d6d8c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x = sin x</a:t>
            </a:r>
            <a:endParaRPr b="0" lang="en-US" sz="40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256" name="Ink 3"/>
          <p:cNvSpPr/>
          <p:nvPr/>
        </p:nvSpPr>
        <p:spPr>
          <a:xfrm>
            <a:off x="1633680" y="965160"/>
            <a:ext cx="5519520" cy="2428920"/>
          </a:xfrm>
          <a:custGeom>
            <a:avLst/>
            <a:gdLst/>
            <a:ahLst/>
            <a:rect l="l" t="t" r="r" b="b"/>
            <a:pathLst>
              <a:path w="15331" h="6748">
                <a:moveTo>
                  <a:pt x="6747" y="2729"/>
                </a:moveTo>
                <a:cubicBezTo>
                  <a:pt x="6734" y="2796"/>
                  <a:pt x="6733" y="2859"/>
                  <a:pt x="6722" y="2927"/>
                </a:cubicBezTo>
                <a:cubicBezTo>
                  <a:pt x="6711" y="2990"/>
                  <a:pt x="6656" y="3077"/>
                  <a:pt x="6648" y="3150"/>
                </a:cubicBezTo>
                <a:cubicBezTo>
                  <a:pt x="6638" y="3237"/>
                  <a:pt x="6626" y="3287"/>
                  <a:pt x="6623" y="3373"/>
                </a:cubicBezTo>
                <a:cubicBezTo>
                  <a:pt x="6623" y="3390"/>
                  <a:pt x="6623" y="3406"/>
                  <a:pt x="6623" y="3423"/>
                </a:cubicBezTo>
                <a:cubicBezTo>
                  <a:pt x="6673" y="3423"/>
                  <a:pt x="6767" y="3406"/>
                  <a:pt x="6846" y="3398"/>
                </a:cubicBezTo>
                <a:cubicBezTo>
                  <a:pt x="6938" y="3389"/>
                  <a:pt x="7029" y="3375"/>
                  <a:pt x="7119" y="3373"/>
                </a:cubicBezTo>
                <a:cubicBezTo>
                  <a:pt x="7255" y="3369"/>
                  <a:pt x="7379" y="3349"/>
                  <a:pt x="7516" y="3349"/>
                </a:cubicBezTo>
                <a:cubicBezTo>
                  <a:pt x="7677" y="3349"/>
                  <a:pt x="7827" y="3328"/>
                  <a:pt x="7987" y="3324"/>
                </a:cubicBezTo>
                <a:cubicBezTo>
                  <a:pt x="8286" y="3317"/>
                  <a:pt x="8582" y="3316"/>
                  <a:pt x="8880" y="3299"/>
                </a:cubicBezTo>
                <a:cubicBezTo>
                  <a:pt x="9116" y="3286"/>
                  <a:pt x="9386" y="3278"/>
                  <a:pt x="9624" y="3249"/>
                </a:cubicBezTo>
                <a:cubicBezTo>
                  <a:pt x="9752" y="3234"/>
                  <a:pt x="9871" y="3194"/>
                  <a:pt x="9996" y="3175"/>
                </a:cubicBezTo>
                <a:cubicBezTo>
                  <a:pt x="10054" y="3166"/>
                  <a:pt x="10199" y="3151"/>
                  <a:pt x="10244" y="3101"/>
                </a:cubicBezTo>
                <a:cubicBezTo>
                  <a:pt x="10290" y="3049"/>
                  <a:pt x="10258" y="2992"/>
                  <a:pt x="10269" y="2927"/>
                </a:cubicBezTo>
                <a:cubicBezTo>
                  <a:pt x="10282" y="2850"/>
                  <a:pt x="10312" y="2809"/>
                  <a:pt x="10319" y="2729"/>
                </a:cubicBezTo>
              </a:path>
              <a:path w="15331" h="6748">
                <a:moveTo>
                  <a:pt x="11708" y="2679"/>
                </a:moveTo>
                <a:cubicBezTo>
                  <a:pt x="11682" y="2742"/>
                  <a:pt x="11649" y="2783"/>
                  <a:pt x="11633" y="2853"/>
                </a:cubicBezTo>
                <a:cubicBezTo>
                  <a:pt x="11615" y="2935"/>
                  <a:pt x="11593" y="3044"/>
                  <a:pt x="11584" y="3125"/>
                </a:cubicBezTo>
                <a:cubicBezTo>
                  <a:pt x="11576" y="3194"/>
                  <a:pt x="11560" y="3379"/>
                  <a:pt x="11609" y="3423"/>
                </a:cubicBezTo>
                <a:cubicBezTo>
                  <a:pt x="11679" y="3485"/>
                  <a:pt x="11826" y="3433"/>
                  <a:pt x="11906" y="3423"/>
                </a:cubicBezTo>
                <a:cubicBezTo>
                  <a:pt x="12022" y="3408"/>
                  <a:pt x="12142" y="3399"/>
                  <a:pt x="12254" y="3373"/>
                </a:cubicBezTo>
                <a:cubicBezTo>
                  <a:pt x="12377" y="3344"/>
                  <a:pt x="12500" y="3307"/>
                  <a:pt x="12626" y="3299"/>
                </a:cubicBezTo>
                <a:cubicBezTo>
                  <a:pt x="12778" y="3289"/>
                  <a:pt x="12921" y="3287"/>
                  <a:pt x="13072" y="3274"/>
                </a:cubicBezTo>
                <a:cubicBezTo>
                  <a:pt x="13278" y="3256"/>
                  <a:pt x="13486" y="3267"/>
                  <a:pt x="13692" y="3249"/>
                </a:cubicBezTo>
                <a:cubicBezTo>
                  <a:pt x="13890" y="3232"/>
                  <a:pt x="14091" y="3243"/>
                  <a:pt x="14288" y="3225"/>
                </a:cubicBezTo>
                <a:cubicBezTo>
                  <a:pt x="14503" y="3205"/>
                  <a:pt x="14717" y="3217"/>
                  <a:pt x="14932" y="3200"/>
                </a:cubicBezTo>
                <a:cubicBezTo>
                  <a:pt x="15258" y="3174"/>
                  <a:pt x="15571" y="3187"/>
                  <a:pt x="15900" y="3175"/>
                </a:cubicBezTo>
                <a:cubicBezTo>
                  <a:pt x="16480" y="3153"/>
                  <a:pt x="17059" y="3136"/>
                  <a:pt x="17636" y="3175"/>
                </a:cubicBezTo>
                <a:cubicBezTo>
                  <a:pt x="17800" y="3186"/>
                  <a:pt x="17971" y="3191"/>
                  <a:pt x="18132" y="3200"/>
                </a:cubicBezTo>
                <a:cubicBezTo>
                  <a:pt x="18210" y="3204"/>
                  <a:pt x="18362" y="3224"/>
                  <a:pt x="18430" y="3175"/>
                </a:cubicBezTo>
                <a:cubicBezTo>
                  <a:pt x="18484" y="3136"/>
                  <a:pt x="18481" y="3048"/>
                  <a:pt x="18504" y="3001"/>
                </a:cubicBezTo>
                <a:cubicBezTo>
                  <a:pt x="18549" y="2911"/>
                  <a:pt x="18562" y="2815"/>
                  <a:pt x="18604" y="2729"/>
                </a:cubicBezTo>
                <a:cubicBezTo>
                  <a:pt x="18628" y="2704"/>
                  <a:pt x="18636" y="2695"/>
                  <a:pt x="18653" y="2679"/>
                </a:cubicBezTo>
              </a:path>
              <a:path w="15331" h="6748">
                <a:moveTo>
                  <a:pt x="5110" y="4738"/>
                </a:moveTo>
                <a:cubicBezTo>
                  <a:pt x="5056" y="4684"/>
                  <a:pt x="5018" y="4675"/>
                  <a:pt x="4936" y="4688"/>
                </a:cubicBezTo>
                <a:cubicBezTo>
                  <a:pt x="4845" y="4703"/>
                  <a:pt x="4717" y="4736"/>
                  <a:pt x="4638" y="4787"/>
                </a:cubicBezTo>
                <a:cubicBezTo>
                  <a:pt x="4586" y="4821"/>
                  <a:pt x="4564" y="4886"/>
                  <a:pt x="4614" y="4936"/>
                </a:cubicBezTo>
                <a:cubicBezTo>
                  <a:pt x="4664" y="4986"/>
                  <a:pt x="4752" y="4985"/>
                  <a:pt x="4812" y="5011"/>
                </a:cubicBezTo>
                <a:cubicBezTo>
                  <a:pt x="4881" y="5041"/>
                  <a:pt x="4973" y="5055"/>
                  <a:pt x="5035" y="5085"/>
                </a:cubicBezTo>
                <a:cubicBezTo>
                  <a:pt x="5108" y="5120"/>
                  <a:pt x="5194" y="5178"/>
                  <a:pt x="5209" y="5259"/>
                </a:cubicBezTo>
                <a:cubicBezTo>
                  <a:pt x="5227" y="5352"/>
                  <a:pt x="5182" y="5394"/>
                  <a:pt x="5110" y="5432"/>
                </a:cubicBezTo>
                <a:cubicBezTo>
                  <a:pt x="5023" y="5478"/>
                  <a:pt x="4952" y="5483"/>
                  <a:pt x="4862" y="5507"/>
                </a:cubicBezTo>
                <a:cubicBezTo>
                  <a:pt x="4782" y="5528"/>
                  <a:pt x="4667" y="5527"/>
                  <a:pt x="4589" y="5482"/>
                </a:cubicBezTo>
                <a:cubicBezTo>
                  <a:pt x="4542" y="5455"/>
                  <a:pt x="4546" y="5429"/>
                  <a:pt x="4539" y="5383"/>
                </a:cubicBezTo>
              </a:path>
              <a:path w="15331" h="6748">
                <a:moveTo>
                  <a:pt x="5507" y="4911"/>
                </a:moveTo>
                <a:cubicBezTo>
                  <a:pt x="5507" y="5047"/>
                  <a:pt x="5508" y="5186"/>
                  <a:pt x="5531" y="5308"/>
                </a:cubicBezTo>
                <a:cubicBezTo>
                  <a:pt x="5531" y="5360"/>
                  <a:pt x="5532" y="5378"/>
                  <a:pt x="5556" y="5407"/>
                </a:cubicBezTo>
                <a:cubicBezTo>
                  <a:pt x="5509" y="5361"/>
                  <a:pt x="5518" y="5335"/>
                  <a:pt x="5482" y="5283"/>
                </a:cubicBezTo>
                <a:cubicBezTo>
                  <a:pt x="5474" y="5275"/>
                  <a:pt x="5465" y="5267"/>
                  <a:pt x="5457" y="5259"/>
                </a:cubicBezTo>
              </a:path>
              <a:path w="15331" h="6748">
                <a:moveTo>
                  <a:pt x="5531" y="4539"/>
                </a:moveTo>
                <a:cubicBezTo>
                  <a:pt x="5539" y="4539"/>
                  <a:pt x="5548" y="4539"/>
                  <a:pt x="5556" y="4539"/>
                </a:cubicBezTo>
              </a:path>
              <a:path w="15331" h="6748">
                <a:moveTo>
                  <a:pt x="5730" y="5135"/>
                </a:moveTo>
                <a:cubicBezTo>
                  <a:pt x="5738" y="5234"/>
                  <a:pt x="5747" y="5333"/>
                  <a:pt x="5755" y="5432"/>
                </a:cubicBezTo>
                <a:cubicBezTo>
                  <a:pt x="5755" y="5271"/>
                  <a:pt x="5754" y="5114"/>
                  <a:pt x="5779" y="4961"/>
                </a:cubicBezTo>
                <a:cubicBezTo>
                  <a:pt x="5796" y="4853"/>
                  <a:pt x="5824" y="4821"/>
                  <a:pt x="5904" y="4762"/>
                </a:cubicBezTo>
                <a:cubicBezTo>
                  <a:pt x="5953" y="4726"/>
                  <a:pt x="6031" y="4737"/>
                  <a:pt x="6077" y="4787"/>
                </a:cubicBezTo>
                <a:cubicBezTo>
                  <a:pt x="6136" y="4850"/>
                  <a:pt x="6135" y="4937"/>
                  <a:pt x="6152" y="5011"/>
                </a:cubicBezTo>
                <a:cubicBezTo>
                  <a:pt x="6171" y="5094"/>
                  <a:pt x="6196" y="5173"/>
                  <a:pt x="6201" y="5259"/>
                </a:cubicBezTo>
                <a:cubicBezTo>
                  <a:pt x="6205" y="5339"/>
                  <a:pt x="6174" y="5408"/>
                  <a:pt x="6226" y="5407"/>
                </a:cubicBezTo>
              </a:path>
              <a:path w="15331" h="6748">
                <a:moveTo>
                  <a:pt x="6449" y="4887"/>
                </a:moveTo>
                <a:cubicBezTo>
                  <a:pt x="6491" y="4963"/>
                  <a:pt x="6502" y="5035"/>
                  <a:pt x="6548" y="5110"/>
                </a:cubicBezTo>
                <a:cubicBezTo>
                  <a:pt x="6600" y="5195"/>
                  <a:pt x="6651" y="5254"/>
                  <a:pt x="6697" y="5333"/>
                </a:cubicBezTo>
                <a:cubicBezTo>
                  <a:pt x="6728" y="5385"/>
                  <a:pt x="6805" y="5486"/>
                  <a:pt x="6871" y="5482"/>
                </a:cubicBezTo>
                <a:cubicBezTo>
                  <a:pt x="6888" y="5474"/>
                  <a:pt x="6904" y="5465"/>
                  <a:pt x="6921" y="5457"/>
                </a:cubicBezTo>
              </a:path>
              <a:path w="15331" h="6748">
                <a:moveTo>
                  <a:pt x="6796" y="4738"/>
                </a:moveTo>
                <a:cubicBezTo>
                  <a:pt x="6742" y="4879"/>
                  <a:pt x="6693" y="5002"/>
                  <a:pt x="6623" y="5135"/>
                </a:cubicBezTo>
                <a:cubicBezTo>
                  <a:pt x="6564" y="5247"/>
                  <a:pt x="6531" y="5294"/>
                  <a:pt x="6499" y="5407"/>
                </a:cubicBezTo>
                <a:cubicBezTo>
                  <a:pt x="6484" y="5460"/>
                  <a:pt x="6437" y="5494"/>
                  <a:pt x="6400" y="5531"/>
                </a:cubicBezTo>
                <a:cubicBezTo>
                  <a:pt x="6392" y="5539"/>
                  <a:pt x="6383" y="5548"/>
                  <a:pt x="6375" y="5556"/>
                </a:cubicBezTo>
              </a:path>
              <a:path w="15331" h="6748">
                <a:moveTo>
                  <a:pt x="7665" y="3894"/>
                </a:moveTo>
                <a:cubicBezTo>
                  <a:pt x="7625" y="3957"/>
                  <a:pt x="7589" y="4035"/>
                  <a:pt x="7541" y="4093"/>
                </a:cubicBezTo>
                <a:cubicBezTo>
                  <a:pt x="7436" y="4223"/>
                  <a:pt x="7321" y="4421"/>
                  <a:pt x="7268" y="4589"/>
                </a:cubicBezTo>
                <a:cubicBezTo>
                  <a:pt x="7225" y="4724"/>
                  <a:pt x="7222" y="4895"/>
                  <a:pt x="7218" y="5035"/>
                </a:cubicBezTo>
                <a:cubicBezTo>
                  <a:pt x="7213" y="5245"/>
                  <a:pt x="7291" y="5440"/>
                  <a:pt x="7417" y="5606"/>
                </a:cubicBezTo>
                <a:cubicBezTo>
                  <a:pt x="7490" y="5702"/>
                  <a:pt x="7635" y="5779"/>
                  <a:pt x="7739" y="5829"/>
                </a:cubicBezTo>
                <a:cubicBezTo>
                  <a:pt x="7826" y="5871"/>
                  <a:pt x="7891" y="5896"/>
                  <a:pt x="7987" y="5904"/>
                </a:cubicBezTo>
              </a:path>
              <a:path w="15331" h="6748">
                <a:moveTo>
                  <a:pt x="17264" y="3398"/>
                </a:moveTo>
                <a:cubicBezTo>
                  <a:pt x="17322" y="3440"/>
                  <a:pt x="17379" y="3501"/>
                  <a:pt x="17413" y="3572"/>
                </a:cubicBezTo>
                <a:cubicBezTo>
                  <a:pt x="17510" y="3773"/>
                  <a:pt x="17585" y="3958"/>
                  <a:pt x="17661" y="4167"/>
                </a:cubicBezTo>
                <a:cubicBezTo>
                  <a:pt x="17724" y="4340"/>
                  <a:pt x="17756" y="4501"/>
                  <a:pt x="17735" y="4688"/>
                </a:cubicBezTo>
                <a:cubicBezTo>
                  <a:pt x="17718" y="4838"/>
                  <a:pt x="17662" y="4981"/>
                  <a:pt x="17587" y="5110"/>
                </a:cubicBezTo>
                <a:cubicBezTo>
                  <a:pt x="17504" y="5253"/>
                  <a:pt x="17361" y="5329"/>
                  <a:pt x="17239" y="5432"/>
                </a:cubicBezTo>
                <a:cubicBezTo>
                  <a:pt x="17203" y="5462"/>
                  <a:pt x="17114" y="5550"/>
                  <a:pt x="17066" y="5556"/>
                </a:cubicBezTo>
                <a:cubicBezTo>
                  <a:pt x="17058" y="5548"/>
                  <a:pt x="17049" y="5539"/>
                  <a:pt x="17041" y="5531"/>
                </a:cubicBezTo>
              </a:path>
              <a:path w="15331" h="6748">
                <a:moveTo>
                  <a:pt x="18306" y="4440"/>
                </a:moveTo>
                <a:cubicBezTo>
                  <a:pt x="18401" y="4433"/>
                  <a:pt x="18487" y="4394"/>
                  <a:pt x="18579" y="4390"/>
                </a:cubicBezTo>
                <a:cubicBezTo>
                  <a:pt x="18711" y="4384"/>
                  <a:pt x="18844" y="4390"/>
                  <a:pt x="18976" y="4390"/>
                </a:cubicBezTo>
              </a:path>
              <a:path w="15331" h="6748">
                <a:moveTo>
                  <a:pt x="18182" y="4738"/>
                </a:moveTo>
                <a:cubicBezTo>
                  <a:pt x="18304" y="4738"/>
                  <a:pt x="18469" y="4704"/>
                  <a:pt x="18579" y="4713"/>
                </a:cubicBezTo>
                <a:cubicBezTo>
                  <a:pt x="18662" y="4720"/>
                  <a:pt x="18740" y="4738"/>
                  <a:pt x="18827" y="4738"/>
                </a:cubicBezTo>
                <a:cubicBezTo>
                  <a:pt x="18893" y="4738"/>
                  <a:pt x="18919" y="4766"/>
                  <a:pt x="18901" y="4713"/>
                </a:cubicBezTo>
              </a:path>
              <a:path w="15331" h="6748">
                <a:moveTo>
                  <a:pt x="8409" y="4688"/>
                </a:moveTo>
                <a:cubicBezTo>
                  <a:pt x="8332" y="4688"/>
                  <a:pt x="8281" y="4688"/>
                  <a:pt x="8210" y="4713"/>
                </a:cubicBezTo>
                <a:cubicBezTo>
                  <a:pt x="8123" y="4743"/>
                  <a:pt x="8064" y="4741"/>
                  <a:pt x="7987" y="4787"/>
                </a:cubicBezTo>
                <a:cubicBezTo>
                  <a:pt x="7928" y="4823"/>
                  <a:pt x="7867" y="4844"/>
                  <a:pt x="7813" y="4887"/>
                </a:cubicBezTo>
                <a:cubicBezTo>
                  <a:pt x="7863" y="4926"/>
                  <a:pt x="7926" y="4951"/>
                  <a:pt x="7987" y="4961"/>
                </a:cubicBezTo>
                <a:cubicBezTo>
                  <a:pt x="8072" y="4975"/>
                  <a:pt x="8154" y="4985"/>
                  <a:pt x="8235" y="5011"/>
                </a:cubicBezTo>
                <a:cubicBezTo>
                  <a:pt x="8341" y="5046"/>
                  <a:pt x="8372" y="5052"/>
                  <a:pt x="8434" y="5135"/>
                </a:cubicBezTo>
                <a:cubicBezTo>
                  <a:pt x="8480" y="5197"/>
                  <a:pt x="8447" y="5239"/>
                  <a:pt x="8384" y="5283"/>
                </a:cubicBezTo>
                <a:cubicBezTo>
                  <a:pt x="8310" y="5335"/>
                  <a:pt x="8196" y="5313"/>
                  <a:pt x="8111" y="5333"/>
                </a:cubicBezTo>
                <a:cubicBezTo>
                  <a:pt x="8034" y="5351"/>
                  <a:pt x="7952" y="5359"/>
                  <a:pt x="7888" y="5308"/>
                </a:cubicBezTo>
                <a:cubicBezTo>
                  <a:pt x="7866" y="5286"/>
                  <a:pt x="7857" y="5281"/>
                  <a:pt x="7863" y="5259"/>
                </a:cubicBezTo>
              </a:path>
              <a:path w="15331" h="6748">
                <a:moveTo>
                  <a:pt x="8731" y="4688"/>
                </a:moveTo>
                <a:cubicBezTo>
                  <a:pt x="8738" y="4767"/>
                  <a:pt x="8756" y="4830"/>
                  <a:pt x="8756" y="4911"/>
                </a:cubicBezTo>
                <a:cubicBezTo>
                  <a:pt x="8756" y="4936"/>
                  <a:pt x="8749" y="5270"/>
                  <a:pt x="8731" y="5259"/>
                </a:cubicBezTo>
                <a:cubicBezTo>
                  <a:pt x="8723" y="5242"/>
                  <a:pt x="8714" y="5226"/>
                  <a:pt x="8706" y="5209"/>
                </a:cubicBezTo>
              </a:path>
              <a:path w="15331" h="6748">
                <a:moveTo>
                  <a:pt x="8706" y="4366"/>
                </a:moveTo>
                <a:cubicBezTo>
                  <a:pt x="8729" y="4343"/>
                  <a:pt x="8737" y="4332"/>
                  <a:pt x="8731" y="4366"/>
                </a:cubicBezTo>
              </a:path>
              <a:path w="15331" h="6748">
                <a:moveTo>
                  <a:pt x="8979" y="4911"/>
                </a:moveTo>
                <a:cubicBezTo>
                  <a:pt x="8979" y="5001"/>
                  <a:pt x="9006" y="5198"/>
                  <a:pt x="8954" y="5283"/>
                </a:cubicBezTo>
                <a:cubicBezTo>
                  <a:pt x="8954" y="5177"/>
                  <a:pt x="8962" y="5085"/>
                  <a:pt x="8979" y="4986"/>
                </a:cubicBezTo>
                <a:cubicBezTo>
                  <a:pt x="8993" y="4905"/>
                  <a:pt x="8990" y="4865"/>
                  <a:pt x="9029" y="4787"/>
                </a:cubicBezTo>
                <a:cubicBezTo>
                  <a:pt x="9053" y="4739"/>
                  <a:pt x="9087" y="4649"/>
                  <a:pt x="9128" y="4614"/>
                </a:cubicBezTo>
                <a:cubicBezTo>
                  <a:pt x="9190" y="4561"/>
                  <a:pt x="9253" y="4546"/>
                  <a:pt x="9327" y="4589"/>
                </a:cubicBezTo>
                <a:cubicBezTo>
                  <a:pt x="9379" y="4619"/>
                  <a:pt x="9401" y="4689"/>
                  <a:pt x="9426" y="4738"/>
                </a:cubicBezTo>
                <a:cubicBezTo>
                  <a:pt x="9468" y="4820"/>
                  <a:pt x="9496" y="4895"/>
                  <a:pt x="9500" y="4986"/>
                </a:cubicBezTo>
                <a:cubicBezTo>
                  <a:pt x="9504" y="5086"/>
                  <a:pt x="9491" y="5167"/>
                  <a:pt x="9475" y="5259"/>
                </a:cubicBezTo>
                <a:cubicBezTo>
                  <a:pt x="9475" y="5303"/>
                  <a:pt x="9478" y="5323"/>
                  <a:pt x="9451" y="5283"/>
                </a:cubicBezTo>
              </a:path>
              <a:path w="15331" h="6748">
                <a:moveTo>
                  <a:pt x="9575" y="4018"/>
                </a:moveTo>
                <a:cubicBezTo>
                  <a:pt x="9675" y="3958"/>
                  <a:pt x="9734" y="3916"/>
                  <a:pt x="9847" y="3969"/>
                </a:cubicBezTo>
                <a:cubicBezTo>
                  <a:pt x="9905" y="3996"/>
                  <a:pt x="9874" y="4128"/>
                  <a:pt x="9847" y="4167"/>
                </a:cubicBezTo>
                <a:cubicBezTo>
                  <a:pt x="9806" y="4227"/>
                  <a:pt x="9743" y="4284"/>
                  <a:pt x="9699" y="4341"/>
                </a:cubicBezTo>
                <a:cubicBezTo>
                  <a:pt x="9636" y="4424"/>
                  <a:pt x="9837" y="4390"/>
                  <a:pt x="9872" y="4390"/>
                </a:cubicBezTo>
              </a:path>
              <a:path w="15331" h="6748">
                <a:moveTo>
                  <a:pt x="10046" y="4490"/>
                </a:moveTo>
                <a:cubicBezTo>
                  <a:pt x="10002" y="4555"/>
                  <a:pt x="9964" y="4649"/>
                  <a:pt x="9996" y="4738"/>
                </a:cubicBezTo>
                <a:cubicBezTo>
                  <a:pt x="10022" y="4810"/>
                  <a:pt x="10072" y="4922"/>
                  <a:pt x="10120" y="4986"/>
                </a:cubicBezTo>
                <a:cubicBezTo>
                  <a:pt x="10177" y="5061"/>
                  <a:pt x="10260" y="5115"/>
                  <a:pt x="10319" y="5184"/>
                </a:cubicBezTo>
                <a:cubicBezTo>
                  <a:pt x="10358" y="5230"/>
                  <a:pt x="10360" y="5226"/>
                  <a:pt x="10418" y="5234"/>
                </a:cubicBezTo>
              </a:path>
              <a:path w="15331" h="6748">
                <a:moveTo>
                  <a:pt x="10319" y="4638"/>
                </a:moveTo>
                <a:cubicBezTo>
                  <a:pt x="10253" y="4729"/>
                  <a:pt x="10162" y="4797"/>
                  <a:pt x="10096" y="4887"/>
                </a:cubicBezTo>
                <a:cubicBezTo>
                  <a:pt x="10046" y="4955"/>
                  <a:pt x="9984" y="5035"/>
                  <a:pt x="9922" y="5085"/>
                </a:cubicBezTo>
                <a:cubicBezTo>
                  <a:pt x="9864" y="5132"/>
                  <a:pt x="9844" y="5137"/>
                  <a:pt x="9823" y="5209"/>
                </a:cubicBezTo>
                <a:cubicBezTo>
                  <a:pt x="9823" y="5217"/>
                  <a:pt x="9823" y="5226"/>
                  <a:pt x="9823" y="5234"/>
                </a:cubicBezTo>
              </a:path>
              <a:path w="15331" h="6748">
                <a:moveTo>
                  <a:pt x="11435" y="4018"/>
                </a:moveTo>
                <a:cubicBezTo>
                  <a:pt x="11591" y="4054"/>
                  <a:pt x="11558" y="4069"/>
                  <a:pt x="11534" y="4217"/>
                </a:cubicBezTo>
                <a:cubicBezTo>
                  <a:pt x="11520" y="4306"/>
                  <a:pt x="11522" y="4401"/>
                  <a:pt x="11509" y="4490"/>
                </a:cubicBezTo>
                <a:cubicBezTo>
                  <a:pt x="11496" y="4583"/>
                  <a:pt x="11543" y="4918"/>
                  <a:pt x="11485" y="4837"/>
                </a:cubicBezTo>
              </a:path>
              <a:path w="15331" h="6748">
                <a:moveTo>
                  <a:pt x="11038" y="4564"/>
                </a:moveTo>
                <a:cubicBezTo>
                  <a:pt x="11104" y="4539"/>
                  <a:pt x="11194" y="4520"/>
                  <a:pt x="11261" y="4514"/>
                </a:cubicBezTo>
                <a:cubicBezTo>
                  <a:pt x="11544" y="4489"/>
                  <a:pt x="12335" y="4441"/>
                  <a:pt x="12055" y="4490"/>
                </a:cubicBezTo>
                <a:cubicBezTo>
                  <a:pt x="12014" y="4509"/>
                  <a:pt x="12008" y="4517"/>
                  <a:pt x="11981" y="4514"/>
                </a:cubicBezTo>
              </a:path>
              <a:path w="15331" h="6748">
                <a:moveTo>
                  <a:pt x="13742" y="4465"/>
                </a:moveTo>
                <a:cubicBezTo>
                  <a:pt x="13755" y="4553"/>
                  <a:pt x="13764" y="4552"/>
                  <a:pt x="13717" y="4465"/>
                </a:cubicBezTo>
                <a:cubicBezTo>
                  <a:pt x="13677" y="4389"/>
                  <a:pt x="13666" y="4377"/>
                  <a:pt x="13593" y="4415"/>
                </a:cubicBezTo>
                <a:cubicBezTo>
                  <a:pt x="13518" y="4454"/>
                  <a:pt x="13464" y="4493"/>
                  <a:pt x="13419" y="4564"/>
                </a:cubicBezTo>
                <a:cubicBezTo>
                  <a:pt x="13373" y="4638"/>
                  <a:pt x="13346" y="4684"/>
                  <a:pt x="13320" y="4762"/>
                </a:cubicBezTo>
                <a:cubicBezTo>
                  <a:pt x="13287" y="4859"/>
                  <a:pt x="13306" y="4886"/>
                  <a:pt x="13320" y="4986"/>
                </a:cubicBezTo>
                <a:cubicBezTo>
                  <a:pt x="13329" y="5051"/>
                  <a:pt x="13372" y="5112"/>
                  <a:pt x="13444" y="5135"/>
                </a:cubicBezTo>
                <a:cubicBezTo>
                  <a:pt x="13513" y="5157"/>
                  <a:pt x="13604" y="5134"/>
                  <a:pt x="13667" y="5110"/>
                </a:cubicBezTo>
              </a:path>
              <a:path w="15331" h="6748">
                <a:moveTo>
                  <a:pt x="14114" y="4539"/>
                </a:moveTo>
                <a:cubicBezTo>
                  <a:pt x="14087" y="4614"/>
                  <a:pt x="14062" y="4690"/>
                  <a:pt x="14039" y="4762"/>
                </a:cubicBezTo>
                <a:cubicBezTo>
                  <a:pt x="14013" y="4843"/>
                  <a:pt x="13966" y="4920"/>
                  <a:pt x="13990" y="5011"/>
                </a:cubicBezTo>
                <a:cubicBezTo>
                  <a:pt x="14008" y="5078"/>
                  <a:pt x="14053" y="5107"/>
                  <a:pt x="14114" y="5110"/>
                </a:cubicBezTo>
                <a:cubicBezTo>
                  <a:pt x="14220" y="5115"/>
                  <a:pt x="14296" y="5099"/>
                  <a:pt x="14387" y="5035"/>
                </a:cubicBezTo>
                <a:cubicBezTo>
                  <a:pt x="14446" y="4993"/>
                  <a:pt x="14502" y="4899"/>
                  <a:pt x="14536" y="4837"/>
                </a:cubicBezTo>
                <a:cubicBezTo>
                  <a:pt x="14564" y="4786"/>
                  <a:pt x="14576" y="4696"/>
                  <a:pt x="14560" y="4638"/>
                </a:cubicBezTo>
                <a:cubicBezTo>
                  <a:pt x="14541" y="4567"/>
                  <a:pt x="14487" y="4552"/>
                  <a:pt x="14436" y="4514"/>
                </a:cubicBezTo>
                <a:cubicBezTo>
                  <a:pt x="14388" y="4479"/>
                  <a:pt x="14300" y="4478"/>
                  <a:pt x="14238" y="4490"/>
                </a:cubicBezTo>
                <a:cubicBezTo>
                  <a:pt x="14170" y="4504"/>
                  <a:pt x="14061" y="4540"/>
                  <a:pt x="14039" y="4614"/>
                </a:cubicBezTo>
                <a:cubicBezTo>
                  <a:pt x="14039" y="4665"/>
                  <a:pt x="14040" y="4684"/>
                  <a:pt x="14064" y="4713"/>
                </a:cubicBezTo>
              </a:path>
              <a:path w="15331" h="6748">
                <a:moveTo>
                  <a:pt x="14932" y="4440"/>
                </a:moveTo>
                <a:cubicBezTo>
                  <a:pt x="14865" y="4448"/>
                  <a:pt x="14793" y="4479"/>
                  <a:pt x="14734" y="4514"/>
                </a:cubicBezTo>
                <a:cubicBezTo>
                  <a:pt x="14713" y="4527"/>
                  <a:pt x="14626" y="4612"/>
                  <a:pt x="14635" y="4638"/>
                </a:cubicBezTo>
                <a:cubicBezTo>
                  <a:pt x="14651" y="4684"/>
                  <a:pt x="14746" y="4739"/>
                  <a:pt x="14784" y="4762"/>
                </a:cubicBezTo>
                <a:cubicBezTo>
                  <a:pt x="14850" y="4801"/>
                  <a:pt x="14885" y="4854"/>
                  <a:pt x="14932" y="4911"/>
                </a:cubicBezTo>
                <a:cubicBezTo>
                  <a:pt x="14973" y="4960"/>
                  <a:pt x="15003" y="4984"/>
                  <a:pt x="14932" y="5035"/>
                </a:cubicBezTo>
                <a:cubicBezTo>
                  <a:pt x="14852" y="5092"/>
                  <a:pt x="14777" y="5085"/>
                  <a:pt x="14684" y="5085"/>
                </a:cubicBezTo>
                <a:cubicBezTo>
                  <a:pt x="14604" y="5085"/>
                  <a:pt x="14598" y="5076"/>
                  <a:pt x="14536" y="5060"/>
                </a:cubicBezTo>
              </a:path>
              <a:path w="15331" h="6748">
                <a:moveTo>
                  <a:pt x="15156" y="3919"/>
                </a:moveTo>
                <a:cubicBezTo>
                  <a:pt x="15225" y="3919"/>
                  <a:pt x="15293" y="3906"/>
                  <a:pt x="15354" y="3944"/>
                </a:cubicBezTo>
                <a:cubicBezTo>
                  <a:pt x="15406" y="3976"/>
                  <a:pt x="15447" y="4057"/>
                  <a:pt x="15429" y="4118"/>
                </a:cubicBezTo>
                <a:cubicBezTo>
                  <a:pt x="15422" y="4142"/>
                  <a:pt x="15348" y="4228"/>
                  <a:pt x="15329" y="4242"/>
                </a:cubicBezTo>
                <a:cubicBezTo>
                  <a:pt x="15295" y="4266"/>
                  <a:pt x="15175" y="4329"/>
                  <a:pt x="15156" y="4366"/>
                </a:cubicBezTo>
                <a:cubicBezTo>
                  <a:pt x="15156" y="4382"/>
                  <a:pt x="15156" y="4399"/>
                  <a:pt x="15156" y="4415"/>
                </a:cubicBezTo>
                <a:cubicBezTo>
                  <a:pt x="15272" y="4425"/>
                  <a:pt x="15394" y="4397"/>
                  <a:pt x="15503" y="4415"/>
                </a:cubicBezTo>
                <a:cubicBezTo>
                  <a:pt x="15520" y="4423"/>
                  <a:pt x="15536" y="4432"/>
                  <a:pt x="15553" y="4440"/>
                </a:cubicBezTo>
              </a:path>
              <a:path w="15331" h="6748">
                <a:moveTo>
                  <a:pt x="15949" y="4490"/>
                </a:moveTo>
                <a:cubicBezTo>
                  <a:pt x="15997" y="4615"/>
                  <a:pt x="16037" y="4711"/>
                  <a:pt x="16123" y="4812"/>
                </a:cubicBezTo>
                <a:cubicBezTo>
                  <a:pt x="16194" y="4895"/>
                  <a:pt x="16266" y="4901"/>
                  <a:pt x="16346" y="4961"/>
                </a:cubicBezTo>
                <a:cubicBezTo>
                  <a:pt x="16412" y="5010"/>
                  <a:pt x="16464" y="5055"/>
                  <a:pt x="16545" y="5060"/>
                </a:cubicBezTo>
                <a:cubicBezTo>
                  <a:pt x="16561" y="5060"/>
                  <a:pt x="16578" y="5060"/>
                  <a:pt x="16594" y="5060"/>
                </a:cubicBezTo>
              </a:path>
              <a:path w="15331" h="6748">
                <a:moveTo>
                  <a:pt x="16545" y="4514"/>
                </a:moveTo>
                <a:cubicBezTo>
                  <a:pt x="16444" y="4663"/>
                  <a:pt x="16347" y="4807"/>
                  <a:pt x="16222" y="4936"/>
                </a:cubicBezTo>
                <a:cubicBezTo>
                  <a:pt x="16122" y="5038"/>
                  <a:pt x="16034" y="5145"/>
                  <a:pt x="15949" y="5259"/>
                </a:cubicBezTo>
              </a:path>
              <a:path w="15331" h="6748">
                <a:moveTo>
                  <a:pt x="19869" y="3944"/>
                </a:moveTo>
                <a:cubicBezTo>
                  <a:pt x="19772" y="4288"/>
                  <a:pt x="19626" y="4614"/>
                  <a:pt x="19472" y="4936"/>
                </a:cubicBezTo>
                <a:cubicBezTo>
                  <a:pt x="19358" y="5174"/>
                  <a:pt x="19266" y="5416"/>
                  <a:pt x="19149" y="5655"/>
                </a:cubicBezTo>
                <a:cubicBezTo>
                  <a:pt x="18907" y="6146"/>
                  <a:pt x="18667" y="6645"/>
                  <a:pt x="18455" y="7144"/>
                </a:cubicBezTo>
                <a:cubicBezTo>
                  <a:pt x="18306" y="7495"/>
                  <a:pt x="18182" y="7858"/>
                  <a:pt x="18033" y="8210"/>
                </a:cubicBezTo>
                <a:cubicBezTo>
                  <a:pt x="17943" y="8424"/>
                  <a:pt x="17861" y="8636"/>
                  <a:pt x="17785" y="8855"/>
                </a:cubicBezTo>
                <a:cubicBezTo>
                  <a:pt x="17741" y="8982"/>
                  <a:pt x="17703" y="9161"/>
                  <a:pt x="17636" y="9277"/>
                </a:cubicBezTo>
                <a:cubicBezTo>
                  <a:pt x="17582" y="9372"/>
                  <a:pt x="17588" y="9349"/>
                  <a:pt x="17487" y="94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Ink 4"/>
          <p:cNvSpPr/>
          <p:nvPr/>
        </p:nvSpPr>
        <p:spPr>
          <a:xfrm>
            <a:off x="2490840" y="2536920"/>
            <a:ext cx="974520" cy="357120"/>
          </a:xfrm>
          <a:custGeom>
            <a:avLst/>
            <a:gdLst/>
            <a:ahLst/>
            <a:rect l="l" t="t" r="r" b="b"/>
            <a:pathLst>
              <a:path w="2704" h="993">
                <a:moveTo>
                  <a:pt x="7590" y="7317"/>
                </a:moveTo>
                <a:cubicBezTo>
                  <a:pt x="7565" y="7243"/>
                  <a:pt x="7530" y="7268"/>
                  <a:pt x="7441" y="7268"/>
                </a:cubicBezTo>
                <a:cubicBezTo>
                  <a:pt x="7362" y="7268"/>
                  <a:pt x="7291" y="7274"/>
                  <a:pt x="7218" y="7293"/>
                </a:cubicBezTo>
                <a:cubicBezTo>
                  <a:pt x="7136" y="7314"/>
                  <a:pt x="7045" y="7325"/>
                  <a:pt x="6970" y="7367"/>
                </a:cubicBezTo>
                <a:cubicBezTo>
                  <a:pt x="6898" y="7407"/>
                  <a:pt x="6929" y="7450"/>
                  <a:pt x="6970" y="7491"/>
                </a:cubicBezTo>
                <a:cubicBezTo>
                  <a:pt x="7036" y="7558"/>
                  <a:pt x="7192" y="7589"/>
                  <a:pt x="7268" y="7640"/>
                </a:cubicBezTo>
                <a:cubicBezTo>
                  <a:pt x="7361" y="7702"/>
                  <a:pt x="7446" y="7745"/>
                  <a:pt x="7541" y="7813"/>
                </a:cubicBezTo>
                <a:cubicBezTo>
                  <a:pt x="7601" y="7856"/>
                  <a:pt x="7636" y="7886"/>
                  <a:pt x="7640" y="7962"/>
                </a:cubicBezTo>
                <a:cubicBezTo>
                  <a:pt x="7646" y="8055"/>
                  <a:pt x="7590" y="8037"/>
                  <a:pt x="7516" y="8037"/>
                </a:cubicBezTo>
                <a:cubicBezTo>
                  <a:pt x="7382" y="8037"/>
                  <a:pt x="7293" y="8042"/>
                  <a:pt x="7169" y="7987"/>
                </a:cubicBezTo>
                <a:cubicBezTo>
                  <a:pt x="7090" y="7952"/>
                  <a:pt x="7056" y="7946"/>
                  <a:pt x="7045" y="7863"/>
                </a:cubicBezTo>
              </a:path>
              <a:path w="2704" h="993">
                <a:moveTo>
                  <a:pt x="7888" y="7417"/>
                </a:moveTo>
                <a:cubicBezTo>
                  <a:pt x="7917" y="7523"/>
                  <a:pt x="7893" y="7580"/>
                  <a:pt x="7888" y="7689"/>
                </a:cubicBezTo>
                <a:cubicBezTo>
                  <a:pt x="7886" y="7734"/>
                  <a:pt x="7888" y="8031"/>
                  <a:pt x="7888" y="7913"/>
                </a:cubicBezTo>
              </a:path>
              <a:path w="2704" h="993">
                <a:moveTo>
                  <a:pt x="7888" y="7094"/>
                </a:moveTo>
                <a:cubicBezTo>
                  <a:pt x="7939" y="7043"/>
                  <a:pt x="7917" y="7049"/>
                  <a:pt x="7987" y="7069"/>
                </a:cubicBezTo>
              </a:path>
              <a:path w="2704" h="993">
                <a:moveTo>
                  <a:pt x="8235" y="7888"/>
                </a:moveTo>
                <a:cubicBezTo>
                  <a:pt x="8227" y="7921"/>
                  <a:pt x="8218" y="7954"/>
                  <a:pt x="8210" y="7987"/>
                </a:cubicBezTo>
                <a:cubicBezTo>
                  <a:pt x="8203" y="7896"/>
                  <a:pt x="8205" y="7845"/>
                  <a:pt x="8210" y="7764"/>
                </a:cubicBezTo>
                <a:cubicBezTo>
                  <a:pt x="8214" y="7693"/>
                  <a:pt x="8215" y="7631"/>
                  <a:pt x="8235" y="7565"/>
                </a:cubicBezTo>
                <a:cubicBezTo>
                  <a:pt x="8260" y="7483"/>
                  <a:pt x="8352" y="7424"/>
                  <a:pt x="8409" y="7367"/>
                </a:cubicBezTo>
                <a:cubicBezTo>
                  <a:pt x="8466" y="7310"/>
                  <a:pt x="8547" y="7388"/>
                  <a:pt x="8582" y="7441"/>
                </a:cubicBezTo>
                <a:cubicBezTo>
                  <a:pt x="8623" y="7503"/>
                  <a:pt x="8626" y="7594"/>
                  <a:pt x="8657" y="7665"/>
                </a:cubicBezTo>
                <a:cubicBezTo>
                  <a:pt x="8684" y="7727"/>
                  <a:pt x="8705" y="7808"/>
                  <a:pt x="8731" y="7863"/>
                </a:cubicBezTo>
                <a:cubicBezTo>
                  <a:pt x="8739" y="7881"/>
                  <a:pt x="8794" y="8016"/>
                  <a:pt x="8830" y="8012"/>
                </a:cubicBezTo>
                <a:cubicBezTo>
                  <a:pt x="8838" y="8004"/>
                  <a:pt x="8847" y="7995"/>
                  <a:pt x="8855" y="7987"/>
                </a:cubicBezTo>
              </a:path>
              <a:path w="2704" h="993">
                <a:moveTo>
                  <a:pt x="8954" y="7466"/>
                </a:moveTo>
                <a:cubicBezTo>
                  <a:pt x="8979" y="7527"/>
                  <a:pt x="9011" y="7612"/>
                  <a:pt x="9054" y="7665"/>
                </a:cubicBezTo>
                <a:cubicBezTo>
                  <a:pt x="9131" y="7759"/>
                  <a:pt x="9252" y="7826"/>
                  <a:pt x="9327" y="7913"/>
                </a:cubicBezTo>
                <a:cubicBezTo>
                  <a:pt x="9379" y="7974"/>
                  <a:pt x="9437" y="8018"/>
                  <a:pt x="9525" y="8037"/>
                </a:cubicBezTo>
                <a:cubicBezTo>
                  <a:pt x="9577" y="8037"/>
                  <a:pt x="9595" y="8036"/>
                  <a:pt x="9624" y="8012"/>
                </a:cubicBezTo>
              </a:path>
              <a:path w="2704" h="993">
                <a:moveTo>
                  <a:pt x="9426" y="7293"/>
                </a:moveTo>
                <a:cubicBezTo>
                  <a:pt x="9367" y="7301"/>
                  <a:pt x="9341" y="7315"/>
                  <a:pt x="9302" y="7367"/>
                </a:cubicBezTo>
                <a:cubicBezTo>
                  <a:pt x="9244" y="7446"/>
                  <a:pt x="9207" y="7540"/>
                  <a:pt x="9153" y="7615"/>
                </a:cubicBezTo>
                <a:cubicBezTo>
                  <a:pt x="9089" y="7705"/>
                  <a:pt x="9007" y="7767"/>
                  <a:pt x="8954" y="7863"/>
                </a:cubicBezTo>
                <a:cubicBezTo>
                  <a:pt x="8920" y="7925"/>
                  <a:pt x="8905" y="7967"/>
                  <a:pt x="8905" y="803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Ink 5"/>
          <p:cNvSpPr/>
          <p:nvPr/>
        </p:nvSpPr>
        <p:spPr>
          <a:xfrm>
            <a:off x="3714840" y="2705040"/>
            <a:ext cx="17280" cy="19080"/>
          </a:xfrm>
          <a:custGeom>
            <a:avLst/>
            <a:gdLst/>
            <a:ahLst/>
            <a:rect l="l" t="t" r="r" b="b"/>
            <a:pathLst>
              <a:path w="50" h="50">
                <a:moveTo>
                  <a:pt x="10319" y="7565"/>
                </a:moveTo>
                <a:cubicBezTo>
                  <a:pt x="10327" y="7557"/>
                  <a:pt x="10408" y="7474"/>
                  <a:pt x="10344" y="75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Ink 6"/>
          <p:cNvSpPr/>
          <p:nvPr/>
        </p:nvSpPr>
        <p:spPr>
          <a:xfrm>
            <a:off x="4286160" y="2463840"/>
            <a:ext cx="27000" cy="430200"/>
          </a:xfrm>
          <a:custGeom>
            <a:avLst/>
            <a:gdLst/>
            <a:ahLst/>
            <a:rect l="l" t="t" r="r" b="b"/>
            <a:pathLst>
              <a:path w="76" h="1192">
                <a:moveTo>
                  <a:pt x="11956" y="6846"/>
                </a:moveTo>
                <a:cubicBezTo>
                  <a:pt x="11964" y="6955"/>
                  <a:pt x="11960" y="7038"/>
                  <a:pt x="11956" y="7144"/>
                </a:cubicBezTo>
                <a:cubicBezTo>
                  <a:pt x="11948" y="7369"/>
                  <a:pt x="11963" y="7593"/>
                  <a:pt x="11931" y="7813"/>
                </a:cubicBezTo>
                <a:cubicBezTo>
                  <a:pt x="11919" y="7899"/>
                  <a:pt x="11829" y="8051"/>
                  <a:pt x="11906" y="8012"/>
                </a:cubicBezTo>
                <a:cubicBezTo>
                  <a:pt x="11914" y="8012"/>
                  <a:pt x="11923" y="8012"/>
                  <a:pt x="11931" y="80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Ink 7"/>
          <p:cNvSpPr/>
          <p:nvPr/>
        </p:nvSpPr>
        <p:spPr>
          <a:xfrm>
            <a:off x="5133960" y="2625840"/>
            <a:ext cx="206280" cy="98280"/>
          </a:xfrm>
          <a:custGeom>
            <a:avLst/>
            <a:gdLst/>
            <a:ahLst/>
            <a:rect l="l" t="t" r="r" b="b"/>
            <a:pathLst>
              <a:path w="571" h="273">
                <a:moveTo>
                  <a:pt x="14288" y="7367"/>
                </a:moveTo>
                <a:cubicBezTo>
                  <a:pt x="14382" y="7347"/>
                  <a:pt x="14491" y="7325"/>
                  <a:pt x="14585" y="7317"/>
                </a:cubicBezTo>
                <a:cubicBezTo>
                  <a:pt x="14673" y="7310"/>
                  <a:pt x="14748" y="7302"/>
                  <a:pt x="14833" y="7293"/>
                </a:cubicBezTo>
              </a:path>
              <a:path w="571" h="273">
                <a:moveTo>
                  <a:pt x="14263" y="7516"/>
                </a:moveTo>
                <a:cubicBezTo>
                  <a:pt x="14321" y="7584"/>
                  <a:pt x="14364" y="7565"/>
                  <a:pt x="14461" y="7565"/>
                </a:cubicBezTo>
                <a:cubicBezTo>
                  <a:pt x="14535" y="7565"/>
                  <a:pt x="14610" y="7565"/>
                  <a:pt x="14684" y="75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Ink 8"/>
          <p:cNvSpPr/>
          <p:nvPr/>
        </p:nvSpPr>
        <p:spPr>
          <a:xfrm>
            <a:off x="3554280" y="3268800"/>
            <a:ext cx="1411560" cy="446040"/>
          </a:xfrm>
          <a:custGeom>
            <a:avLst/>
            <a:gdLst/>
            <a:ahLst/>
            <a:rect l="l" t="t" r="r" b="b"/>
            <a:pathLst>
              <a:path w="3920" h="1241">
                <a:moveTo>
                  <a:pt x="10393" y="9401"/>
                </a:moveTo>
                <a:cubicBezTo>
                  <a:pt x="10306" y="9379"/>
                  <a:pt x="10235" y="9376"/>
                  <a:pt x="10145" y="9376"/>
                </a:cubicBezTo>
                <a:cubicBezTo>
                  <a:pt x="10080" y="9376"/>
                  <a:pt x="10036" y="9415"/>
                  <a:pt x="9971" y="9426"/>
                </a:cubicBezTo>
                <a:cubicBezTo>
                  <a:pt x="9881" y="9441"/>
                  <a:pt x="9871" y="9488"/>
                  <a:pt x="9922" y="9575"/>
                </a:cubicBezTo>
                <a:cubicBezTo>
                  <a:pt x="9957" y="9635"/>
                  <a:pt x="10067" y="9695"/>
                  <a:pt x="10120" y="9748"/>
                </a:cubicBezTo>
                <a:cubicBezTo>
                  <a:pt x="10192" y="9820"/>
                  <a:pt x="10256" y="9895"/>
                  <a:pt x="10319" y="9971"/>
                </a:cubicBezTo>
                <a:cubicBezTo>
                  <a:pt x="10349" y="10008"/>
                  <a:pt x="10416" y="10116"/>
                  <a:pt x="10319" y="10145"/>
                </a:cubicBezTo>
                <a:cubicBezTo>
                  <a:pt x="10172" y="10188"/>
                  <a:pt x="10105" y="10139"/>
                  <a:pt x="9971" y="10120"/>
                </a:cubicBezTo>
                <a:cubicBezTo>
                  <a:pt x="9913" y="10112"/>
                  <a:pt x="9858" y="10099"/>
                  <a:pt x="9872" y="10021"/>
                </a:cubicBezTo>
                <a:cubicBezTo>
                  <a:pt x="9880" y="9996"/>
                  <a:pt x="9889" y="9972"/>
                  <a:pt x="9897" y="9947"/>
                </a:cubicBezTo>
              </a:path>
              <a:path w="3920" h="1241">
                <a:moveTo>
                  <a:pt x="10716" y="9723"/>
                </a:moveTo>
                <a:cubicBezTo>
                  <a:pt x="10700" y="9832"/>
                  <a:pt x="10681" y="9940"/>
                  <a:pt x="10666" y="10046"/>
                </a:cubicBezTo>
                <a:cubicBezTo>
                  <a:pt x="10660" y="10086"/>
                  <a:pt x="10666" y="10271"/>
                  <a:pt x="10666" y="10046"/>
                </a:cubicBezTo>
              </a:path>
              <a:path w="3920" h="1241">
                <a:moveTo>
                  <a:pt x="10716" y="9203"/>
                </a:moveTo>
                <a:cubicBezTo>
                  <a:pt x="10734" y="9156"/>
                  <a:pt x="10754" y="9120"/>
                  <a:pt x="10765" y="9079"/>
                </a:cubicBezTo>
              </a:path>
              <a:path w="3920" h="1241">
                <a:moveTo>
                  <a:pt x="11088" y="9872"/>
                </a:moveTo>
                <a:cubicBezTo>
                  <a:pt x="11088" y="9972"/>
                  <a:pt x="11062" y="10133"/>
                  <a:pt x="11112" y="10220"/>
                </a:cubicBezTo>
                <a:cubicBezTo>
                  <a:pt x="11112" y="10125"/>
                  <a:pt x="11143" y="10081"/>
                  <a:pt x="11162" y="9996"/>
                </a:cubicBezTo>
                <a:cubicBezTo>
                  <a:pt x="11177" y="9929"/>
                  <a:pt x="11185" y="9869"/>
                  <a:pt x="11212" y="9798"/>
                </a:cubicBezTo>
                <a:cubicBezTo>
                  <a:pt x="11239" y="9728"/>
                  <a:pt x="11284" y="9692"/>
                  <a:pt x="11336" y="9649"/>
                </a:cubicBezTo>
                <a:cubicBezTo>
                  <a:pt x="11377" y="9615"/>
                  <a:pt x="11409" y="9562"/>
                  <a:pt x="11460" y="9624"/>
                </a:cubicBezTo>
                <a:cubicBezTo>
                  <a:pt x="11539" y="9720"/>
                  <a:pt x="11553" y="9764"/>
                  <a:pt x="11584" y="9872"/>
                </a:cubicBezTo>
                <a:cubicBezTo>
                  <a:pt x="11605" y="9946"/>
                  <a:pt x="11629" y="10027"/>
                  <a:pt x="11658" y="10096"/>
                </a:cubicBezTo>
                <a:cubicBezTo>
                  <a:pt x="11686" y="10161"/>
                  <a:pt x="11684" y="10213"/>
                  <a:pt x="11733" y="10269"/>
                </a:cubicBezTo>
                <a:cubicBezTo>
                  <a:pt x="11773" y="10310"/>
                  <a:pt x="11803" y="10313"/>
                  <a:pt x="11857" y="10269"/>
                </a:cubicBezTo>
              </a:path>
              <a:path w="3920" h="1241">
                <a:moveTo>
                  <a:pt x="12328" y="9649"/>
                </a:moveTo>
                <a:cubicBezTo>
                  <a:pt x="12337" y="9723"/>
                  <a:pt x="12351" y="9800"/>
                  <a:pt x="12378" y="9872"/>
                </a:cubicBezTo>
                <a:cubicBezTo>
                  <a:pt x="12403" y="9938"/>
                  <a:pt x="12500" y="10050"/>
                  <a:pt x="12551" y="10096"/>
                </a:cubicBezTo>
                <a:cubicBezTo>
                  <a:pt x="12619" y="10158"/>
                  <a:pt x="12719" y="10224"/>
                  <a:pt x="12799" y="10269"/>
                </a:cubicBezTo>
                <a:cubicBezTo>
                  <a:pt x="12872" y="10310"/>
                  <a:pt x="12894" y="10291"/>
                  <a:pt x="12973" y="10269"/>
                </a:cubicBezTo>
              </a:path>
              <a:path w="3920" h="1241">
                <a:moveTo>
                  <a:pt x="12750" y="9475"/>
                </a:moveTo>
                <a:cubicBezTo>
                  <a:pt x="12666" y="9612"/>
                  <a:pt x="12567" y="9737"/>
                  <a:pt x="12477" y="9872"/>
                </a:cubicBezTo>
                <a:cubicBezTo>
                  <a:pt x="12418" y="9960"/>
                  <a:pt x="12373" y="10025"/>
                  <a:pt x="12328" y="10120"/>
                </a:cubicBezTo>
                <a:cubicBezTo>
                  <a:pt x="12287" y="10207"/>
                  <a:pt x="12254" y="10219"/>
                  <a:pt x="12254" y="10319"/>
                </a:cubicBezTo>
              </a:path>
              <a:path w="3920" h="1241">
                <a:moveTo>
                  <a:pt x="13444" y="9699"/>
                </a:moveTo>
                <a:cubicBezTo>
                  <a:pt x="13532" y="9681"/>
                  <a:pt x="13608" y="9660"/>
                  <a:pt x="13692" y="9649"/>
                </a:cubicBezTo>
              </a:path>
              <a:path w="3920" h="1241">
                <a:moveTo>
                  <a:pt x="13444" y="9773"/>
                </a:moveTo>
                <a:cubicBezTo>
                  <a:pt x="13509" y="9863"/>
                  <a:pt x="13556" y="9847"/>
                  <a:pt x="13667" y="9847"/>
                </a:cubicBezTo>
                <a:cubicBezTo>
                  <a:pt x="13725" y="9847"/>
                  <a:pt x="13750" y="9847"/>
                  <a:pt x="13791" y="98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Ink 9"/>
          <p:cNvSpPr/>
          <p:nvPr/>
        </p:nvSpPr>
        <p:spPr>
          <a:xfrm>
            <a:off x="6153120" y="3295800"/>
            <a:ext cx="357120" cy="152280"/>
          </a:xfrm>
          <a:custGeom>
            <a:avLst/>
            <a:gdLst/>
            <a:ahLst/>
            <a:rect l="l" t="t" r="r" b="b"/>
            <a:pathLst>
              <a:path w="994" h="423">
                <a:moveTo>
                  <a:pt x="17115" y="9227"/>
                </a:moveTo>
                <a:cubicBezTo>
                  <a:pt x="17106" y="9291"/>
                  <a:pt x="17090" y="9330"/>
                  <a:pt x="17090" y="9401"/>
                </a:cubicBezTo>
                <a:cubicBezTo>
                  <a:pt x="17090" y="9462"/>
                  <a:pt x="17103" y="9552"/>
                  <a:pt x="17165" y="9575"/>
                </a:cubicBezTo>
                <a:cubicBezTo>
                  <a:pt x="17220" y="9596"/>
                  <a:pt x="17345" y="9547"/>
                  <a:pt x="17388" y="9525"/>
                </a:cubicBezTo>
                <a:cubicBezTo>
                  <a:pt x="17497" y="9470"/>
                  <a:pt x="17631" y="9433"/>
                  <a:pt x="17735" y="9376"/>
                </a:cubicBezTo>
                <a:cubicBezTo>
                  <a:pt x="17853" y="9311"/>
                  <a:pt x="17966" y="9223"/>
                  <a:pt x="18083" y="91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1:13:48Z</dcterms:created>
  <dc:creator>jnewman</dc:creator>
  <dc:description/>
  <dc:language>en-US</dc:language>
  <cp:lastModifiedBy>abeason</cp:lastModifiedBy>
  <dcterms:modified xsi:type="dcterms:W3CDTF">2009-11-19T15:30:20Z</dcterms:modified>
  <cp:revision>15</cp:revision>
  <dc:subject/>
  <dc:title>Lesson 5.2 part two</dc:title>
</cp:coreProperties>
</file>